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DC2-CD06-44C7-99FF-5C4A8AD7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D0A-D253-4B88-85DE-E2CD4D7D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F97-B176-442F-A181-0D843212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34C-2304-48D1-AA8D-B0CD41CC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1C9B-A92C-4647-A623-07E82698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38F4-5E48-4111-9B78-66040AFC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1A28-C556-4B40-A44C-2B835D6A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B87F-6746-4D96-B939-26E52EFD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73CA-2C78-4F4E-B8B6-8BB7C0FF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B4B4-F81E-4020-AB1C-46C5A078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A23A-FD18-475B-BD4D-4455E46A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839-E9F9-4932-BF6D-B10E1B96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A538-99FD-4945-89E7-02D9AD0D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4DB0-FBCB-4966-B399-0BD333CC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AA21-297A-4A67-A7FB-A1C80BAB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85BF-50E1-44C2-BDF5-17892907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C232-75A4-4F6E-B810-D8AE2D77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342-8D35-45C2-B5CB-887D8B1F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A7F6-0974-48D0-9FFE-CAEEDAEA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B2F-07B8-4555-86FA-3D71490A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F62-A854-454C-B1F7-DDCB915A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6F0-622A-44C6-B27B-18BB0022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B16-DC4D-4A98-A9E2-BBFE39D7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111-6A4C-4E11-B250-668133A4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514A-7B7F-4C25-B982-D3212E2F2FA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9DA3-CFE9-4480-B9D0-7D7202A10B0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8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es son las actividades principales de la administración de proyec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tan importante es la labor del administrador de proyectos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e debe hacer ante un retraso del proyec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herramientas me pueden ayudar a administrar mejor mis proyecto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La coordinación de las actividades de los miembros del equipo de trabajo, forma parte de la administración del proyect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aspectos son importantes tener en cuenta al elegir un modelo de funcionamiento para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xiste un “mejor modelo” de funcionamiento de equipos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ara qué puede servir un protocolo de comunicación, para un equipo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 lo mismo un grupo de trabajo, que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mejor modelo de estimación de costos/tiempos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elementos son esenciales para realizar una buena estimación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poder hacer buenas estimacion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or qué somos tan malos estimando?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5-25T22:01:29Z</dcterms:modified>
  <cp:revision>13</cp:revision>
  <dc:subject/>
  <dc:title>CC51A – Ingeniería de Software</dc:title>
</cp:coreProperties>
</file>