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7CDA-444E-47E4-89FE-5A987B2B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C39-AF06-4AAA-9DB4-DC9424A7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A301-D780-45D3-AC87-D2EBDA36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6F6B-39FC-4D4E-98DF-04E6C655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B58E-80ED-4F2B-A49E-6C4BCD8E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1CDB-F01F-4FEF-924D-558348FD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0BAE-5975-495C-8A5A-60DCD407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A04E-D6CC-4A3A-883C-538E2EE2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9546-EAFA-458D-BD3E-1835F4CC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FF2C-F63B-460F-A262-8FAC59AB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58EF-8235-4AB9-BCF3-B2E7120D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7AFD-7E69-41B0-85C8-4FF3E6B2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20B3-8C4F-4F82-B639-24FF78D3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CC5A-398A-4001-B2F2-1BDF2F26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2E92-8D4F-40A8-B436-C0F30978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B035-64C4-4C78-966F-732BFBEC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D07B-FD79-45F4-90ED-8FE12C97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A3C3-76B1-4C02-80CD-2B1A48AE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B317-F4E8-4241-86CA-CEC329DC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D6F-9C45-40C8-A768-C0300819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6167-4DD1-4D65-9E21-81FEEFDF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3659-54EE-408D-8E27-89B15768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955F-3ADA-4D0D-8001-1DE286DF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2D38-4712-41B7-9A9D-230E3C54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A64A-9ADF-4B7E-B2D0-06CA16ED4EB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1321-B457-4BDE-B5F3-B5DF115DFC8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08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es son las actividades principales de la administración de proyect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tan importante es la labor del administrador de proyectos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se debe hacer ante un retraso del proyect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herramientas me pueden ayudar a administrar mejor mis proyecto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La coordinación de las actividades de los miembros del equipo de trabajo, forma parte de la administración del proyect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aspectos son importantes tener en cuenta al elegir un modelo de funcionamiento para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xiste un “mejor modelo” de funcionamiento de equipos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ara qué puede servir un protocolo de comunicación, para un equipo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s lo mismo un grupo de trabajo, que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mejor modelo de estimación de costos/tiempos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elementos son esenciales para realizar una buena estimación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significa poder hacer buenas estimacione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or qué somos tan malos estimando?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F. Ochoa</cp:lastModifiedBy>
  <dcterms:modified xsi:type="dcterms:W3CDTF">2005-05-25T22:01:29Z</dcterms:modified>
  <cp:revision>13</cp:revision>
  <dc:subject/>
  <dc:title>CC51A – Ingeniería de Software</dc:title>
</cp:coreProperties>
</file>