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774D-E74A-4FA6-9371-990E3B8B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195-C3E9-4563-B9D7-48418AA3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EC7A-A229-4FF5-80FF-FB1B6058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F22C-9DEA-4A0F-BB3B-B2C45486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D27A-B05A-4B1C-BE9B-38B7478C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8B26-984E-4977-BB65-6D491D53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167B-3F0C-464D-8F78-0EC0EB84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749A-D719-4A49-B0FD-A26DBD1E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0D5F-9B26-4931-858D-38553BEF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DFA6-E18E-40AC-9DEF-C6BFE7DB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0BEA-E57E-436B-AE81-1331F07A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B87-4DFB-470C-9E16-92408B0A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7A4B-AE87-4C05-88AD-0E4C22AE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6514-4946-4DBA-9B6A-6E58E9DB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01D7-A343-4359-8793-8A0A3CF7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9786-CDD9-41C1-82BB-AA727BC7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264E-C592-4EAB-9854-4EB61CA9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0E0-5629-4774-9030-DCB24BBC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88FA-1A38-4800-95E1-AF33631F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088B-750F-4AD3-A5DE-1C04120B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3797-227A-46E0-B783-B3F7593C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9C19-0BC1-44E3-893E-772C66C0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8817-EA07-4C9D-8DC6-9200710D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BA57-53C1-4826-9875-959CEB63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6218-FA92-4F2A-9249-A3F3DFCB294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0C54-0F29-4A36-885B-CD294295ABE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08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es son las actividades principales de la administración de proyect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tan importante es la labor del administrador de proyectos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se debe hacer ante un retraso del proyect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herramientas me pueden ayudar a administrar mejor mis proyecto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La coordinación de las actividades de los miembros del equipo de trabajo, forma parte de la administración del proyect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aspectos son importantes tener en cuenta al elegir un modelo de funcionamiento para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xiste un “mejor modelo” de funcionamiento de equipos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ara qué puede servir un protocolo de comunicación, para un equipo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s lo mismo un grupo de trabajo, que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mejor modelo de estimación de costos/tiempos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elementos son esenciales para realizar una buena estimación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significa poder hacer buenas estimacione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or qué somos tan malos estimando?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F. Ochoa</cp:lastModifiedBy>
  <dcterms:modified xsi:type="dcterms:W3CDTF">2005-05-25T22:01:29Z</dcterms:modified>
  <cp:revision>13</cp:revision>
  <dc:subject/>
  <dc:title>CC51A – Ingeniería de Software</dc:title>
</cp:coreProperties>
</file>