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631-523F-483E-8BF4-0D7ED5C6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E84-7FA7-4B61-A1EF-E9CC1472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A07-0635-4BFE-971E-81EBDA8B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650-52E2-45E6-9268-33E0662F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0D53-3B1D-4C19-B681-C33BF51A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41E3-2663-4EE5-8718-52EDA553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744C-A867-4404-A194-A452ED6F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7445-18D2-4B25-9441-53030439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48FD-2308-491B-A773-C67E2414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B963-4C16-4C2C-BAC2-9A554BD8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0223-D5BD-4506-88AC-AB2D549D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947-948C-4352-841F-C577A4A6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CDF3-83DE-4E47-847D-D6811FA6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342B-C957-4B78-81CE-D4184B7D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C164-5F56-4B00-89C2-B428545C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7294-76AC-4768-BE3B-08080996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C9E5-9536-42EB-8E6E-94CDC1D1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EB2-F9C0-4A32-B8A2-1FA9820C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361-2485-4441-89C2-5B62B55F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536-64E0-42FD-9632-4ECAE868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B65-1E6E-4357-9040-E21C4326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2F9-4748-4C2E-8D6F-3500A8D9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BD1-C743-40C2-A905-54992A44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894-2446-42E3-92E0-455FB5F3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4748-82E9-4DFF-9059-0CEFCAC6E72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0576-1595-4D5D-9A70-E973D40F603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8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es son las actividades principales de la administración de proyec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tan importante es la labor del administrador de proyectos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e debe hacer ante un retraso del proyec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herramientas me pueden ayudar a administrar mejor mis proyecto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La coordinación de las actividades de los miembros del equipo de trabajo, forma parte de la administración del proyect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aspectos son importantes tener en cuenta al elegir un modelo de funcionamiento para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xiste un “mejor modelo” de funcionamiento de equipos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ara qué puede servir un protocolo de comunicación, para un equipo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 lo mismo un grupo de trabajo, que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mejor modelo de estimación de costos/tiempos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elementos son esenciales para realizar una buena estimación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poder hacer buenas estimacion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or qué somos tan malos estimando?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5-25T22:01:29Z</dcterms:modified>
  <cp:revision>13</cp:revision>
  <dc:subject/>
  <dc:title>CC51A – Ingeniería de Software</dc:title>
</cp:coreProperties>
</file>