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32600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DB2D-A075-42BE-8FF4-5B3342CE1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A62D-136A-44A9-8BA1-330EF5AAC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C590-7D86-4031-A841-94EE10B9C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D360-258C-441F-9612-E13F4673D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3E23D-5018-433E-A33D-71572B7E3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3D6EB-E106-443C-AFF0-E934E97DC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51701-95F0-477D-BEC0-D251A9D8D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8690C-8E90-4575-8779-255FD865E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0618E-D8BA-47BE-A17D-4E568F874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0E6C1-B071-45B4-9C36-87FDD559D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95706-3EB5-4D84-8FE3-1820E737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BB0E-85EF-44EC-ADCD-557C0BE41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C4EF2-A171-4E22-9AEA-2B1AAF86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ECCEB-CFBE-4413-83A7-20F22753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31FAC-A08C-4953-8875-6FA0F885B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3478F-8605-44D9-8BFA-E9EB14B8B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47E79-81BE-411E-BA97-3C8DE3268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7814-9770-442C-A2FA-8F1D4427C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EC6D-295C-4747-90DF-F4AFC3F9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21DF-E7EF-417E-9D54-7B7032AB6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0803-43E9-483D-8EA4-E8332324A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7304-6507-4F39-A6CC-040E5EB7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D3E3-7FE7-46FB-B0CC-13BF6F29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2984-55B1-4BDA-A453-84889B30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7EDB-F380-4148-92A1-01C8823E3E3A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16BCF-B63A-4FBC-A990-F3AC29B82A8A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458c"/>
                </a:solidFill>
                <a:latin typeface="Tahoma"/>
              </a:rPr>
              <a:t>Software Technical Review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40458c"/>
                </a:solidFill>
                <a:latin typeface="Tahoma"/>
              </a:rPr>
              <a:t>Sergio Ocho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Ejecu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649"/>
              </a:spcBef>
              <a:spcAft>
                <a:spcPts val="975"/>
              </a:spcAft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0" i="1" lang="es-CL" sz="2600" spc="-1" strike="noStrike" u="sng">
                <a:solidFill>
                  <a:srgbClr val="40458c"/>
                </a:solidFill>
                <a:uFillTx/>
                <a:latin typeface="Tahoma"/>
              </a:rPr>
              <a:t>moderador</a:t>
            </a: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 debe: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Determinar si todos están preparados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Guiar la caminata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Arbitrar los medios para obtener conclusiones útiles, de los desacuerdos o errores encontrados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 algn="just">
              <a:spcBef>
                <a:spcPts val="649"/>
              </a:spcBef>
              <a:spcAft>
                <a:spcPts val="975"/>
              </a:spcAft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0" i="1" lang="es-CL" sz="2600" spc="-1" strike="noStrike" u="sng">
                <a:solidFill>
                  <a:srgbClr val="40458c"/>
                </a:solidFill>
                <a:uFillTx/>
                <a:latin typeface="Tahoma"/>
              </a:rPr>
              <a:t>registrador</a:t>
            </a: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 debe: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Tomar notas de los defectos y de los cursos de acción a seguir. Con esto generará una lista que se les entregará a los participant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Registrará comentarios menores como observaciones sobre: fonts, gramática, puntuación, etc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Podría ser útil grabar (audio, audio/video) la revisión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Ejecución (Cont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1280" y="1485720"/>
            <a:ext cx="8208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spcBef>
                <a:spcPts val="649"/>
              </a:spcBef>
              <a:spcAft>
                <a:spcPts val="1301"/>
              </a:spcAft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0" i="1" lang="es-CL" sz="2600" spc="-1" strike="noStrike" u="sng">
                <a:solidFill>
                  <a:srgbClr val="40458c"/>
                </a:solidFill>
                <a:uFillTx/>
                <a:latin typeface="Tahoma"/>
              </a:rPr>
              <a:t>autor/presentador</a:t>
            </a: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 debe: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Presentar el material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Ser claro e ir “al grano” con las explicaciones (presentar sólo lo relevante!!!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Clarificar las dudas de los revisores (“ir al grano”!!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No debe mostrar una actitud de protección hacia su trabaj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 algn="just">
              <a:spcBef>
                <a:spcPts val="649"/>
              </a:spcBef>
              <a:spcAft>
                <a:spcPts val="1301"/>
              </a:spcAft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Los </a:t>
            </a:r>
            <a:r>
              <a:rPr b="0" i="1" lang="es-CL" sz="2600" spc="-1" strike="noStrike" u="sng">
                <a:solidFill>
                  <a:srgbClr val="40458c"/>
                </a:solidFill>
                <a:uFillTx/>
                <a:latin typeface="Tahoma"/>
              </a:rPr>
              <a:t>revisores</a:t>
            </a: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 deben: 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Prepararse para la revisión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Identificar errores durante la revisión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Revisar el trabajo, no al autor…. y ser constructivos !!!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Ejecución (Cont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1280" y="1619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Al final de la caminata (Walkthrough)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Debe </a:t>
            </a:r>
            <a:r>
              <a:rPr b="0" i="1" lang="es-CL" sz="2000" spc="-1" strike="noStrike" u="sng">
                <a:solidFill>
                  <a:srgbClr val="40458c"/>
                </a:solidFill>
                <a:uFillTx/>
                <a:latin typeface="Tahoma"/>
              </a:rPr>
              <a:t>determinarse el grado de aprobación del document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El status (aprob/desaprob) debe constar en la lista de errores/deficiencias encontradas, y en el document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Debe proveerse control de versiones sobre todos los documentos, especialmente los revisado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Seguimien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8207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Registrador debe reportar los errores por escrito,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al moderador y al auto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El autor debe corregir los errore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y notificar al moderador, de que esto se ha hech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Luego, se realizará una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reunión corta entre el moderador y el autor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para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Determinar si los errores encontrados han sido corregido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Asegurarse que no se han introducido nuevos errores.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moderador podría incluir revisores adicionale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para futuras reuniones, si él cree que se requiere experiencia técnica adicion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Inspe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518148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90000"/>
              </a:lnSpc>
              <a:spcBef>
                <a:spcPts val="1049"/>
              </a:spcBef>
              <a:spcAft>
                <a:spcPts val="14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Planifica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1049"/>
              </a:spcBef>
              <a:spcAft>
                <a:spcPts val="14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xplicación Introductori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1049"/>
              </a:spcBef>
              <a:spcAft>
                <a:spcPts val="14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Prepara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1049"/>
              </a:spcBef>
              <a:spcAft>
                <a:spcPts val="14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Reunión de Inspec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1049"/>
              </a:spcBef>
              <a:spcAft>
                <a:spcPts val="1400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Tercer Tiemp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1049"/>
              </a:spcBef>
              <a:spcAft>
                <a:spcPts val="1400"/>
              </a:spcAft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Correc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1049"/>
              </a:spcBef>
              <a:spcAft>
                <a:spcPts val="1400"/>
              </a:spcAft>
              <a:buSzPct val="1130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eguimien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lanific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7720" y="1557360"/>
            <a:ext cx="8055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Moderador (QAE) deb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Asegurar que el producto está list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para la inspec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Seleccionar al equip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 inspección y asignar rol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Establecer el lugar, día y hora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 la inspec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segurar que el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material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necesario para la inspección ha sido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istribuid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en tiempo y form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eterminar si la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inspección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l producto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puede ser hecha en una reunión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, o si se necesitarán má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eterminar si los revisores están familiarizado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con el material a revisa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Explicación Introductor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Se planifica una explicación introductoria si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equipo de inspección no está familiarizado con el produ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producto es nuevo, o está siendo inspeccionado por primera vez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No se han hecho inspecciones en el proye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par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lnSpc>
                <a:spcPct val="90000"/>
              </a:lnSpc>
              <a:spcBef>
                <a:spcPts val="751"/>
              </a:spcBef>
              <a:buSzPct val="12071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40458c"/>
                </a:solidFill>
                <a:latin typeface="Tahoma"/>
              </a:rPr>
              <a:t>Los revisores deben: 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Chequear el documento contra los requisitos y los estándares, para asegurar su cumplimient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Registrar los defectos en la preparación del documento.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Identificar ALERTAS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12120" indent="-312120" algn="just">
              <a:lnSpc>
                <a:spcPct val="90000"/>
              </a:lnSpc>
              <a:spcBef>
                <a:spcPts val="751"/>
              </a:spcBef>
              <a:buSzPct val="12071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40458c"/>
                </a:solidFill>
                <a:latin typeface="Tahoma"/>
              </a:rPr>
              <a:t>El moderador debe: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Revisar las observaciones de cada revisor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Identificar posibles focos de problemas, que necesiten atención extra durante la inspección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Reprogramar una inspección, si el equipo de inspectores no está lo suficientemente preparado, o si tienen problemas de disponibilidad para asistir a la reunión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Reunión de Inspección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spcAft>
                <a:spcPts val="1199"/>
              </a:spcAft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Límite de tiempo:  90 minu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spcAft>
                <a:spcPts val="1199"/>
              </a:spcAft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La inspección se lleva a cabo del mismo modo que en la </a:t>
            </a:r>
            <a:r>
              <a:rPr b="1" i="1" lang="es-CL" sz="2400" spc="-1" strike="noStrike">
                <a:solidFill>
                  <a:srgbClr val="40458c"/>
                </a:solidFill>
                <a:latin typeface="Tahoma"/>
              </a:rPr>
              <a:t>caminat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spcAft>
                <a:spcPts val="1199"/>
              </a:spcAft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espués de la reunión, el moderador y el autor se reúnen (brevemente) para estimar el esfuerzo de corrección, y la fecha de la siguiente reunión (Caminata/Auditoría/etc.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spcAft>
                <a:spcPts val="1599"/>
              </a:spcAft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registrador le entrega al autor y al resto de los participantes, una lista preliminar (borrador) de los defectos encontrados para que le sirva como guía de corrección.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Reunión de Inspección (Cont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120" y="153324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5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Al final de la reunión deb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05000"/>
              </a:lnSpc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Resumirse el número y tipo de defectos encontrados, y el moderador y/o el equipo de trabajo determinará cuando será necesaria otra inspección.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05000"/>
              </a:lnSpc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El moderador debe determinar si el tercer tiempo es necesario.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05000"/>
              </a:lnSpc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Si el tercer tiempo es necesario, entonces se le asignan tareas individuales a los inspector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ntenid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26560" y="1628640"/>
            <a:ext cx="5791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0920" indent="-430920">
              <a:lnSpc>
                <a:spcPct val="16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Consideraciones Genera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0920" indent="-430920">
              <a:lnSpc>
                <a:spcPct val="16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Revisiones (entre pare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0920" indent="-430920">
              <a:lnSpc>
                <a:spcPct val="16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Auditorí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0920" indent="-430920">
              <a:lnSpc>
                <a:spcPct val="16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Caminatas (Walkthrough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0920" indent="-430920">
              <a:lnSpc>
                <a:spcPct val="16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Inspeccion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Reunión de Inspección (Cont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registrador deb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Registrar los temas no resueltos, para ser tratados durante el tercer tiempo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Registrar cada defecto, su ubicación, una breve descripción del defecto/error, el tipo de defecto al que pertenece, y el inspector que lo encontró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Construir la lista de defectos encontrados durante la inspección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Tercer Tiemp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Tiempo usado par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iscusiones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nalizar Posibles Soluciones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Cerrar temas Abiert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Revisar los Defectos Encontrados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(documentándolo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rre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7772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400"/>
              </a:spcBef>
              <a:spcAft>
                <a:spcPts val="1049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autor corrige los defectos encontrad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1400"/>
              </a:spcBef>
              <a:spcAft>
                <a:spcPts val="1049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os defectos menores deben ser corregidos, sólo si los costos y tiempos lo permiten (aunque deben ser agendados).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1400"/>
              </a:spcBef>
              <a:spcAft>
                <a:spcPts val="1049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moderador debe: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1199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segurarse que todos los aspectos relacionados con un defecto, han sido considerados por el auto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Seguimien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Reunión corta entre el moderador y el autor para: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eterminar si los errores encontrados han sido corregid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segurarse que no se han introducido nuevos errores.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 algn="just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moderador podría incluir revisores adicionales para futuras reuniones, si él cree que se requiere experiencia técnica adiciona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nclusiones…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as RTFs  ayudan 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Mantener el control del proye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Publicitar el estado de avance del proye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Identificar falencias y/o riesg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Generar nuevas ideas, y considerar otros puntos de vist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Generar casos de prueb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vanzar sobre una base sólid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tc…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Por lo tanto, hágalas periódicamente, pero no abuse,….. las RTF son un medio, no un fi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483920"/>
            <a:ext cx="807732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as revisiones de software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sirven para validar la calidad y/o el estado de un producto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producto a revisar puede ser un documento,  un módulo, un prototipo, et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xisten distintos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tipos de revisiones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. Cada una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especializada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en un determinado producto / escenari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as revisiones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ayudan a encontrar falencias, y a identificar riesgos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, que serían difíciles de encontrar de otra maner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as revisiones son necesarias…. Hágalas !!!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nsideracione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26560" y="1557360"/>
            <a:ext cx="80773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5600" indent="-435600">
              <a:spcBef>
                <a:spcPts val="700"/>
              </a:spcBef>
              <a:spcAft>
                <a:spcPts val="14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ea (y respete) el manual sobre “Protocolos de Comunicación entre miembros del Proyecto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35600" indent="-435600">
              <a:spcBef>
                <a:spcPts val="700"/>
              </a:spcBef>
              <a:spcAft>
                <a:spcPts val="14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e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revisa el trabajo, NO al autor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35600" indent="-435600">
              <a:spcBef>
                <a:spcPts val="700"/>
              </a:spcBef>
              <a:spcAft>
                <a:spcPts val="14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e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buscan defectos, NO formas de implementar sus ideas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35600" indent="-435600">
              <a:spcBef>
                <a:spcPts val="700"/>
              </a:spcBef>
              <a:spcAft>
                <a:spcPts val="14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iga las instrucciones del moderador, y los tiempos asignados a cada activida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35600" indent="-435600">
              <a:spcBef>
                <a:spcPts val="700"/>
              </a:spcBef>
              <a:spcAft>
                <a:spcPts val="1400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as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críticas destructivas, NO benefician a nadie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Revisiones (entre pare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49080" y="1557360"/>
            <a:ext cx="8459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SzPct val="129265"/>
              <a:buBlip>
                <a:blip r:embed="rId1"/>
              </a:buBlip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Generalmente están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orientadas al Código Fue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SzPct val="129265"/>
              <a:buBlip>
                <a:blip r:embed="rId2"/>
              </a:buBlip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u objetivo es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detectar Errores o Problemas de Lógica y de Programación en forma temprana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SzPct val="129265"/>
              <a:buBlip>
                <a:blip r:embed="rId3"/>
              </a:buBlip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Asuntos a Revisar: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Correctitu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Variables en Desus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Funciones Omitid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Práctica de Programación Pobr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Redundanci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Adhesión al Estándar de Escritura de Códig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SzPct val="150784"/>
              <a:buBlip>
                <a:blip r:embed="rId4"/>
              </a:buBlip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Límite de Tiempo: 60 min. (por sesión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Auditorí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80773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Revisión Formal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, su objetivo e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valuar el nivel de conformidad con estándares y pla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Controlar que se han hecho los cambios programad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uditar el proyecto… en forma interna o extern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auditor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es el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responsable de verificar el proceso de auditoría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, y las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acciones derivadas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de ést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ímite de Tiempo: 60 min. (por sesión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Walkthrough (Caminata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777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2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Las Caminatas involucran tres fase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lnSpc>
                <a:spcPct val="21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Planificación (preparación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lnSpc>
                <a:spcPct val="21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Ejecución (revisión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lnSpc>
                <a:spcPct val="21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Seguimiento (post-revisión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lanific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087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26600" indent="-426600" algn="just">
              <a:lnSpc>
                <a:spcPct val="80000"/>
              </a:lnSpc>
              <a:spcBef>
                <a:spcPts val="774"/>
              </a:spcBef>
              <a:spcAft>
                <a:spcPts val="1162"/>
              </a:spcAft>
              <a:buSzPct val="1130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40458c"/>
                </a:solidFill>
                <a:latin typeface="Tahoma"/>
              </a:rPr>
              <a:t>Las </a:t>
            </a:r>
            <a:r>
              <a:rPr b="0" i="1" lang="es-CL" sz="3100" spc="-1" strike="noStrike" u="sng">
                <a:solidFill>
                  <a:srgbClr val="40458c"/>
                </a:solidFill>
                <a:uFillTx/>
                <a:latin typeface="Tahoma"/>
              </a:rPr>
              <a:t>caminatas deben ser bien planificadas</a:t>
            </a:r>
            <a:r>
              <a:rPr b="0" lang="es-CL" sz="3100" spc="-1" strike="noStrike">
                <a:solidFill>
                  <a:srgbClr val="40458c"/>
                </a:solidFill>
                <a:latin typeface="Tahoma"/>
              </a:rPr>
              <a:t>, y con suficiente anterioridad (una semana) por un Quality Assurance Engineer (QAE).</a:t>
            </a:r>
            <a:endParaRPr b="0" lang="en-US" sz="3100" spc="-1" strike="noStrike">
              <a:solidFill>
                <a:srgbClr val="40458c"/>
              </a:solidFill>
              <a:latin typeface="Tahoma"/>
            </a:endParaRPr>
          </a:p>
          <a:p>
            <a:pPr marL="426600" indent="-426600" algn="just">
              <a:lnSpc>
                <a:spcPct val="80000"/>
              </a:lnSpc>
              <a:spcBef>
                <a:spcPts val="774"/>
              </a:spcBef>
              <a:spcAft>
                <a:spcPts val="1162"/>
              </a:spcAft>
              <a:buSzPct val="1130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40458c"/>
                </a:solidFill>
                <a:latin typeface="Tahoma"/>
              </a:rPr>
              <a:t>El QAE enviará una invitación a los participantes, vía mail. </a:t>
            </a:r>
            <a:endParaRPr b="0" lang="en-US" sz="3100" spc="-1" strike="noStrike">
              <a:solidFill>
                <a:srgbClr val="40458c"/>
              </a:solidFill>
              <a:latin typeface="Tahoma"/>
            </a:endParaRPr>
          </a:p>
          <a:p>
            <a:pPr marL="426600" indent="-426600" algn="just">
              <a:lnSpc>
                <a:spcPct val="80000"/>
              </a:lnSpc>
              <a:spcBef>
                <a:spcPts val="774"/>
              </a:spcBef>
              <a:spcAft>
                <a:spcPts val="1162"/>
              </a:spcAft>
              <a:buSzPct val="1130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40458c"/>
                </a:solidFill>
                <a:latin typeface="Tahoma"/>
              </a:rPr>
              <a:t>Los </a:t>
            </a:r>
            <a:r>
              <a:rPr b="0" i="1" lang="es-CL" sz="3100" spc="-1" strike="noStrike" u="sng">
                <a:solidFill>
                  <a:srgbClr val="40458c"/>
                </a:solidFill>
                <a:uFillTx/>
                <a:latin typeface="Tahoma"/>
              </a:rPr>
              <a:t>roles que deberán estar presentes</a:t>
            </a:r>
            <a:r>
              <a:rPr b="0" lang="es-CL" sz="3100" spc="-1" strike="noStrike">
                <a:solidFill>
                  <a:srgbClr val="40458c"/>
                </a:solidFill>
                <a:latin typeface="Tahoma"/>
              </a:rPr>
              <a:t> son:</a:t>
            </a:r>
            <a:endParaRPr b="0" lang="en-US" sz="3100" spc="-1" strike="noStrike">
              <a:solidFill>
                <a:srgbClr val="40458c"/>
              </a:solidFill>
              <a:latin typeface="Tahoma"/>
            </a:endParaRPr>
          </a:p>
          <a:p>
            <a:pPr lvl="1" marL="873000" indent="-274320" algn="just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Moderad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73000" indent="-274320" algn="just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Aut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73000" indent="-274320" algn="just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2 a 3 Revisor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73000" indent="-274320" algn="just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Registrador(e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lanificación (Cont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981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 algn="just">
              <a:lnSpc>
                <a:spcPct val="110000"/>
              </a:lnSpc>
              <a:spcBef>
                <a:spcPts val="751"/>
              </a:spcBef>
              <a:spcAft>
                <a:spcPts val="1500"/>
              </a:spcAft>
              <a:buSzPct val="11315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000" spc="-1" strike="noStrike" u="sng">
                <a:solidFill>
                  <a:srgbClr val="40458c"/>
                </a:solidFill>
                <a:uFillTx/>
                <a:latin typeface="Tahoma"/>
              </a:rPr>
              <a:t>Expertos externos pueden</a:t>
            </a:r>
            <a:r>
              <a:rPr b="0" lang="es-CL" sz="3000" spc="-1" strike="noStrike">
                <a:solidFill>
                  <a:srgbClr val="40458c"/>
                </a:solidFill>
                <a:latin typeface="Tahoma"/>
              </a:rPr>
              <a:t> eventualmente </a:t>
            </a:r>
            <a:r>
              <a:rPr b="0" i="1" lang="es-CL" sz="3000" spc="-1" strike="noStrike" u="sng">
                <a:solidFill>
                  <a:srgbClr val="40458c"/>
                </a:solidFill>
                <a:uFillTx/>
                <a:latin typeface="Tahoma"/>
              </a:rPr>
              <a:t>ser invitados a las revisiones</a:t>
            </a:r>
            <a:r>
              <a:rPr b="0" lang="es-CL" sz="3000" spc="-1" strike="noStrike">
                <a:solidFill>
                  <a:srgbClr val="40458c"/>
                </a:solidFill>
                <a:latin typeface="Tahoma"/>
              </a:rPr>
              <a:t>, sólo cuando se requieran conocimientos especializados, con respecto a algún tema. 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 algn="just">
              <a:lnSpc>
                <a:spcPct val="110000"/>
              </a:lnSpc>
              <a:spcBef>
                <a:spcPts val="751"/>
              </a:spcBef>
              <a:spcAft>
                <a:spcPts val="1500"/>
              </a:spcAft>
              <a:buSzPct val="11315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40458c"/>
                </a:solidFill>
                <a:latin typeface="Tahoma"/>
              </a:rPr>
              <a:t>Límite de tiempo: 90 minutos aprox.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 algn="just">
              <a:lnSpc>
                <a:spcPct val="110000"/>
              </a:lnSpc>
              <a:spcBef>
                <a:spcPts val="751"/>
              </a:spcBef>
              <a:spcAft>
                <a:spcPts val="1500"/>
              </a:spcAft>
              <a:buSzPct val="11315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40458c"/>
                </a:solidFill>
                <a:latin typeface="Tahoma"/>
              </a:rPr>
              <a:t>Incluye: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lvl="1" marL="948600" indent="-271440" algn="just">
              <a:lnSpc>
                <a:spcPct val="11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Reunir y distribuir el material (48hs antes).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48600" indent="-271440" algn="just">
              <a:lnSpc>
                <a:spcPct val="11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Coordinar el día y hora de la caminat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0T18:46:50Z</dcterms:created>
  <dc:creator>Sergio Ochoa</dc:creator>
  <dc:description/>
  <dc:language>en-US</dc:language>
  <cp:lastModifiedBy>Sergio Ochoa</cp:lastModifiedBy>
  <cp:lastPrinted>2002-05-02T12:05:49Z</cp:lastPrinted>
  <dcterms:modified xsi:type="dcterms:W3CDTF">2007-08-28T12:17:34Z</dcterms:modified>
  <cp:revision>46</cp:revision>
  <dc:subject/>
  <dc:title>Software Technical Reviews</dc:title>
</cp:coreProperties>
</file>