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E5C-3C68-4425-BD41-EA2E74F7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AC11-A6F9-4AB0-AF0C-6D600EED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E1D-26DD-40C7-ADDC-346305BE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EA90-7E64-4DFA-91FD-DFC9B9C4D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CABA-4C3D-47CC-A420-90C9AB93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89E4-94BF-41E0-99F1-7D49373B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A456-3E22-4707-A000-58FC5347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C3E3-215D-42D7-BE87-767CBBF9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0F30-AAF4-4F87-828D-5AB20DDB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6BB4-F63B-44EE-9B2D-24E3F174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1A45-53DF-4EC7-8C08-4D6D9E6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1F3-4D75-4FF4-A0DB-60454FE6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6C71D-64DD-4A31-B509-9048CAAB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3A07-B822-486E-862D-519ADD1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1121-6B99-4231-AEDE-957B57D1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60F2-9253-4B65-8E24-B1977503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8CDB-4AE5-4A30-94F6-B30D8007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EC6-4753-4669-B68F-2F5CC27A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0AD-5696-4617-B6C9-F4DDBB5F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7FB-A2FD-4D55-AFDC-C128F306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E70-0069-47F1-A9BA-2F11BC0C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0FC-5A0B-41D8-90DA-A88E3046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5FB5-059A-4DB9-8A90-C1EFCC16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FE2-420D-42E6-9964-1615289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3E6A-2C69-49F6-9C57-3F4227842B3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1CE2-B719-4B08-965E-75ADA367149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registrador le entrega al autor y al resto de los participantes, una lista preliminar (borrador) de los defectos encontrados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, pero no abuse,…..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Ochoa</cp:lastModifiedBy>
  <cp:lastPrinted>2002-05-02T12:05:49Z</cp:lastPrinted>
  <dcterms:modified xsi:type="dcterms:W3CDTF">2007-08-28T12:17:34Z</dcterms:modified>
  <cp:revision>46</cp:revision>
  <dc:subject/>
  <dc:title>Software Technical Reviews</dc:title>
</cp:coreProperties>
</file>