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32600" cy="9396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C1A-FC13-4104-8436-DBC372AA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1C01-85BB-407F-8EF4-36FBB639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D44F-D76D-4542-A0FC-9062A85A8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104-9401-409D-9A1B-C5CBC0E62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1645A-76BE-4F61-9E1B-B7A23316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EC7-4D64-4E6F-A6CF-79663CB72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5E74-59A3-427B-A9CD-3776C6735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81D-F0AD-42FE-9D83-9240A7D3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65D08-D00A-4F73-8B9D-5D014A67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3D092-9A54-461A-8E88-54C5D1E1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B8A7-11E4-44B0-B6F6-C6630CF41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EAC8-51AD-4112-951D-5D411915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B915-623D-424F-8668-08326BE9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8C3A-C2EE-416C-82CC-CF557124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8F5E-03EE-41D3-86C8-F4A9ECB19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0BC16-934E-46A9-A245-A1366623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1750-91C9-4631-9B84-1A09449C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887D-40AA-46C3-9C5E-545521E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A4E-B8CE-4AC7-93BC-9CA913BCB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D2E9-019E-4299-8019-06AE73008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78D7-6CB2-4DA1-9D74-C2383021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9FE-3607-469A-9980-E26F88DC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41FC-6439-4B69-BA9F-B3843E16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950-9412-45EB-B91E-AD431327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BF417-4F16-498B-8C5E-558C95977F2E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1E6C-283B-47AF-8165-05CE4EE812EF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Software Technical Review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40458c"/>
                </a:solidFill>
                <a:latin typeface="Tahoma"/>
              </a:rPr>
              <a:t>Sergio Ocho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mode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todos están prepa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Guiar la caminata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rbitrar los medios para obtener conclusiones útiles, de los desacuerdos o errores encontrados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 algn="just">
              <a:spcBef>
                <a:spcPts val="649"/>
              </a:spcBef>
              <a:spcAft>
                <a:spcPts val="975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gistr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Tomar notas de los defectos y de los cursos de acción a seguir. Con esto generará una lista que se les entregará a los participant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á comentarios menores como observaciones sobre: fonts, gramática, puntuació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 algn="just">
              <a:spcBef>
                <a:spcPts val="499"/>
              </a:spcBef>
              <a:spcAft>
                <a:spcPts val="75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odría ser útil grabar (audio, audio/video)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1280" y="1485720"/>
            <a:ext cx="82087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autor/presentador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: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sentar el material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er claro e ir “al grano” con las explicaciones (presentar sólo lo relevante!!!)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larificar las dudas de los revisores (“ir al grano”!!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debe mostrar una actitud de protección hacia su trabaj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 algn="just">
              <a:spcBef>
                <a:spcPts val="649"/>
              </a:spcBef>
              <a:spcAft>
                <a:spcPts val="1301"/>
              </a:spcAft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2600" spc="-1" strike="noStrike" u="sng">
                <a:solidFill>
                  <a:srgbClr val="40458c"/>
                </a:solidFill>
                <a:uFillTx/>
                <a:latin typeface="Tahoma"/>
              </a:rPr>
              <a:t>revisores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 deben: 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epararse para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Identificar errores durante la revis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visar el trabajo, no al autor…. y ser constructivos !!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jecu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128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l final de la caminata (Walkthrough)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</a:t>
            </a:r>
            <a:r>
              <a:rPr b="0" i="1" lang="es-CL" sz="2000" spc="-1" strike="noStrike" u="sng">
                <a:solidFill>
                  <a:srgbClr val="40458c"/>
                </a:solidFill>
                <a:uFillTx/>
                <a:latin typeface="Tahoma"/>
              </a:rPr>
              <a:t>determinarse el grado de aprobación del documen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status (aprob/desaprob) debe constar en la lista de errores/deficiencias encontradas, y en el document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be proveerse control de versiones sobre todos los documentos, especialmente los revisa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207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gistrador debe reportar los errores por escrito,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al moderador y a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l autor debe corregir los error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y notificar al moderador, de que esto se ha hech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uego, se realizará un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reunión corta entre el moderador y el autor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oderador podría incluir revisores adicionale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futuras reuniones, si él cree que se requiere experiencia técnica adi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sp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2640" y="1828800"/>
            <a:ext cx="518148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lanific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plicación Introductor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repara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de Insp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ercer Tiemp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Corre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guimi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7720" y="1557360"/>
            <a:ext cx="8055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oderador (QAE) deb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Asegurar que el producto está list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para la inspec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Seleccionar al equip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inspección y asignar ro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Establecer el lugar, día y hora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 la inspec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 que el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material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necesario para la inspección ha sid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istribuido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en tiempo y for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a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inspecc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del producto </a:t>
            </a: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puede ser hecha en una reunión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, o si se necesitarán má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 algn="just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 u="sng">
                <a:solidFill>
                  <a:srgbClr val="40458c"/>
                </a:solidFill>
                <a:uFillTx/>
                <a:latin typeface="Tahoma"/>
              </a:rPr>
              <a:t>Determinar si los revisores están familiarizados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con el material a revisa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xplicación Introductor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 planifica una explicación introductoria si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equipo de inspección no está familiarizado con el produ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producto es nuevo, o está siendo inspeccionado por primera vez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No se han hecho inspecciones en 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par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os revisores deben: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Chequear el documento contra los requisitos y los estándares, para asegurar su cumplimien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gistrar los defectos en la preparación del documento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ALER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 algn="just">
              <a:lnSpc>
                <a:spcPct val="90000"/>
              </a:lnSpc>
              <a:spcBef>
                <a:spcPts val="751"/>
              </a:spcBef>
              <a:buSzPct val="12071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El moderador deb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visar las observaciones de cada revisor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Identificar posibles focos de problemas, que necesiten atención extra durante la inspecc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 algn="just">
              <a:lnSpc>
                <a:spcPct val="90000"/>
              </a:lnSpc>
              <a:spcBef>
                <a:spcPts val="55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0458c"/>
                </a:solidFill>
                <a:latin typeface="Tahoma"/>
              </a:rPr>
              <a:t>Reprogramar una inspección, si el equipo de inspectores no está lo suficientemente preparado, o si tienen problemas de disponibilidad para asistir a la reunión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 90 minut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a inspección se lleva a cabo del mismo modo que en la </a:t>
            </a:r>
            <a:r>
              <a:rPr b="1" i="1" lang="es-CL" sz="2400" spc="-1" strike="noStrike">
                <a:solidFill>
                  <a:srgbClr val="40458c"/>
                </a:solidFill>
                <a:latin typeface="Tahoma"/>
              </a:rPr>
              <a:t>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spués de la reunión, el moderador y el autor se reúnen (brevemente) para estimar el esfuerzo de corrección, y la fecha de la siguiente reunión (Caminata/Auditoría/etc.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1599"/>
              </a:spcAft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l registrador le entrega al autor y al resto de los participantes, una lista preliminar (borrador) de los defectos encontrados para que le sirva como guía de corrección.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1533240"/>
            <a:ext cx="8153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00"/>
              </a:spcBef>
              <a:spcAft>
                <a:spcPts val="1400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l final de la reunión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sumirse el número y tipo de defectos encontrados, y el moderador y/o el equipo de trabajo determinará cuando será necesaria otra inspección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El moderador debe determinar si el tercer tiempo es necesario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Si el tercer tiempo es necesario, entonces se le asignan tareas individuales a los inspecto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tenid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579132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sideraciones Genera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evisiones (entre pare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Auditorí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aminatas (Walkthroughs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30920" indent="-430920">
              <a:lnSpc>
                <a:spcPct val="16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Inspe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unión de Inspec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registrador deb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los temas no resueltos, para ser tratados durante el tercer tiempo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gistrar cada defecto, su ubicación, una breve descripción del defecto/error, el tipo de defecto al que pertenece, y el inspector que lo encontró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3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nstruir la lista de defectos encontrados durante la inspección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Tercer Tiemp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Tiempo usado pa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iscus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nalizar Posibles Solucione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errar temas Abiert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visar los Defectos Encontrados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(documentándol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rre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autor corrige los defectos encontr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os defectos menores deben ser corregidos, sólo si los costos y tiempos lo permiten (aunque deben ser agendados).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just">
              <a:spcBef>
                <a:spcPts val="1400"/>
              </a:spcBef>
              <a:spcAft>
                <a:spcPts val="1049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debe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1199"/>
              </a:spcBef>
              <a:spcAft>
                <a:spcPts val="901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todos los aspectos relacionados con un defecto, han sido considerados por el aut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Seguimi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unión corta entre el moderador y el autor para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Determinar si los errores encontrados han sido corregi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segurarse que no se han introducido nuevos errores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 algn="just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moderador podría incluir revisores adicionales para futuras reuniones, si él cree que se requiere experiencia técnica adi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…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TFs  ayudan 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Mantener el control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Publicitar el estado de avance del proyect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Identificar falencias y/o riesg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nuevas ideas, y considerar otros puntos de vis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Generar casos de prueb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vanzar sobre una base sólid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tc…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Por lo tanto, hágalas periódicamente, pero no abuse,….. las RTF son un medio, no un fi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483920"/>
            <a:ext cx="807732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de softwar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sirven para validar la calidad y/o el estado de un producto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producto a revisar puede ser un documento,  un módulo, un prototip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xisten distinto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tipos de revisione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 Cada una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especializad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n un determinado producto / escenari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yudan a encontrar falencias, y a identificar riesgo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que serían difíciles de encontrar de otra maner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524"/>
              </a:spcAft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revisiones son necesarias…. Hágalas !!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sideracione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26560" y="1557360"/>
            <a:ext cx="80773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ea (y respete) el manual sobre “Protocolos de Comunicación entre miembros del Proyecto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a el trabajo, NO al au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e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buscan defectos, NO formas de implementar sus ide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iga las instrucciones del moderador, y los tiempos asignados a cada activ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5600" indent="-435600">
              <a:spcBef>
                <a:spcPts val="700"/>
              </a:spcBef>
              <a:spcAft>
                <a:spcPts val="1400"/>
              </a:spcAft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críticas destructivas, NO benefician a nadie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Revisiones (entre pare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49080" y="1557360"/>
            <a:ext cx="8459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1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Generalmente están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orientadas al Código Fuent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2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Su objetivo e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detectar Errores o Problemas de Lógica y de Programación en forma tempran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SzPct val="129265"/>
              <a:buBlip>
                <a:blip r:embed="rId3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suntos a Revisar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Correctitu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Variables en Desus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Funciones Omit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Práctica de Programación Pobr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Redundancia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spcAft>
                <a:spcPts val="624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40458c"/>
                </a:solidFill>
                <a:latin typeface="Tahoma"/>
              </a:rPr>
              <a:t>Adhesión al Estándar de Escritura de Código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spcAft>
                <a:spcPts val="751"/>
              </a:spcAft>
              <a:buSzPct val="150784"/>
              <a:buBlip>
                <a:blip r:embed="rId4"/>
              </a:buBlip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Auditorí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557000"/>
            <a:ext cx="8077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visión Formal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su objetivo es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Evaluar el nivel de conformidad con estándares y plan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ntrolar que se han hecho los cambios program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Auditar el proyecto… en forma interna o extern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uditor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es el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responsable de verificar el proceso de auditoría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, y las </a:t>
            </a:r>
            <a:r>
              <a:rPr b="0" i="1" lang="es-CL" sz="2800" spc="-1" strike="noStrike" u="sng">
                <a:solidFill>
                  <a:srgbClr val="40458c"/>
                </a:solidFill>
                <a:uFillTx/>
                <a:latin typeface="Tahoma"/>
              </a:rPr>
              <a:t>acciones derivadas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de és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Límite de Tiempo: 60 min. (por sesión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Walkthrough (Caminatas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1280" y="1699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Las Caminatas involucran tres fase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lanificación (preparac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jecución (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33520" indent="-533520">
              <a:lnSpc>
                <a:spcPct val="21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Seguimiento (post-revisión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087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a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caminatas deben ser bien planificada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, y con suficiente anterioridad (una semana) por un Quality Assurance Engineer (QAE).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El QAE enviará una invitación a los participantes, vía mail. 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marL="426600" indent="-426600" algn="just">
              <a:lnSpc>
                <a:spcPct val="80000"/>
              </a:lnSpc>
              <a:spcBef>
                <a:spcPts val="774"/>
              </a:spcBef>
              <a:spcAft>
                <a:spcPts val="1162"/>
              </a:spcAft>
              <a:buSzPct val="1130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Los </a:t>
            </a:r>
            <a:r>
              <a:rPr b="0" i="1" lang="es-CL" sz="3100" spc="-1" strike="noStrike" u="sng">
                <a:solidFill>
                  <a:srgbClr val="40458c"/>
                </a:solidFill>
                <a:uFillTx/>
                <a:latin typeface="Tahoma"/>
              </a:rPr>
              <a:t>roles que deberán estar presentes</a:t>
            </a:r>
            <a:r>
              <a:rPr b="0" lang="es-CL" sz="3100" spc="-1" strike="noStrike">
                <a:solidFill>
                  <a:srgbClr val="40458c"/>
                </a:solidFill>
                <a:latin typeface="Tahoma"/>
              </a:rPr>
              <a:t> son:</a:t>
            </a:r>
            <a:endParaRPr b="0" lang="en-US" sz="31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Moderad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Autor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2 a 3 Reviso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873000" indent="-274320" algn="just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Registrador(e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lanificación (Cont.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79819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Expertos externos pueden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 eventualmente </a:t>
            </a:r>
            <a:r>
              <a:rPr b="0" i="1" lang="es-CL" sz="3000" spc="-1" strike="noStrike" u="sng">
                <a:solidFill>
                  <a:srgbClr val="40458c"/>
                </a:solidFill>
                <a:uFillTx/>
                <a:latin typeface="Tahoma"/>
              </a:rPr>
              <a:t>ser invitados a las revisiones</a:t>
            </a: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, sólo cuando se requieran conocimientos especializados, con respecto a algún tema. 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Límite de tiempo: 90 minutos aprox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 algn="just">
              <a:lnSpc>
                <a:spcPct val="110000"/>
              </a:lnSpc>
              <a:spcBef>
                <a:spcPts val="751"/>
              </a:spcBef>
              <a:spcAft>
                <a:spcPts val="1500"/>
              </a:spcAft>
              <a:buSzPct val="1131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0458c"/>
                </a:solidFill>
                <a:latin typeface="Tahoma"/>
              </a:rPr>
              <a:t>Incluye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Reunir y distribuir el material (48hs antes). 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948600" indent="-271440" algn="just">
              <a:lnSpc>
                <a:spcPct val="110000"/>
              </a:lnSpc>
              <a:spcBef>
                <a:spcPts val="601"/>
              </a:spcBef>
              <a:spcAft>
                <a:spcPts val="119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458c"/>
                </a:solidFill>
                <a:latin typeface="Tahoma"/>
              </a:rPr>
              <a:t>Coordinar el día y hora de la camina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10T18:46:50Z</dcterms:created>
  <dc:creator>Sergio Ochoa</dc:creator>
  <dc:description/>
  <dc:language>en-US</dc:language>
  <cp:lastModifiedBy>Sergio Ochoa</cp:lastModifiedBy>
  <cp:lastPrinted>2002-05-02T12:05:49Z</cp:lastPrinted>
  <dcterms:modified xsi:type="dcterms:W3CDTF">2007-08-28T12:17:34Z</dcterms:modified>
  <cp:revision>46</cp:revision>
  <dc:subject/>
  <dc:title>Software Technical Reviews</dc:title>
</cp:coreProperties>
</file>