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E8F-1155-46B1-9D8E-1283559C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1BE-A098-4C36-A647-008B87C5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CDA-5E72-4C12-854D-D084B7BF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4BE-2AE7-4A1E-82CA-DA2AE2DD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9D00-21BF-4066-B644-C48369FB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FC56-62DE-4C60-B665-CEC77483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CAC2-4BA7-47F0-8DED-C28F6945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3324-4B87-4EF4-B81A-298F0393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407C-9B33-4A3D-99B6-34CE077C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073F-01D7-47A7-AD49-D96F7716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E608-AC42-423C-94E8-A14FCFFE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859-3D3D-4E54-9348-73452813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5945-24D1-42AF-B341-EE5AF351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7803-4263-450D-B658-C56F47B6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812B-99C9-4FEA-B025-B3BA47BC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8C5F-998D-4B97-B420-4A0B23CD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7D11-9525-480E-9332-4E43BEE7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2AF-47B8-4848-AAD7-40635AA8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9490-DD73-47B3-81D3-B3C0F029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3AB-072F-4925-B004-7F04E835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93B-D632-4B8B-B901-970985C5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4E6-0932-48FB-8BF0-F3942405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E34-7102-4395-9C0C-C3E351F8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0BA-8528-4BA5-A2A6-A684E53E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3F2A-8667-4FC7-8F25-9C611F74F6BB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A138-2E53-4096-BC47-5C5273828CD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oftware Technical Re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40458c"/>
                </a:solidFill>
                <a:latin typeface="Tahoma"/>
              </a:rPr>
              <a:t>Sergio Och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mode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todos están prepa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Guiar la caminat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rbitrar los medios para obtener conclusiones útiles, de los desacuerdos o errores encont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gist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Tomar notas de los defectos y de los cursos de acción a seguir. Con esto generará una lista que se les entregará a los participa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á comentarios menores como observaciones sobre: fonts, gramática, puntu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odría ser útil grabar (audio, audio/video)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8572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autor/present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sentar el materi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er claro e ir “al grano” con las explicaciones (presentar sólo lo relevante!!!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larificar las dudas de los revisores (“ir al grano”!!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debe mostrar una actitud de protección hacia su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visores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n: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pararse para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r errores durante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visar el trabajo, no al autor…. y ser constructiv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l final de la caminata (Walkthrough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</a:t>
            </a:r>
            <a:r>
              <a:rPr b="0" i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terminarse el grado de aprobación del docu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status (aprob/desaprob) debe constar en la lista de errores/deficiencias encontradas, y en 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proveerse control de versiones sobre todos los documentos, especialmente los revis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gistrador debe reportar los errores por escrito,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al moderador y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l autor debe corregir los error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notificar al moderador, de que esto se ha he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uego, se realizará un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unión corta entre el moderador y el auto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oderador podría incluir revisores adiciona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futuras reuniones, si él cree que se requiere experiencia técnica adicio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sp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1814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lanific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plicación Introductor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repa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de Insp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ercer Tiemp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orr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oderador (QAE) deb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segurar que el producto está lis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la insp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eleccionar al equip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inspección y asignar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r el lugar, día y hor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 inspe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 que 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teri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necesario para la inspección ha sid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stribui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 tiempo y for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inspec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product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uede ser hecha en una reun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o si se necesitarán má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erminar si los revisores están familiarizad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con el material 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xplicación Introduc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planifica una explicación introductoria s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quipo de inspección no está familiarizado con 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ducto es nuevo, o está siendo inspeccionado por primera vez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se han hecho inspecciones en 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os revisores deben: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Chequear el documento contra los requisitos y los estándares, para asegurar su cumplimien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gistrar los defectos en la preparación del document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ALER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El moderador deb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visar las observaciones de cada revis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posibles focos de problemas, que necesiten atención extra durante la inspe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programar una inspección, si el equipo de inspectores no está lo suficientemente preparado, o si tienen problemas de disponibilidad para asistir a la reun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 90 minu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a inspección se lleva a cabo del mismo modo que en la </a:t>
            </a:r>
            <a:r>
              <a:rPr b="1" i="1" lang="es-CL" sz="2400" spc="-1" strike="noStrike">
                <a:solidFill>
                  <a:srgbClr val="40458c"/>
                </a:solidFill>
                <a:latin typeface="Tahoma"/>
              </a:rPr>
              <a:t>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spués de la reunión, el moderador y el autor se reúnen (brevemente) para estimar el esfuerzo de corrección, y la fecha de la siguiente reunión (Caminata/Auditoría/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15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registrador le entrega al autor y al resto de los participantes, una lista preliminar (borrador) de los defectos encontrados para que le sirva como guía de corrección.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33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 la reunión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sumirse el número y tipo de defectos encontrados, y el moderador y/o el equipo de trabajo determinará cuando será necesaria otra inspección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moderador debe determinar si el tercer tiempo es necesario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 el tercer tiempo es necesario, entonces se le asignan tareas individuales a los insp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5791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sideraciones Gener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visiones (entre p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uditor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aminatas (Walkthroug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Inspe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registrador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los temas no resueltos, para ser tratados durante el tercer tiemp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cada defecto, su ubicación, una breve descripción del defecto/error, el tipo de defecto al que pertenece, y el inspector que lo encontró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nstruir la lista de defectos encontrados durante la inspec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Tercer Tiemp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iempo usado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iscus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nalizar Posibles Soluc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errar temas Abier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r los Defectos Encontrad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(documentándol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rr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utor corrige los defectos encontr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defectos menores deben ser corregidos, sólo si los costos y tiempos lo permiten (aunque deben ser agendados)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debe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todos los aspectos relacionados con un defecto, han sido considerados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corta entre el moderador y el autor par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podría incluir revisores adicionales para futuras reuniones, si él cree que se requiere experiencia técnica adi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TFs  ayudan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ntener el control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ublicitar el estado de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dentificar falencias y/o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nuevas ideas, y considerar otros puntos de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casos de prueb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vanzar sobre una base sóli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tc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or lo tanto, hágalas periódicamente, pero no abuse,….. las RTF son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de softwar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irven para validar la calidad y/o el estado de un product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ducto a revisar puede ser un documento,  un módulo, un prototip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isten distinto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tipos de revis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Cada una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pecializa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un determinado producto / esce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yudan a encontrar falencias, y a identificar riesg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serían difíciles de encontrar de otra mane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son necesarias…. Hágalas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sideracione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77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ea (y respete) el manual sobre “Protocolos de Comunicación entre miembros del Proyecto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a el trabajo, NO al au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buscan defectos, NO formas de implementar sus ide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ga las instrucciones del moderador, y los tiempos asignados 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ríticas destructivas, NO benefician a nadi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visiones (entre pare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9080" y="155736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Generalmente están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orientadas al Código Fu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u objetivo 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tectar Errores o Problemas de Lógica y de Programación en forma tempran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suntos a Revisar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rrectitu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Variables en Desu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Funciones Omit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áctica de Programación Pob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dunda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dhesión al Estándar de Escritura de Códig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4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Audit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77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ión Form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su objetivo 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valuar el nivel de conformidad con estándares y pla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ntrolar que se han hecho los cambios program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ditar el proyecto… en forma interna o exter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udi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s 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sponsable de verificar el proceso de auditorí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cciones derivad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é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Walkthrough (Caminat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Caminatas involucran tres fas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 (preparac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jecución (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 (post-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caminatas deben ser bien planificada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, y con suficiente anterioridad (una semana) por un Quality Assurance Engineer (QAE)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El QAE enviará una invitación a los participantes, vía mail. 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roles que deberán estar presente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 son: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oder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2 a 3 Revis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gistrador(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81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Expertos externos pueden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 eventualmente </a:t>
            </a: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ser invitados a las revisiones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, sólo cuando se requieran conocimientos especializados, con respecto a algún tema.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ímite de tiempo: 90 minutos aprox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Incluy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unir y distribuir el material (48hs antes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ordinar el día y hora de la 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Ochoa</cp:lastModifiedBy>
  <cp:lastPrinted>2002-05-02T12:05:49Z</cp:lastPrinted>
  <dcterms:modified xsi:type="dcterms:W3CDTF">2007-08-28T12:17:34Z</dcterms:modified>
  <cp:revision>46</cp:revision>
  <dc:subject/>
  <dc:title>Software Technical Reviews</dc:title>
</cp:coreProperties>
</file>