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87F-0334-406B-B4BD-BEA77B3E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357-67EE-41C1-9122-A0C7FB2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F1A-B6B3-4B04-976D-566A601F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69C-A2D1-4354-A5AD-4B7F36B8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1D8F-9BC5-4851-8774-8563B047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CC0-EF6A-48B0-882F-A347A78E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6234-3C73-496C-B7B5-C7AFCAB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D24B-04D3-4526-A1A4-95D257CF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2837-E294-491B-88A6-D205766B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0FE-B076-454A-94D5-AF2B5204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B7B7-8DE4-4F5B-AAF6-0157780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FC5-5E4A-4DCD-BCC6-09A9A67C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E825-2C45-439B-BD43-EBE0D65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0E9E-2017-44B4-8A1D-1CD7DAE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F7A-9CBA-4BCD-8DEA-8C682A08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D131-AED9-4FDB-B8C1-C03D4751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F828-84CB-4FF1-AD5D-C8F39C54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5B8-3A90-404A-996D-86E46EFA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EC1-90D6-4CE4-B539-59CBD2C9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B75-0E06-4866-BD8F-8845F02E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B2E-80F3-4A08-8E55-DEB4871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4EB-5EF9-446C-ABD0-2FC01E5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4A6-4C85-44CE-8F74-4139DD90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42E-5032-4634-BAE8-3A90B26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825A-CA9C-4A22-97AD-ACB5B13A2FA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9CFB-46B3-4EC9-B550-3260276D5CC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registrador le entrega al autor y al resto de los participantes, una lista preliminar (borrador) de los defectos encontrados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, pero no abuse,…..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Ochoa</cp:lastModifiedBy>
  <cp:lastPrinted>2002-05-02T12:05:49Z</cp:lastPrinted>
  <dcterms:modified xsi:type="dcterms:W3CDTF">2007-08-28T12:17:34Z</dcterms:modified>
  <cp:revision>46</cp:revision>
  <dc:subject/>
  <dc:title>Software Technical Reviews</dc:title>
</cp:coreProperties>
</file>