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9370-1D84-402D-9F86-291C57465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6F1E-7485-4A02-BE70-EF0464EF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2AC9-18DD-4EAF-BE72-02AE52CC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9B1D-30E0-470B-A85F-D005CD353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5D5A-0F5C-425F-92F5-572108DA9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F0BA-4DAD-4DCD-8551-31F55D3A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EE0A-8EDB-4044-B5A0-D9D73550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8BD9-B033-4E90-B04C-292ADD58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227F-E805-4D28-A019-C89CA578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9BB0-DC11-4E86-82FC-15A8C258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C3FF-3136-4363-9DD0-6D9D0E04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5BA7-D92B-4920-9639-95655F53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11B7-F130-4BC5-86C7-8ECDFDD3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82DD-FDB2-43D0-96DB-B656AA15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3101-702F-4AEA-B459-A1C582CE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AEAC-F76C-4AA5-86A1-0BB5AF3E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FC2E-0628-43A3-991E-0C6BC1B9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A658-480E-44DA-8741-EA8F073B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0C16-D0BF-44F6-BC8F-EA17312F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58F6-BFEE-4D2A-AE6A-CEFD8EF5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CBDB-FBF3-41A7-94A6-0859F8C4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3616-C58B-4687-B75A-52AB5E46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6C9B-9541-4D6E-B766-0AD78289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4EA8-8135-4C05-974B-0982C5BA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7A21-BA07-4311-83DA-D624E378C520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BCA1-1E7E-46C6-9534-B15C291E2A09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124080"/>
            <a:ext cx="7035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Revisión del Capítulo 1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Y Coordinación de Proyecto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83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5a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es Ingeniería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-5652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uáles son los problemas de la  Ingeniería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-5652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ómo se podría atacarl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2520" indent="-5425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establecen los modelos de desarrollo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-54252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Para qué sirven..?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-54252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ómo elegir el modelo de desarrollo de software para mi empres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establece el estándar de la ES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uándo usted aplicaría un estándar de desarrollo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limitaciones tienen los estándare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uál es el mejor estánda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7T21:16:43Z</dcterms:created>
  <dc:creator>Mercedario</dc:creator>
  <dc:description/>
  <dc:language>en-US</dc:language>
  <cp:lastModifiedBy>adminsochoa</cp:lastModifiedBy>
  <dcterms:modified xsi:type="dcterms:W3CDTF">2004-08-19T13:09:39Z</dcterms:modified>
  <cp:revision>13</cp:revision>
  <dc:subject/>
  <dc:title>CC51A – Ingeniería de Software</dc:title>
</cp:coreProperties>
</file>