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716-F84C-4DE2-A8FD-C2A0B3BB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9A3-97CE-4CAB-A48F-987E4DF3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D015-BA68-4C12-B501-5CEE5D74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A5E-BC58-4D1F-B89C-173840BC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E594-91E9-45B7-A14E-B9E862CC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D133-00FA-42F0-B543-A2B10750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E9AA-999D-4FE4-8224-4548844C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D4EF-C5BD-4A4E-95D0-1A8518EB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CD73-0DF2-48C8-BBA0-19EB52CD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31BA-A19A-41AD-B6A0-EA4FFD2A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867B-BA29-410F-A738-FBDD9BAD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9B7-D46B-40C9-A16B-AC557158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2CF3-615F-423D-8887-F26CA6C3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BEF7-B6EF-4DA5-B4B9-F40D8A1D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DBB4-BFAB-4E3F-941E-A383B870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52A2-4AE4-41C5-AE66-8B1C86E5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0DE3-D492-4345-BEDD-72E38BFD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FB4-CC56-414D-B6F9-50CCE765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8AA7-88D3-4CB9-B54E-646D7C4F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556-28C8-45D8-9D39-94D59A19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67ED-67A7-4510-83F6-A9CB01C6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1CFD-351B-426A-8693-C2DA14DB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705-7078-4D43-96BB-B722230D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3CC-116F-41A0-A40C-64B6CCA1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120E-6F7E-468A-B95E-AEF4107AD7FF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3DBA-5679-4BB3-89AC-1D7E3EC894AF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124080"/>
            <a:ext cx="7035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Revisión del Capítulo 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Y Coordinación de Proyecto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es son los problemas de la 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se podría atacarl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2520" indent="-542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n los modelos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Para qué sirven..?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elegir el modelo de desarrollo de software para mi empr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 el estándar de la 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ndo usted aplicaría un estándar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limitaciones tienen los estánda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 es el mejor estánd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21:16:43Z</dcterms:created>
  <dc:creator>Mercedario</dc:creator>
  <dc:description/>
  <dc:language>en-US</dc:language>
  <cp:lastModifiedBy>adminsochoa</cp:lastModifiedBy>
  <dcterms:modified xsi:type="dcterms:W3CDTF">2004-08-19T13:09:39Z</dcterms:modified>
  <cp:revision>13</cp:revision>
  <dc:subject/>
  <dc:title>CC51A – Ingeniería de Software</dc:title>
</cp:coreProperties>
</file>