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C3-0F3E-4CAC-B974-3A3EDD0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CCC-6C40-4C1F-8EFD-63142DB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893-CFA8-4D46-BB63-6280D556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AC0-A259-4D0B-837C-4F1336D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6B3-8FA2-4E7E-BB00-1D7F3C32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1453-DA78-41A1-B6CE-BF61828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F17-84B1-42FD-9AF7-FA358F1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827A-7DB7-45BA-9434-C926B86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AB4-73A2-44B6-B1EF-314DB3A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1E2-27B5-401A-A353-6052B43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DF1A-7B7C-4FC3-BFEC-789BAC4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496-06AB-445C-8999-66D73C3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DB4-1662-4CEF-BB9C-9691224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4AF-A3A3-4C14-BC27-C115386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921-19D5-45BE-B71E-00FBCAA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29A-DF0B-406C-8AA6-2E087D5A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0C3-A6B1-4374-8F72-5FDC8852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505-25FB-40CC-9FF6-F39B8464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7AA-2A06-43D6-B103-B109000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EFF-41D4-441F-BD89-31BC1A9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278-5793-4F3E-8743-68B2AF8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50B-A154-431E-96ED-B2CF24A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1C5-C930-42B7-9806-0E4938D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5E4-FC7A-46A1-B3F6-76360C9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80F-6FCE-4AC3-B318-192C9FA3C6E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A19-590A-4C2D-B5C7-45EF99CE56B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stec.esa.nl/wmwww/WME/index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F5BB-B168-47B9-93EA-68A746C12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413-4940-47E9-87AB-9B539AA649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A05-82FA-499E-AB8A-5C9D5E431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F1BC-AB0B-4447-B624-428ECE7A9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AEE-14C2-4EB0-9C87-229C7B762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43D-E73C-4F44-AA3A-3A5717CC0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748-BE7A-464D-8A8A-255CD914AF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B990-8BBE-4B72-8BC1-02D74D0BC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6F1-58EE-4E27-9B7C-F3F4C4ED4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1C6-1622-4284-BC2A-8369CAC10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F19-2421-4440-880C-0B97689E7D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7B3-18FF-41A0-85C6-A81F75AF9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C6B-04A7-4B52-AB56-8DA88F2EB3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FA6-FB55-4F56-A4FC-2C5C4B35EF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F45-4856-411C-92C5-CB4A07872E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732-3D97-4A04-9C66-9C023D7E67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, código fuente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191-2E2D-4744-903E-20435BB8A9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B3B-D3A9-40FE-A8B1-4A0FB193FA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5EF-4423-4249-8742-F2E58FFB1D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B0-57E3-4532-8D39-982ACCBB4B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2ADB-AD8D-47FB-9A64-EBB0F4A42E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CFF-134E-4D9D-A85B-8150AA61B1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7D-099D-48B7-AC57-0E1C125D04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BFF-2189-4D4C-A11B-EBB2C42E9A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n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9AD-2797-4E4A-B33F-D2C3E3BD22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44552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 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45D-C412-4F2A-A2A6-397D99BE00A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236-660C-41F2-B82F-44374618A98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523-BE77-47C6-B50C-1F21F52B5C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38480" y="5129280"/>
            <a:ext cx="643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955-7FE5-412D-A2F6-615CCE1C2E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3F0-7710-446C-97B3-03E86665E02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4D6-5208-40EF-ACB3-DE6F8FD583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</a:t>
            </a:r>
            <a:r>
              <a:rPr b="0" lang="es-CL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terial del Curso en U-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F24-434B-471D-B82E-50EDED0E05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915-55FB-4C9E-9035-778B8D77F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8B3-F5B4-45C0-BC1D-460B05DA9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F3B-D01A-4166-ACB7-1C760ED7D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086-1DAA-4E8C-9F6E-7697F8344F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la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C2F-64CF-428F-B014-242ACBE3D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D25-8A02-47A1-8C0F-40DD1FD8C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7-04-03T12:26:24Z</dcterms:modified>
  <cp:revision>526</cp:revision>
  <dc:subject/>
  <dc:title>CC51A</dc:title>
</cp:coreProperties>
</file>