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9C6-B99E-43E4-BC19-6EA82B62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99A-4D35-4547-87FF-A6738ACF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A10-6329-4D37-BFE8-5DE2ED34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2F2-62C6-41CB-A4AD-5BC0BD06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3201-7556-4A98-A287-6CD2F848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D94E-6001-48D2-858C-7A52113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EA54-637F-4795-9B38-13A887F8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2058-7924-4CEF-9224-E993F5D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2395-7DD9-4067-B1CA-60207555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7CD2-0BC3-419A-BF76-DBB9377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DC16-A920-414D-8A71-850211F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26D-DBED-48E9-87D1-AF1CF782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1E9A-5B3C-4A40-B9E8-68A0D1A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993-EC16-43D3-BFD1-093D4B5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C8E4-1D8F-4521-B667-EB3FC9F5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CD28-3B08-4A31-A55F-D1EAA18F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D7FD-0D96-4BE4-AD1A-71B47B3E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BF1-579F-4B9C-8A39-C522EEB1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3BE-A099-4AE4-AF69-4B1C39C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7C2-9C62-40F2-A5A0-2B07D8CF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A66-1B68-4E1E-860D-FA322CAA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E13-ABEC-4A9B-BAE2-21AD07E5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ED7-DDE3-402F-97C4-BE4D91F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06A-6793-40E5-81EC-9BB884F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1F39-7BC4-4D53-A5E6-57D4D8971A4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1126-A22A-42BA-AEDF-A403168AB6F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stec.esa.nl/wmwww/WME/index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B682-1018-4640-BC90-2ED3526664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ase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finición del probl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l 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ben ser “capturado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usa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trevi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cue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demo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totip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se recolectan formul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(U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hacer en form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ápida y 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UIDADO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 fácil demorarse aquí innecesari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648-505B-4636-BF87-2BBB303EC8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63008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apunta al desarrollo de prototipos rápidos (para validar ideas o requisito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s hecha por los usuarios/clientes, los ingenieros de software (de ambos bandos), el téster y el administrador del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67A-A312-4399-BA13-FECCC0BEE4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7972-9A39-411A-B6A1-A24495F209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especific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lo que debe hacer el software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(para cumplir con los UR)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resentar prototip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7A9-C595-441D-9414-D9B095025F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63008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ser revisado por los usuarios, los ingenieros de soft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027-7BF6-4581-A681-335D4D3E7A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r el Plan de Administración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realizan los mejores esfuerzos para tener estimaciones co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rrores no mayores al 30%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DC5-9343-4354-B573-958CA49ABF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3121200"/>
            <a:ext cx="633600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4BD8-93A1-4442-9DAE-96BF38D6ED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definir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Los requisitos de software son un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hac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 gener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la solución con sus macro-compon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le asigna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func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 los componentes de software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fin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trol y flujo de dato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986-B737-4493-A48A-C8421C32A3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arias itera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ficultad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écnicas 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artes crític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firmar las suposi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875-C210-4651-94A4-E483DD7E69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ADD debe se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ormalmente revis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or los ingenieros de software, por los usuarios, y por el administrador del proyecto, durante el proceso de Revisión del Diseño Arquitectónico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825"/>
              </a:spcBef>
              <a:spcAft>
                <a:spcPts val="137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E0A-46E0-4C26-BBE0-DF43B3A6F6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C92-6521-44DA-93E1-AD6BE828AE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81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 Proyecto de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imación del esfuerz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desarrollo del proyecto, apuntando a un margen de error no mayor a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es detallad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177-F5ED-46B4-B4B3-A88633D712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Detallado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65440" y="3068640"/>
            <a:ext cx="6119640" cy="30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1000-3BEA-4F43-BC80-74C20C336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allar el diseñ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dific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 y el Manual de Software de Usuari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 (código), se añaden sub-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B29-5B8C-4F7F-972A-FE6AE896A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tán completos y, junto con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n realizarse las actividade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unit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integra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sist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erificarse la calida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D3C-0BE6-4036-B281-A1A1D4A4AF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3 entregables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, código fuente y 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tos deben ser revisados formalmente por los ingenieros de software y el administrador, durante el proceso de Revisión del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/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de aceptación provision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EEA-EBDD-43D8-BB4C-67441BEE83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480360" cy="33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37C-EEEE-42D8-A015-4A1BFD5449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stablecer qu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oftware cumple con los requisitos de usuari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instalando 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la organización cliente y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alizando test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aceptación, con clientes/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ntonces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D52-8BFC-4B61-9CF6-F9F4C33B36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T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, qu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ocumente el proceso de transferenci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E92-2A90-4E84-BFAC-219E4E81D3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ción y Man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60360" y="3068640"/>
            <a:ext cx="68407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59E7-C3F8-401A-A611-2CDC78129C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nitoreado cuidadosament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sponibilida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puede tomar algún tiempo validarl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uando el softwar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ha pasado todos los test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7A2-55DD-47A5-873F-A4755DAB58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establece la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o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involucrados, y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ductos intermed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789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B2C-00FC-4F2E-B702-0FFD379227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H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-hecho al final del ciclo de vi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C09-F8C4-4A34-8383-E56E7FF221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correctivo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También pueden aparecer nuevos requisitos que necesitan ser incorporado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adapta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ntener la documentación al día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nformación sob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llas y caídas debe ser registrada 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para establecer datos para el establecimiento de métricas de calidad de software para proyectos sigu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EA8-7FCE-4EFA-8020-FB45C89BE8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44552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 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A2D-57E9-4458-9918-B02D16C2C06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BD1-AD59-485B-B2BD-205B123DF76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93D-8D29-4589-8628-19ABCEB2B5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38480" y="5129280"/>
            <a:ext cx="6437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5FC-64BA-40D7-97DC-8060D9437ED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2B4-2772-46C4-9A15-F80B967A991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F0C-91C7-4076-B801-714C9702F4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</a:t>
            </a:r>
            <a:r>
              <a:rPr b="0" lang="es-CL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terial del Curso en U-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8CB-E279-4C1E-93DF-8140315544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tablece: Fases, Actividades e Hi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3179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defin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s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Objetiv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componen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Hi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4762440"/>
            <a:ext cx="34196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08F-F403-4F8A-8CC9-2FB9DED18B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stos no son exactamente los pasos que nosotros vamos a seguir en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BB6-C627-4ACC-81FD-247B67E98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258-B505-43FE-8C00-F26A61689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C3F-7121-45F0-BA15-6CB4A1AF1F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Hitos principale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 que establece el estándar de la 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 algn="just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del producto por parte del desarrollador (da lugar a las pruebas de aceptación provisional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la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BF4-1F8C-4CA3-BF47-B0CEF045DF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Usu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08200" y="3141720"/>
            <a:ext cx="560052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10B4-45C3-431E-9C9F-A6641872D0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7-04-03T12:26:24Z</dcterms:modified>
  <cp:revision>526</cp:revision>
  <dc:subject/>
  <dc:title>CC51A</dc:title>
</cp:coreProperties>
</file>