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976D-46A6-409E-9DC5-1CFA45AB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A13-D38E-4618-A929-0B6C6BB5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BA45-4461-4B8A-81F2-427DC95E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B332-0FDA-469E-9C6C-541718D7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C13C-B28D-4C21-BBFB-9BF552D3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0307-1791-4087-95F0-46D84E1C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86ED-285B-48F1-B385-28A7820F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F83A-70C4-4D19-9066-C7604AF2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6FD9-E803-4E81-9CF6-43E9F967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FF12-6C14-4B8C-AC26-0F8CFC33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BE8B-C989-4A7A-9924-C7A24BCC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9B1-FFF8-4275-A75E-B8DEAEA8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4F92-F645-4B9A-B450-0DC3EC1E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767C-B676-4215-8E26-A6768796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3ED0-7832-4918-B8E1-6E8BA657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E4D1-D080-4E19-BE4A-5B0E9692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2DF2-3BD9-4088-A4B4-CB5317E5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1BF-C06E-4A01-B6AD-CDE91C47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D475-B656-4BCE-8F81-ADBC4582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418E-F934-40F4-B101-FB29E2A7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3576-0026-40E9-A317-BFA17CC4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BD8-78AC-461C-80E2-C1093045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59A1-9669-4FC3-9BDD-C222CA16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94EE-1E06-4FF9-B462-42C9B535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D559-ECD2-4A4F-8B6F-06AF6441C1E4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4DA3-3584-440E-B81A-C2EE6306A391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stec.esa.nl/wmwww/WME/index.html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El Estándar de Ingeniería de Software de l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“European Space Agency (ESA)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Versión 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9ED0-E72A-4F18-B414-1C0C6556D4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Usuar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Fase d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finición del problem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presenta la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visión de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l cliente/usuari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y no necesariamente la del desarrollad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quisitos del usuari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ben ser “capturados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usa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ntrevista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ncuesta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demos d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rototip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se recolectan formul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debe generar un “Documento de Requisitos de Usuario”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(URD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debe hacer en forma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ápida y precis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UIDADO: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s fácil demorarse aquí innecesariam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8FC-4417-45BB-B269-6EA9157B23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Usuar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630080"/>
            <a:ext cx="7981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El principal responsable del producto de esta fase es el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analista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El apoyo de los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desarrolladores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apunta al desarrollo de prototipos rápidos (para validar ideas o requisitos)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Siempre debe producirse u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URD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. La revisió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(UR/R)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es hecha por los usuarios/clientes, los ingenieros de software (de ambos bandos), el téster y el administrador del proyecto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Antes de completar la UR/R debe construirse u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Plan de Administración del Proyecto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de Software que muestre todas las fases siguientes, con estimación de recursos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7C1-91FF-422B-ABB1-0D38DF7918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56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908000" y="3213000"/>
            <a:ext cx="5496120" cy="25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5E64-36B5-4782-8F83-62EAFBDC3B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Fase de análisis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incipal responsable del producto de esta fase es 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nalist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especific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lo que debe hacer el software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(para cumplir con los UR), y no cómo debe hacer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presenta l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visión del desarrollad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no necesariamente la del cliente/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 necesario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resentar prototip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al cliente/usuario para clarificar requisitos de software y completar requisitos de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943F-FE4A-4CE2-BBEC-CC0432F22E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0920" y="163008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ntregable principal es el “Documento de Requisitos de Software” 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(SRD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ada proyecto de software debe tener este documen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ser revisado por los usuarios, los ingenieros de software, y por el administrador del proyecto, durante la “Revisión de Requisitos de Software” 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(SR/R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AE7-C452-4055-B12C-629ED5A5B8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n esta fase se debe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ar el Plan de Administración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l Proyecto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realizan los mejores esfuerzos para tener estimaciones co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rrores no mayores al 30%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construirse un plan detallado para la fase 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omitirse terminología de implement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749D-55CA-4D85-8FE5-2DD501DB0A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6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620720" y="3121200"/>
            <a:ext cx="6336000" cy="354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D3D9-620F-41FB-B45F-08380E6E19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700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pósito es definir l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tructura del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 Los requisitos de software son un punto de parti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hace u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modelo general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la solución con sus macro-compon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le asigna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funcione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a los componentes de software 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define 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ontrol y flujo de dato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ntr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A5A-9D31-46B1-98EE-A28E67BC31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a fase puede considera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varias iteracione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l diseñ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n ser identificadas las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ificultade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écnicas o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artes crític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l diseñ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uede ser necesario realizar prototipos del software par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onfirmar las suposicione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básicas del diseñ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172-88D0-4602-AA79-8CE741B8A8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135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ítem entregable que constituye la salida formal de esta fase es el Documento de Diseño Arquitectónic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DD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ADD debe ser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formalmente revisa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or los ingenieros de software, por los usuarios, y por el administrador del proyecto, durante el proceso de Revisión del Diseño Arquitectónico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AD/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825"/>
              </a:spcBef>
              <a:spcAft>
                <a:spcPts val="1375"/>
              </a:spcAft>
              <a:buSzPct val="1132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47E1-4F7D-44AE-9E2B-89D47BE5B5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ción al Estánd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Fase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Actividades, 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Hitos establecidos por el Estánd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C76-9569-4815-A4A2-BB81248F49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981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-4572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urante la fase AD, debe construirse u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lan de Administración de Proyecto de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que describa el resto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plan debe contener un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timación del esfuerzo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 desarrollo del proyecto, apuntando a un margen de error no mayor a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10%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ambién se debe produci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lanes detallad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para la fase D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8620-A7A8-41C4-831B-859B73D5B0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eño Detallado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765440" y="3068640"/>
            <a:ext cx="6119640" cy="301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997B-45AF-43B3-8CA7-C4929245C2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opósito de esta fase e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tallar el diseñ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software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odificarl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arl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estearl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n forma concurrente con la codificación y testeo, se produce el Documento de Diseño Detallad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DD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 y el Manual de Software de Usuari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SUM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nicialmente, el DDD y SUM contienen las secciones correspondientes a los niveles superiores del sistema. A medida que el diseño progresa a niveles más bajos (código), se añaden sub-secciones relacion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64F-FD94-49DC-B541-F1CF414B31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l final de la fase, 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stán completos y, junto con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ódig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constituyen los ítems entregables de esta fa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urante esta fase, deben realizarse las actividades d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esteo unitari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 integrac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 sistem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acuerdo con los planes de verificación establecidos en las fases SR y AD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También deb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verificarse la calidad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77BE-1C05-43A1-A655-3689ABEB3B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os 3 entregables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DD, código fuente y SUM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stos deben ser revisados formalmente por los ingenieros de software y el administrador, durante el proceso de Revisión del Diseño Detallad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D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/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l final del proceso de revisión, el software puede considerarse como listo para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esteo de aceptación provision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9B9-3BAB-4927-AFB1-D3AF355E4F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476360" y="3068640"/>
            <a:ext cx="6480360" cy="331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30F7-FB4B-4EE8-AC37-B212EFD2AA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064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pósito de esta fase es establecer que 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oftware cumple con los requisitos de usuario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pecificados en el UR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o es hecho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instalando el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n la organización cliente y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alizando test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aceptación, con clientes/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i el software demuestra que provee las capacidades requeridas, entonces puede ser aceptado provisionalmente y con ello, puede empezar la oper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835C-D62D-4F72-8952-C63A403BA9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urante la fase TR, debe producirse el Documento de Transferencia de Software (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TD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), que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ocumente el proceso de transferenci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l software al equipo de oper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4CFF-E774-4BBA-B538-606FD9247B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9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ción y Manten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260360" y="3068640"/>
            <a:ext cx="6840720" cy="33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270F-0E4F-4318-A02C-67C862F11C1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8001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Una vez que el software ha entrado en operación, debe se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monitoreado cuidadosament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para confirmar que cumple con los requisitos definidos en el UR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gunos requisitos, tales como los referentes 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isponibilidad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puede tomar algún tiempo validarl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Cuando el software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ha pasado todos los test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 aceptación, entonces recién puede ser finalmente acep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2752-F091-4E44-8E2B-2C010E313F1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633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stándar de la ESA presenta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rco gener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que puede ser utilizado para abordar un proyecto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stándar establece la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cro-actividades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que deben hacerse en el proyecto, 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ol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involucrados, y 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roductos intermedi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que deberían obtener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unque en este curso nosotros utilizaremos una adaptación del estándar, éste nos servirá como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rco de refer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muchas activ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6659640" y="2789280"/>
            <a:ext cx="2484360" cy="186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EE3-3985-4B00-B9DD-02EC0AB097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01760" indent="-401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Documento de Historia del Proyecto (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HD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) resume la información administrativa de importancia, la cual se ha acumulado en el transcurso del proyect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documento debe ser generado después de la aceptación fi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se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-hecho al final del ciclo de vid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con información acumulada durante la fase OM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C3E-FE84-41F2-88CE-38797DFA345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Después de la aceptación final, el software puede ser modificado para corregir errores no detectados durante fases anteriores. A esto se le denomina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mantenimiento correctivo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También pueden aparecer nuevos requisitos que necesitan ser incorporados. A esto se le denomina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mantenimiento adaptativ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Durante todo el período de operación, se debe hacer un esfuerzo especial para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ntener la documentación al día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nformación sobr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fallas y caídas debe ser registrada 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para establecer datos para el establecimiento de métricas de calidad de software para proyectos siguient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660-4156-4A36-B590-85625DB456B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752480"/>
            <a:ext cx="7445520" cy="48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odelo de proceso a utilizar en el curso es una adaptación del modelo propuesto por la ES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adaptación apunta 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mplificar el modelo original, haciéndolo más aplicable a  proyectos chico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alizar un desarrollo incremental del producto final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umentar el paralelismo entre las tareas que realizan los miembros del equipo de trabaj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continuación se muestra la dinámica del modelo de proceso adaptad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3B7-91E6-413A-BCD4-D7A6E962DE5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3098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3403440"/>
            <a:ext cx="13716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nális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3403440"/>
            <a:ext cx="18288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Arial"/>
              </a:rPr>
              <a:t>Diseño / Implement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57800" y="3403440"/>
            <a:ext cx="76212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ransf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1480" y="2754360"/>
            <a:ext cx="106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020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954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831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640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449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639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452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6260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325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34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946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136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945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754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18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3962520"/>
            <a:ext cx="17524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nális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3962520"/>
            <a:ext cx="28069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seño / Implement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88400" y="3962520"/>
            <a:ext cx="3934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Arial"/>
              </a:rPr>
              <a:t>Tr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33720" y="271764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F29D-6BC3-4D8C-8FC1-FED15CD9DD8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2592360"/>
            <a:ext cx="67053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2795760"/>
            <a:ext cx="14349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14880" y="2795760"/>
            <a:ext cx="17776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92560" y="2795760"/>
            <a:ext cx="7621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 (2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9200" y="2247840"/>
            <a:ext cx="142560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493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3052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117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926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116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0925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738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802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6112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420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610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4422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8231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296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89320" y="3951360"/>
            <a:ext cx="18032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92560" y="3951360"/>
            <a:ext cx="274320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35760" y="3951360"/>
            <a:ext cx="4064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22114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5360" y="17524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nalist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17720" y="3201840"/>
            <a:ext cx="393696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46320" y="320184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74920" y="32018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05120" y="320184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57680" y="320184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86280" y="32018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16120" y="320184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01920" y="4344840"/>
            <a:ext cx="492768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17920" y="4344840"/>
            <a:ext cx="2808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59120" y="4344840"/>
            <a:ext cx="28116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89320" y="4344840"/>
            <a:ext cx="2160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92640" y="4344840"/>
            <a:ext cx="444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49840" y="4344840"/>
            <a:ext cx="2808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13280" y="4344840"/>
            <a:ext cx="26676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79560" y="580536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92160" y="602136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879560" y="5589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92160" y="6249960"/>
            <a:ext cx="22860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20760" y="5487840"/>
            <a:ext cx="624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Recopilación de Inform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Especificación de Requisi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Validación de Requisitos (con el cliente y/o con los diseñadores / implementadore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Control de Cumplimiento de Requisi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7058-FA03-45D6-B478-D83A215C603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2666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2870280"/>
            <a:ext cx="14349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67160" y="2870280"/>
            <a:ext cx="17780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45200" y="2870280"/>
            <a:ext cx="7617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 (2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71480" y="2322360"/>
            <a:ext cx="14256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020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954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767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831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640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449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639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452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260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325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134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946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136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945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9754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18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2360" y="4025880"/>
            <a:ext cx="17528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245200" y="4025880"/>
            <a:ext cx="27432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988400" y="4025880"/>
            <a:ext cx="4064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79560" y="2286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5120" y="182736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Diseño / Implement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70000" y="3276720"/>
            <a:ext cx="393696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73400" y="3276720"/>
            <a:ext cx="220968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5740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59400" y="4419720"/>
            <a:ext cx="382248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44800" y="6553080"/>
            <a:ext cx="22860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31200" y="4584600"/>
            <a:ext cx="838080" cy="84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57880" y="4419720"/>
            <a:ext cx="231120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32240" y="4584600"/>
            <a:ext cx="2298960" cy="85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031840" y="548640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44800" y="5702400"/>
            <a:ext cx="2286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31840" y="527040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44800" y="5931000"/>
            <a:ext cx="22860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38480" y="5129280"/>
            <a:ext cx="6437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reparación de Herramientas y Definición de Reglas de Funcionamien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Diseño del Prototip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mplementación del Prototip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ntrol de Cumplimiento del Diseñ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Diseño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mplementación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rrección y Ajuste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02000" y="3429000"/>
            <a:ext cx="27432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3429000"/>
            <a:ext cx="444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36840" y="31622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Dis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Impl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75120" y="431784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Dis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Impl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44800" y="6350040"/>
            <a:ext cx="228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44800" y="6146640"/>
            <a:ext cx="22860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8B7-C6D3-45DC-BBDF-4D7C8DCFBB0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895400" y="2666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95400" y="2870280"/>
            <a:ext cx="14353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305160" y="2870280"/>
            <a:ext cx="17780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83200" y="2870280"/>
            <a:ext cx="7621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2322360"/>
            <a:ext cx="14256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400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338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147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211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9020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29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023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832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640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705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2514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326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516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325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8138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2202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30720" y="4025880"/>
            <a:ext cx="175248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83200" y="4025880"/>
            <a:ext cx="27432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26400" y="4025880"/>
            <a:ext cx="4064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71720" y="2286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0600" y="182736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99"/>
                </a:solidFill>
                <a:latin typeface="Arial"/>
              </a:rPr>
              <a:t>Administración / Testing (~ SQA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08000" y="3276720"/>
            <a:ext cx="393732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89540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59320" y="4419720"/>
            <a:ext cx="466092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82800" y="6324480"/>
            <a:ext cx="22860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369200" y="4584600"/>
            <a:ext cx="685800" cy="7488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30720" y="4584600"/>
            <a:ext cx="4038480" cy="7488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870200" y="548640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82800" y="61340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70200" y="527040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111400" y="5168880"/>
            <a:ext cx="7086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nteracción con el Client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Monitoreo, Redefinición y Coordinación de Tareas (Guiar el Barco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Entrega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lanificación de Controles, y Definición del Tipo de Revisión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ntrol de Productos y Emisión de Alerta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rueba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340000" y="3429000"/>
            <a:ext cx="27432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95400" y="3429000"/>
            <a:ext cx="444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374840" y="31622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Adm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est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797200" y="430524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Adm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est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870200" y="5931000"/>
            <a:ext cx="2286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055000" y="4419720"/>
            <a:ext cx="152280" cy="7596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1672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30720" y="4419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70200" y="5715000"/>
            <a:ext cx="228600" cy="7632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99AB-6D2B-445F-BE4E-7504FE3B724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clusiones 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tándar de la ESA propone un conjunto de actividades para atacar el “ciclo de vida” de un proyecto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ede ser adaptado a la realidad de una empresa específic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ede ser aplicado en forma parcial, según la naturaleza del problema a resolve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 simple, por lo tanto, con poca práctica se puede hacer un buen uso de é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os podría ayudar a certificar ISO 9000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93C7-9ABF-4222-B1B9-AD8F8A40B67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Bibliografía y Cas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650"/>
              </a:spcBef>
              <a:spcAft>
                <a:spcPts val="104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. Sommerville, P. Sawyer. Requirements Engineering, A Good Practice Guide.Wiley, 199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1650"/>
              </a:spcBef>
              <a:spcAft>
                <a:spcPts val="104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. Robertson, J. Robertson. Mastering the Requirements Process. Addison-Wesley, 199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1650"/>
              </a:spcBef>
              <a:spcAft>
                <a:spcPts val="104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SA, SOFTWARE ENGINEERING STANDARDS, ISSUE 2. Preparado por: ESA Board for Software Standardisation and Control (BSSC). URL: </a:t>
            </a:r>
            <a:r>
              <a:rPr b="0" lang="es-CL" sz="24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www.estec.esa.nl/wmwww/WME/index.htm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1650"/>
              </a:spcBef>
              <a:spcAft>
                <a:spcPts val="1049"/>
              </a:spcAft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Material del Curso en U-Curs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1108-3AC0-492F-8CB4-1D6B9D0BA3D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Establece: Fases, Actividades e Hit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53179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iclo de vida del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se inicia cuando el producto de software se concibe, y termina cuando ya no está disponible para su uso (el producto es retirad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U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model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ciclo de vida defin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Fas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Objetiv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las fases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ctividad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que componen las fases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Hit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24360" y="4762440"/>
            <a:ext cx="3419640" cy="20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CE7-5776-4345-8D74-46C4596DB3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Fases en el Ciclo de Vida según la ES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UR: Definición de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Requisitos de Usuari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R: Definición de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Requisitos de Softwar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D: Definición del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Diseño Arquitectónic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D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Diseño Detalla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producción d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TR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TRansfer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software a oper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OM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Operación y Mantenimien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stos no son exactamente los pasos que nosotros vamos a seguir en 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4597-62FC-447F-B1A2-B99B711F62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29600" cy="513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9267-5AD4-49FA-9D2E-06BCC40F26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90680" y="1190520"/>
            <a:ext cx="8076960" cy="559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2A6A-1998-479D-96FE-91D4530F4A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72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981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 algn="just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Tahoma"/>
              </a:rPr>
              <a:t>Hitos principales</a:t>
            </a: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 que establece el estándar de la  ES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 algn="just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Requisitos de Usuario (UR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Requisitos de Software (SR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Diseño Arquitectónico (AD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Diseño Detallado  (DDD), el Manual de Software de Usuario (SUM), el código, y la declaración de terminación del producto por parte del desarrollador (da lugar a las pruebas de aceptación provisional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claración de aceptación provisional y la confección del Documento de Transferencia de Software (ST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claración de aceptación final y entrega del Documento de la Historia del Proyecto (PHD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5406-F7D9-4579-983A-962DD8C1BF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de Usuar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708200" y="3141720"/>
            <a:ext cx="5600520" cy="296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CCA3-841E-45E3-A89C-6494CDA807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4:54:06Z</dcterms:created>
  <dc:creator>Sergio Ochoa</dc:creator>
  <dc:description/>
  <dc:language>en-US</dc:language>
  <cp:lastModifiedBy>Sergio F. Ochoa</cp:lastModifiedBy>
  <cp:lastPrinted>2000-08-22T14:09:48Z</cp:lastPrinted>
  <dcterms:modified xsi:type="dcterms:W3CDTF">2007-04-03T12:26:24Z</dcterms:modified>
  <cp:revision>526</cp:revision>
  <dc:subject/>
  <dc:title>CC51A</dc:title>
</cp:coreProperties>
</file>