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D444-974C-42FF-BD3D-89CD6E61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913D-9C64-4445-8FAA-20E56BFB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CF87-99DB-46A2-9813-1B2162983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4A58-73F9-41B1-8F61-F06396509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708A-C21C-4E11-A253-962F54381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6FD1-08E1-40D2-A553-E37A63E3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2087-CFD9-4351-AFA4-8748EC0A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B5B6-0644-49D4-AD5E-511DFAEE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8F3F-2304-4B01-A4A5-955DBB58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7B20-DF8F-4E7E-8706-1C64F18F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DE78-D924-4687-85D2-E08DC15E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7530-0363-4E32-B4BD-F304F0B9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550D-456F-469E-A677-F04B4BFC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D3BB-F7EF-41B5-9867-A05BE1BC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E13E-1A01-4990-8BE4-A19C5AE6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9CE0-69BE-462C-824E-C5850B03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22E6-969B-4B19-A86E-A455DDC0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73AB-0A6E-46FF-9110-FE747AEF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C8F7-0CBC-4994-845E-A4025566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5E63-B7E6-4027-BBCE-9C639430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9052-E34D-432A-B71D-931429A2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79A9-2944-4221-AA46-34E1C036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CED1-C9A9-4F73-BA6B-B532516A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96E4-40B4-4297-ACDD-6317D9C3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FD46-F86B-4F6B-919B-27B5C816A87B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9468-D787-47D3-AF68-A22875C4D0A9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stec.esa.nl/wmwww/WME/index.html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301920"/>
            <a:ext cx="70358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El Estándar de Ingeniería de Software de la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“European Space Agency (ESA)”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83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Versión 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EE64-DB49-48B0-8EBB-3EA7907D46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Usuari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Fase d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finición del problem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presenta la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visión de</a:t>
            </a: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l cliente/usuari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y no necesariamente la del desarrollad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equisitos del usuari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ben ser “capturados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e usan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ntrevista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ncuesta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demos d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prototip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se recolectan formul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e debe generar un “Documento de Requisitos de Usuario”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(URD)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e debe hacer en forma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ápida y precis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CUIDADO: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s fácil demorarse aquí innecesariam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66EA-73A9-404D-A117-5F3C28D7CD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Usuari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640" y="1630080"/>
            <a:ext cx="7981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85000"/>
              </a:lnSpc>
              <a:spcBef>
                <a:spcPts val="788"/>
              </a:spcBef>
              <a:spcAft>
                <a:spcPts val="913"/>
              </a:spcAft>
              <a:buSzPct val="11316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El principal responsable del producto de esta fase es el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analista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5000"/>
              </a:lnSpc>
              <a:spcBef>
                <a:spcPts val="788"/>
              </a:spcBef>
              <a:spcAft>
                <a:spcPts val="913"/>
              </a:spcAft>
              <a:buSzPct val="11316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El apoyo de los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desarrolladores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 apunta al desarrollo de prototipos rápidos (para validar ideas o requisitos)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5000"/>
              </a:lnSpc>
              <a:spcBef>
                <a:spcPts val="788"/>
              </a:spcBef>
              <a:spcAft>
                <a:spcPts val="913"/>
              </a:spcAft>
              <a:buSzPct val="11316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Siempre debe producirse un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URD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. La revisión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(UR/R)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 es hecha por los usuarios/clientes, los ingenieros de software (de ambos bandos), el téster y el administrador del proyecto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5000"/>
              </a:lnSpc>
              <a:spcBef>
                <a:spcPts val="788"/>
              </a:spcBef>
              <a:spcAft>
                <a:spcPts val="913"/>
              </a:spcAft>
              <a:buSzPct val="11316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El principal responsable de todas las revisiones es el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téster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5000"/>
              </a:lnSpc>
              <a:spcBef>
                <a:spcPts val="788"/>
              </a:spcBef>
              <a:spcAft>
                <a:spcPts val="913"/>
              </a:spcAft>
              <a:buSzPct val="11316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48hs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 después de cualquier revisión se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debe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 entregar un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documento de revisión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, que indique las falencias encontradas. Esto también es responsabilidad del téster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5000"/>
              </a:lnSpc>
              <a:spcBef>
                <a:spcPts val="788"/>
              </a:spcBef>
              <a:spcAft>
                <a:spcPts val="913"/>
              </a:spcAft>
              <a:buSzPct val="11316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Antes de completar la UR/R debe construirse un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Plan de Administración del Proyecto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 de Software que muestre todas las fases siguientes, con estimación de recursos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75A3-CA2F-45C4-87AF-02785FF8A2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556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quisito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908000" y="3213000"/>
            <a:ext cx="5496120" cy="25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2722-6D69-4B25-9AAF-76C5D7EC96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135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80000"/>
              </a:lnSpc>
              <a:spcBef>
                <a:spcPts val="1225"/>
              </a:spcBef>
              <a:spcAft>
                <a:spcPts val="10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Fase de análisis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225"/>
              </a:spcBef>
              <a:spcAft>
                <a:spcPts val="10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principal responsable del producto de esta fase es el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nalist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225"/>
              </a:spcBef>
              <a:spcAft>
                <a:spcPts val="10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especific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lo que debe hacer el software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(para cumplir con los UR), y no cómo debe hacerl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225"/>
              </a:spcBef>
              <a:spcAft>
                <a:spcPts val="1049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presenta l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visión del desarrollador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y no necesariamente la del cliente/usu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225"/>
              </a:spcBef>
              <a:spcAft>
                <a:spcPts val="1049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 necesario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presentar prototipo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al cliente/usuario para clarificar requisitos de software y completar requisitos de 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7AEF-C4F3-4499-928A-04B88704A6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0920" y="163008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94280" indent="-494280">
              <a:lnSpc>
                <a:spcPct val="90000"/>
              </a:lnSpc>
              <a:spcBef>
                <a:spcPts val="1049"/>
              </a:spcBef>
              <a:spcAft>
                <a:spcPts val="9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ntregable principal es el “Documento de Requisitos de Software” </a:t>
            </a: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(SRD)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4280" indent="-494280">
              <a:lnSpc>
                <a:spcPct val="90000"/>
              </a:lnSpc>
              <a:spcBef>
                <a:spcPts val="1049"/>
              </a:spcBef>
              <a:spcAft>
                <a:spcPts val="9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ada proyecto de software debe tener este documen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4280" indent="-494280">
              <a:lnSpc>
                <a:spcPct val="90000"/>
              </a:lnSpc>
              <a:spcBef>
                <a:spcPts val="1049"/>
              </a:spcBef>
              <a:spcAft>
                <a:spcPts val="9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 ser revisado por los usuarios, los ingenieros de software, y por el administrador del proyecto, durante la “Revisión de Requisitos de Software” </a:t>
            </a: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(SR/R)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4280" indent="-494280">
              <a:lnSpc>
                <a:spcPct val="90000"/>
              </a:lnSpc>
              <a:spcBef>
                <a:spcPts val="1049"/>
              </a:spcBef>
              <a:spcAft>
                <a:spcPts val="901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incipal responsable de todas las revisiones es el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éster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4280" indent="-494280">
              <a:lnSpc>
                <a:spcPct val="90000"/>
              </a:lnSpc>
              <a:spcBef>
                <a:spcPts val="1049"/>
              </a:spcBef>
              <a:spcAft>
                <a:spcPts val="901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48h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spués de cualquier revisión s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be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ntregar un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ocumento de revis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que indique las falencias encontradas. Esto también es responsabilidad del tést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4A03-A949-4AE8-8AF5-73D40714FC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80000"/>
              </a:lnSpc>
              <a:spcBef>
                <a:spcPts val="1749"/>
              </a:spcBef>
              <a:spcAft>
                <a:spcPts val="1925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n esta fase se debe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visar el Plan de Administración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l Proyecto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749"/>
              </a:spcBef>
              <a:spcAft>
                <a:spcPts val="1925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realizan los mejores esfuerzos para tener estimaciones con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errores no mayores al 30%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749"/>
              </a:spcBef>
              <a:spcAft>
                <a:spcPts val="1925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be construirse un plan detallado para la fase 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749"/>
              </a:spcBef>
              <a:spcAft>
                <a:spcPts val="1925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be omitirse terminología de implement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216E-8A6D-4EFA-AA0F-49B9E47FE0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6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620720" y="3121200"/>
            <a:ext cx="6336000" cy="354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D448-BE16-4AE9-A71E-5C62C2EBAD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70028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propósito es definir l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estructura del softwar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 Los requisitos de software son un punto de parti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hace un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modelo general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 la solución con sus macro-compon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le asignan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funcione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a los componentes de software y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define el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control y flujo de datos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ntre ell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F305-E0A9-4598-9ABB-A50250C03F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a fase puede considerar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varias iteraciones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l diseñ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ben ser identificadas las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dificultades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técnicas o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partes crítica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l diseñ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uede ser necesario realizar prototipos del software par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confirmar las suposiciones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básicas del diseñ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7B4F-5A7A-4E12-A1EF-52C139B2D0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135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ítem entregable que constituye la salida formal de esta fase es el Documento de Diseño Arquitectónico (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ADD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ADD debe ser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formalmente revisad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or los ingenieros de software, por los usuarios, y por el administrador del proyecto, durante el proceso de Revisión del Diseño Arquitectónico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AD/R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incipal responsable de todas las revisiones es el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éster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825"/>
              </a:spcBef>
              <a:spcAft>
                <a:spcPts val="1375"/>
              </a:spcAft>
              <a:buSzPct val="1132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40458c"/>
                </a:solidFill>
                <a:uFillTx/>
                <a:latin typeface="Tahoma"/>
              </a:rPr>
              <a:t>48hs</a:t>
            </a: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 después de cualquier revisión se </a:t>
            </a:r>
            <a:r>
              <a:rPr b="1" lang="es-CL" sz="2200" spc="-1" strike="noStrike" u="sng">
                <a:solidFill>
                  <a:srgbClr val="40458c"/>
                </a:solidFill>
                <a:uFillTx/>
                <a:latin typeface="Tahoma"/>
              </a:rPr>
              <a:t>debe</a:t>
            </a: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 entregar un </a:t>
            </a:r>
            <a:r>
              <a:rPr b="1" lang="es-CL" sz="2200" spc="-1" strike="noStrike" u="sng">
                <a:solidFill>
                  <a:srgbClr val="40458c"/>
                </a:solidFill>
                <a:uFillTx/>
                <a:latin typeface="Tahoma"/>
              </a:rPr>
              <a:t>documento de revisión</a:t>
            </a: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, que indique las falencias encontradas. Esto también es responsabilidad del téste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DE20-DB35-42AE-A137-15E5B28378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599"/>
              </a:spcBef>
              <a:spcAft>
                <a:spcPts val="1599"/>
              </a:spcAft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ntroducción al Estánd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599"/>
              </a:spcBef>
              <a:spcAft>
                <a:spcPts val="1599"/>
              </a:spcAft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Fase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599"/>
              </a:spcBef>
              <a:spcAft>
                <a:spcPts val="1599"/>
              </a:spcAft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Actividades, 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599"/>
              </a:spcBef>
              <a:spcAft>
                <a:spcPts val="1599"/>
              </a:spcAft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Hitos establecidos por el Estánda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599"/>
              </a:spcBef>
              <a:spcAft>
                <a:spcPts val="1599"/>
              </a:spcAft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869A-70F4-4A96-A29D-EC59B905EF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7981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7200" indent="-457200">
              <a:spcBef>
                <a:spcPts val="1049"/>
              </a:spcBef>
              <a:spcAft>
                <a:spcPts val="17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urante la fase AD, debe construirse un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Plan de Administración de Proyecto de Softwar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que describa el resto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049"/>
              </a:spcBef>
              <a:spcAft>
                <a:spcPts val="17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e plan debe contener un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estimación del esfuerzo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 desarrollo del proyecto, apuntando a un margen de error no mayor al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10%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049"/>
              </a:spcBef>
              <a:spcAft>
                <a:spcPts val="17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También se debe producir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planes detallado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para la fase D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CCF9-F94B-4B57-A8E0-BD1313F3E9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77240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seño Detallado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y P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765440" y="3068640"/>
            <a:ext cx="6119640" cy="301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7C93-17B4-47F2-8E79-7BBBF35A4F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Detallado y P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opósito de esta fase e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tallar el diseñ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l software,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codificarl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ocumentarl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estearl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n forma concurrente con la codificación y testeo, se produce el Documento de Diseño Detallado (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DD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) y el Manual de Software de Usuario (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SUM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Inicialmente, el DDD y SUM contienen las secciones correspondientes a los niveles superiores del sistema. A medida que el diseño progresa a niveles más bajos (código), se añaden sub-secciones relacion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BBB5-BC12-4026-993A-FC13C772E9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Detallado y P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l final de la fase, lo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ocument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stán completos y, junto con el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códig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constituyen los ítems entregables de esta fa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urante esta fase, deben realizarse las actividades d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esteo unitari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 integrac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 sistem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acuerdo con los planes de verificación establecidos en las fases SR y AD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También deb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verificarse la calidad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l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A321-42F1-4C05-A0F7-D0B5B7BC31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Detallado y P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8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os 3 entregables (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DD, código fuente y SUM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stos deben ser revisados formalmente por los ingenieros de software y el administrador, durante el proceso de Revisión del Diseño Detallado (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D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/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l final del proceso de revisión, el software puede considerarse como listo para el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esteo de aceptación provisional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incipal responsable de todas las revisiones es el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éster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48h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spués de cualquier revisión s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be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ntregar un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ocumento de revis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que indique las falencias encontradas. Esto también es responsabilidad del tést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6524-A5FE-4B8D-88CF-FF03559A1DC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476360" y="3068640"/>
            <a:ext cx="6480360" cy="331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A2A0-7729-4B29-B95F-C989C12FD78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064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propósito de esta fase es establecer que el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software cumple con los requisitos de usuario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pecificados en el UR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o es hecho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instalando el softwar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en la organización cliente y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alizando test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 aceptación, con clientes/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i el software demuestra que provee las capacidades requeridas, entonces puede ser aceptado provisionalmente y con ello, puede empezar la oper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8857-A27E-4935-9A43-7B5C3955340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urante la fase TR, debe producirse el Documento de Transferencia de Software (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STD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), que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documente el proceso de transferenci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l software al equipo de operacio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42DA-CB93-4486-858D-9E6217222AD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9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peración y Manten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260360" y="3068640"/>
            <a:ext cx="6840720" cy="339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8124-FAD5-448C-8FDC-B96380B446C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60066"/>
                </a:solidFill>
                <a:latin typeface="Tahoma"/>
              </a:rPr>
              <a:t>Fase de Operación y Mantenimient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8001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Una vez que el software ha entrado en operación, debe ser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monitoreado cuidadosament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para confirmar que cumple con los requisitos definidos en el UR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lgunos requisitos, tales como los referentes 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disponibilidad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puede tomar algún tiempo validarlo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Cuando el software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ha pasado todos los tests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 aceptación, entonces recién puede ser finalmente acept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26FA-5C88-4557-8818-D4612B83D0E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633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stándar de la ESA presenta un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rco general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que puede ser utilizado para abordar un proyecto de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stándar establece la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cro-actividades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que deben hacerse en el proyecto, lo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ol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involucrados, y lo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productos intermedi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que deberían obtener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unque en este curso nosotros utilizaremos una adaptación del estándar, éste nos servirá como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rco de referenci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 muchas actividad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6659640" y="2789280"/>
            <a:ext cx="2484360" cy="186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C223-CBB7-4EB5-A4B4-37A90016A8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60066"/>
                </a:solidFill>
                <a:latin typeface="Tahoma"/>
              </a:rPr>
              <a:t>Fase de Operación y Mantenimient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01760" indent="-401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Documento de Historia del Proyecto (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PHD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) resume la información administrativa de importancia, la cual se ha acumulado en el transcurso del proyect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01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e documento debe ser generado después de la aceptación fi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01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be ser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-hecho al final del ciclo de vid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con información acumulada durante la fase OM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7A9D-8D57-4585-8641-508E0648BB9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60066"/>
                </a:solidFill>
                <a:latin typeface="Tahoma"/>
              </a:rPr>
              <a:t>Fase de Operación y Mantenimient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Después de la aceptación final, el software puede ser modificado para corregir errores no detectados durante fases anteriores. A esto se le denomina </a:t>
            </a:r>
            <a:r>
              <a:rPr b="1" lang="es-CL" sz="2200" spc="-1" strike="noStrike" u="sng">
                <a:solidFill>
                  <a:srgbClr val="40458c"/>
                </a:solidFill>
                <a:uFillTx/>
                <a:latin typeface="Tahoma"/>
              </a:rPr>
              <a:t>mantenimiento correctivo</a:t>
            </a: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También pueden aparecer nuevos requisitos que necesitan ser incorporados. A esto se le denomina </a:t>
            </a:r>
            <a:r>
              <a:rPr b="1" lang="es-CL" sz="2200" spc="-1" strike="noStrike" u="sng">
                <a:solidFill>
                  <a:srgbClr val="40458c"/>
                </a:solidFill>
                <a:uFillTx/>
                <a:latin typeface="Tahoma"/>
              </a:rPr>
              <a:t>mantenimiento adaptativ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Durante todo el período de operación, se debe hacer un esfuerzo especial para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ntener la documentación al día</a:t>
            </a: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Información sobr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fallas y caídas debe ser registrada </a:t>
            </a: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para establecer datos para el establecimiento de métricas de calidad de software para proyectos siguiente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A8FF-C355-4F08-890B-32F33DAE1AF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838080" y="1752480"/>
            <a:ext cx="7445520" cy="48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modelo de proceso a utilizar en el curso es una adaptación del modelo propuesto por la ES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adaptación apunta a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mplificar el modelo original, haciéndolo más aplicable a  proyectos chico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alizar un desarrollo incremental del producto final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umentar el paralelismo entre las tareas que realizan los miembros del equipo de trabaj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continuación se muestra la dinámica del modelo de proceso adaptad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8012-8F0D-48F9-B4E1-25353C0F819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2057400" y="3098880"/>
            <a:ext cx="67057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3403440"/>
            <a:ext cx="13716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nálisi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29000" y="3403440"/>
            <a:ext cx="18288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Arial"/>
              </a:rPr>
              <a:t>Diseño / Implement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257800" y="3403440"/>
            <a:ext cx="76212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ransf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71480" y="2754360"/>
            <a:ext cx="106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Seman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Fase 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Fase 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0200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9548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7672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8316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6404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4492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6396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4520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62608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3252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1340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9464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21368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59456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97544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38188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29000" y="3962520"/>
            <a:ext cx="175248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nálisi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81480" y="3962520"/>
            <a:ext cx="28069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seño / Implementació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88400" y="3962520"/>
            <a:ext cx="39348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Arial"/>
              </a:rPr>
              <a:t>Tr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33720" y="271764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1   2     3    4    5    6    7     8    9   10  11  12  13   14 15  16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DA5E-244F-4FAE-88AB-88127873822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1905120" y="2592360"/>
            <a:ext cx="67053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05120" y="2795760"/>
            <a:ext cx="143496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1 (3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314880" y="2795760"/>
            <a:ext cx="177768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1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92560" y="2795760"/>
            <a:ext cx="7621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1 (2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9200" y="2247840"/>
            <a:ext cx="1425600" cy="32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Sema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Referenci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4936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2408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3052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1176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29264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71168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09256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7380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8024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26112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64200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06104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44228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82316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22960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89320" y="3951360"/>
            <a:ext cx="180324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2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092560" y="3951360"/>
            <a:ext cx="274320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2 (7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835760" y="3951360"/>
            <a:ext cx="40644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81080" y="221148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1   2     3    4    5    6    7     8    9   10  11  12  13   14 15  16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5360" y="17524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Analist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17720" y="3201840"/>
            <a:ext cx="3936960" cy="7632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146320" y="320184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74920" y="3201840"/>
            <a:ext cx="2286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05120" y="3201840"/>
            <a:ext cx="228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57680" y="320184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86280" y="3201840"/>
            <a:ext cx="2286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16120" y="3201840"/>
            <a:ext cx="228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301920" y="4344840"/>
            <a:ext cx="4927680" cy="7632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517920" y="4344840"/>
            <a:ext cx="2808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59120" y="4344840"/>
            <a:ext cx="28116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89320" y="4344840"/>
            <a:ext cx="2160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92640" y="4344840"/>
            <a:ext cx="444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749840" y="4344840"/>
            <a:ext cx="2808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13280" y="4344840"/>
            <a:ext cx="26676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79560" y="580536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892160" y="6021360"/>
            <a:ext cx="2286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879560" y="5589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92160" y="6249960"/>
            <a:ext cx="228600" cy="7632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120760" y="5487840"/>
            <a:ext cx="6248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Recopilación de Informació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Especificación de Requisit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Validación de Requisitos (con el cliente y/o con los diseñadores / implementadore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Control de Cumplimiento de Requisit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812F-C9A9-4969-AD10-5D6F73FE1AD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2666880"/>
            <a:ext cx="67057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057400" y="2870280"/>
            <a:ext cx="143496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1 (3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67160" y="2870280"/>
            <a:ext cx="177804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1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45200" y="2870280"/>
            <a:ext cx="76176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1 (2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71480" y="2322360"/>
            <a:ext cx="142560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Sema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Referencias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020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8954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767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831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640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449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639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452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6260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325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4134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946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2136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5945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9754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818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92360" y="4025880"/>
            <a:ext cx="175284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2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245200" y="4025880"/>
            <a:ext cx="27432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2 (7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988400" y="4025880"/>
            <a:ext cx="40644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879560" y="22860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1   2     3    4    5    6    7     8    9   10  11  12  13   14 15  16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25120" y="182736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Diseño / Implementa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70000" y="3276720"/>
            <a:ext cx="3936960" cy="7596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73400" y="3276720"/>
            <a:ext cx="2209680" cy="7596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057400" y="3276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59400" y="4419720"/>
            <a:ext cx="3822480" cy="7596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044800" y="6553080"/>
            <a:ext cx="22860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531200" y="4584600"/>
            <a:ext cx="838080" cy="84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57880" y="4419720"/>
            <a:ext cx="231120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232240" y="4584600"/>
            <a:ext cx="2298960" cy="8568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031840" y="548640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44800" y="5702400"/>
            <a:ext cx="2286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031840" y="5270400"/>
            <a:ext cx="228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44800" y="5931000"/>
            <a:ext cx="228600" cy="7596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38480" y="5129280"/>
            <a:ext cx="6437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Preparación de Herramientas y Definición de Reglas de Funcionamien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Diseño del Prototip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Implementación del Prototip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ontrol de Cumplimiento del Diseñ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Diseño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Implementación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orrección y Ajuste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502000" y="3429000"/>
            <a:ext cx="27432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057400" y="3429000"/>
            <a:ext cx="444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36840" y="316224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80808"/>
                </a:solidFill>
                <a:latin typeface="Arial"/>
              </a:rPr>
              <a:t>Dis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80808"/>
                </a:solidFill>
                <a:latin typeface="Arial"/>
              </a:rPr>
              <a:t>Impl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975120" y="431784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80808"/>
                </a:solidFill>
                <a:latin typeface="Arial"/>
              </a:rPr>
              <a:t>Dis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80808"/>
                </a:solidFill>
                <a:latin typeface="Arial"/>
              </a:rPr>
              <a:t>Impl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044800" y="6350040"/>
            <a:ext cx="2286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044800" y="6146640"/>
            <a:ext cx="22860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9E7A-10AF-4323-997E-E7CF447E3EA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1895400" y="2666880"/>
            <a:ext cx="67057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95400" y="2870280"/>
            <a:ext cx="14353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1 (3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305160" y="2870280"/>
            <a:ext cx="177804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83200" y="2870280"/>
            <a:ext cx="7621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480" y="2322360"/>
            <a:ext cx="142560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Sema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Referencias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400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7338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147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211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9020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29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023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832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4640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705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2514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326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0516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4325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8138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2202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30720" y="4025880"/>
            <a:ext cx="175248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2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83200" y="4025880"/>
            <a:ext cx="27432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2 (7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26400" y="4025880"/>
            <a:ext cx="40644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971720" y="22860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1   2     3    4    5    6    7     8    9   10  11  12  13   14 15  16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60600" y="1827360"/>
            <a:ext cx="49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99"/>
                </a:solidFill>
                <a:latin typeface="Arial"/>
              </a:rPr>
              <a:t>Administración / Testing (~ SQA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08000" y="3276720"/>
            <a:ext cx="3937320" cy="75960"/>
          </a:xfrm>
          <a:prstGeom prst="rect">
            <a:avLst/>
          </a:prstGeom>
          <a:solidFill>
            <a:srgbClr val="99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895400" y="3276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59320" y="4419720"/>
            <a:ext cx="4660920" cy="75960"/>
          </a:xfrm>
          <a:prstGeom prst="rect">
            <a:avLst/>
          </a:prstGeom>
          <a:solidFill>
            <a:srgbClr val="99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82800" y="6324480"/>
            <a:ext cx="22860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369200" y="4584600"/>
            <a:ext cx="685800" cy="7488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30720" y="4584600"/>
            <a:ext cx="4038480" cy="7488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870200" y="548640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82800" y="6134040"/>
            <a:ext cx="2286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870200" y="5270400"/>
            <a:ext cx="228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111400" y="5168880"/>
            <a:ext cx="70866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Interacción con el Client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Monitoreo, Redefinición y Coordinación de Tareas (Guiar el Barco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Entrega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Planificación de Controles, y Definición del Tipo de Revisión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ontrol de Productos y Emisión de Alerta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Prueba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340000" y="3429000"/>
            <a:ext cx="27432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895400" y="3429000"/>
            <a:ext cx="4446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374840" y="316224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Adm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Test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797200" y="430524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Adm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Test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870200" y="5931000"/>
            <a:ext cx="22860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055000" y="4419720"/>
            <a:ext cx="152280" cy="7596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616720" y="3276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330720" y="4419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70200" y="5715000"/>
            <a:ext cx="228600" cy="7632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5021-18F9-453E-AFA6-CB5329234A66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clusiones 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l estándar de la ESA propone un conjunto de actividades para atacar el “ciclo de vida” de un proyecto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uede ser adaptado a la realidad de una empresa específic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uede ser aplicado en forma parcial, según la naturaleza del problema a resolve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 simple, por lo tanto, con poca práctica se puede hacer un buen uso de é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Nos podría ayudar a certificar ISO 9000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182D-42BC-435E-8059-00559ACB34C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Bibliografía y Cas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650"/>
              </a:spcBef>
              <a:spcAft>
                <a:spcPts val="104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I. Sommerville, P. Sawyer. Requirements Engineering, A Good Practice Guide.Wiley, 1999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1650"/>
              </a:spcBef>
              <a:spcAft>
                <a:spcPts val="104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. Robertson, J. Robertson. Mastering the Requirements Process. Addison-Wesley, 1999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1650"/>
              </a:spcBef>
              <a:spcAft>
                <a:spcPts val="104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SA, SOFTWARE ENGINEERING STANDARDS, ISSUE 2. Preparado por: ESA Board for Software Standardisation and Control (BSSC). URL: </a:t>
            </a:r>
            <a:r>
              <a:rPr b="0" lang="es-CL" sz="24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http://www.estec.esa.nl/wmwww/WME/index.htm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1650"/>
              </a:spcBef>
              <a:spcAft>
                <a:spcPts val="1049"/>
              </a:spcAft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Material del Curso en U-Curs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0437-19C1-49C1-89F1-372E30912A8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Establece: Fases, Actividades e Hit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53179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ciclo de vida del softwar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se inicia cuando el producto de software se concibe, y termina cuando ya no está disponible para su uso (el producto es retirado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Un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modelo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 ciclo de vida defin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Fas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Objetiv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las fases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Actividad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que componen las fases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Hit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724360" y="4762440"/>
            <a:ext cx="3419640" cy="209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A7EB-BBFF-4F3D-A050-1A94F2FCB9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135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Fases en el Ciclo de Vida según la ES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UR: Definición de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Requisitos de Usuari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R: Definición de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Requisitos de Software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D: Definición del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Diseño Arquitectónic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D: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Diseño Detallad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producción del códig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TR: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TRansferenci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l software a opera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OM: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Operación y Mantenimient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stos no son exactamente los pasos que nosotros vamos a seguir en el proyec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2E06-1A3F-4519-B228-417CD60521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8229600" cy="513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A25C-7CE3-4B9E-96D1-A28271C3DC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90680" y="1190520"/>
            <a:ext cx="8076960" cy="559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DA32-1F16-4352-A083-F636961268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724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981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 algn="just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Tahoma"/>
              </a:rPr>
              <a:t>Hitos principales</a:t>
            </a: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 que establece el estándar de la  ES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8320" indent="-357840" algn="just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robación del Documento de Requisitos de Usuario (URD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8320" indent="-35784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robación del Documento de Requisitos de Software (SRD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8320" indent="-35784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robación del Documento de Diseño Arquitectónico (ADD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8320" indent="-35784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robación del Documento de Diseño Detallado  (DDD), el Manual de Software de Usuario (SUM), el código, y la declaración de terminación del producto por parte del desarrollador (da lugar a las pruebas de aceptación provisional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8320" indent="-35784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eclaración de aceptación provisional y la confección del Documento de Transferencia de Software (STD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8320" indent="-35784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eclaración de aceptación final y entrega del Documento de la Historia del Proyecto (PHD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D655-31BA-427E-B6F1-8EC75DBDA5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6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quisitos de Usuar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708200" y="3141720"/>
            <a:ext cx="5600520" cy="296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47D0-A778-427A-944E-AC19E83B1B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04:54:06Z</dcterms:created>
  <dc:creator>Sergio Ochoa</dc:creator>
  <dc:description/>
  <dc:language>en-US</dc:language>
  <cp:lastModifiedBy>Sergio F. Ochoa</cp:lastModifiedBy>
  <cp:lastPrinted>2000-08-22T14:09:48Z</cp:lastPrinted>
  <dcterms:modified xsi:type="dcterms:W3CDTF">2007-04-03T12:26:24Z</dcterms:modified>
  <cp:revision>526</cp:revision>
  <dc:subject/>
  <dc:title>CC51A</dc:title>
</cp:coreProperties>
</file>