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2177-41D3-4974-86B7-95169382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7955-9037-48C6-B306-4F138731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831-2697-4308-95CE-C921A6F0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AA13-83DF-4D09-9EF7-07163FB4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A967-E6F7-47B2-9055-5E1FCC5F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2E63-CED5-41AA-98E0-857E3DBE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736C-FCDA-4BE0-9EC4-A6F9D953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CB02-5430-4599-8761-605381EF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BA90-8299-4189-B329-1F660EE7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462B-E760-4897-8807-464B3392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BCC6-4AA9-444F-9294-E29F0361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CEB2-7C58-492A-A5B1-3BD4872F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6020-1331-4545-ABC8-F0FCCC02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D4FE-A1F3-46B3-B5EF-D14D1D43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630E-33B7-4FAE-9196-FBB71EE0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1DE0-1D3D-4620-9FB4-4BD7D801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3EA1-3575-45A7-B239-CD32D79E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DB8-2430-4AB2-B1AD-E2766E55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5863-12FD-4AA5-92E1-6AE0A858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432-667E-4F47-B51A-D7945ACF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A14A-20FE-4E47-A8C3-02961897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A7D3-33B5-4B36-8BC9-6D9D80EC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EEBC-411D-460E-A80C-621B6539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085F-E58B-4276-8B0C-6FF13B15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23FD-6063-4280-A4B6-05112E8D51A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E8D4-7EA1-4E17-B276-03F5E90AF81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Modelos de Desarrollo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3 - Versión 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de &amp; Fix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8800" y="1523520"/>
            <a:ext cx="8305920" cy="492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de &amp; Fix =  Desarrollo guiado por el código (o por el programador)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 No se planifica ni se diseña formal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significaría en nuestro proyecto aplicar code and fix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término de previsibilidad del proceso y 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pacidad de sincronización del esfuerz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roductiv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lidad de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236000" y="4940280"/>
            <a:ext cx="1873080" cy="18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14400" y="1676520"/>
          <a:ext cx="525780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525780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685800" y="5191200"/>
            <a:ext cx="813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Arial"/>
              </a:rPr>
              <a:t>El modelo de cascada aunque algo desprestigiado continúa siendo usado para visualizar las etapas de desarrollo (¿cómo debería avanzarse?) y funciona bien si no hay grandes sorpres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1523880"/>
            <a:ext cx="8153280" cy="52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el modelo de cascada puro no hay realimentación entre las distintas etap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ambién se usa el modelo con feedback hacia atrá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pendiendo de la versión, posee entre 5 y 10 actividades fundamenta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Útil en la identificación de las actividades fundamentales (que aparecen en cualquier proceso) y la definición de los documentos de entrega (deliverables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Los problemas más importantes de este modelo son: (a) que no maneja los riesgos y (b) que obtiene un producto demasiado tard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752480" y="1571760"/>
            <a:ext cx="5164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crement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125360" y="1828800"/>
          <a:ext cx="7118640" cy="23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1828800"/>
                    <a:ext cx="7118640" cy="23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838080" y="4952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Arial"/>
              </a:rPr>
              <a:t>La idea es combinar los elementos del tradicional modelo de cascada con la filosofía de prototipos (usada principalmente en la etapa de definición de requisito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crement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1413000"/>
            <a:ext cx="4897440" cy="58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junto de cascadas desarrolladas en forma escalonad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da cascada genera un incremento del softwar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jemplo: Word Processo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imer incremento: edición y formateo básico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gundo incremento: párrafos y document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ercer incremento: spelling y gramátic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uarto incremento: layout avanzado, etc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532480" y="1916280"/>
            <a:ext cx="361152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crement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1557360"/>
            <a:ext cx="813564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ada incremento representa una versión reducida del producto fina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Que puede ser validado de inmediato por el usuari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una buena preparación para la vida evolutiva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difícil obtener una buena segmentación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difícil incorporar cambios (respecto a lo que se pretende obtener), una vez que el proyecto está en march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6400800" cy="31795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09480" y="534816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Objetiv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Proveer una estructura para el diseño de procesos de producción de software, guiado por los </a:t>
            </a: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iveles de riesgo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del proyecto a desarrolla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puede ser visto como un “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etamodelo”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pues cualquier modelo de proceso puede ser enmarcado en é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cion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Riesgo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Circunstancias potencialmente adversas que pueden perjudicar el proceso de desarrollo o la calidad 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anejo del Riesgo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“Disciplina cuyos objetivos son identificar, manejar y eliminar los elementos de riesgo del software, antes que se conviertan en problemas”  B.W. Boeh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se basa en la identificación y eliminación de problemas de alto riesgo a través de un proceso de diseño cuidado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tiene como característica principal que es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íclico y no lineal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radio del espiral marca el costo acumulado en el proceso, mientras que la dimensión angular representa el progreso dentro d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ndo no existe riesgo, el modelo en espiral puede reducirse a un modelo en casc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Objetivo de la Presenta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ostrar diferentes formas de organizar el desarrollo de software según el avance de la informá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alizar los “ciclos de vida” más representat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structura de la Presenta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ción y Objetivos de los Modelos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volución de estos mode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clus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ementos de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Técnicas de mane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1-  Carencias del personal.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Staff calificado, equipo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trenamiento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2- Cronogramas y presupuestos    -  Estimación de cronogra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realistas.                               y costos detallados, reuso de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experiencia previ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3- Desarrollo de funcion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organizado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quivocada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prototip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- Desarrollo de interfas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Prototipos, escenarios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quivocada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caracterización de usu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5- “Gold plating”...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costo-benefic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6- Continuos cambios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Ocultamiento de información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quisito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desarrollo incremen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636560"/>
            <a:ext cx="7721640" cy="506916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471760"/>
            <a:ext cx="77565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1676520"/>
            <a:ext cx="0" cy="51814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ementos de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Técnicas de mane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7- Carencias en componentes       -  Análisis de compatibilidad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xternos (soft, hard, etc).          benchmarks, inspec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8- Carencias en tarea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-  Control de referencia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esarrolladas en forma              contratos cuidadosos,   externa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selección de subcontrat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9- Carencias de performanc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Simulación, prototipos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 tiempo real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 benchmark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10- Forzar la computación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técnico, prototipos y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honestid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636560"/>
            <a:ext cx="7721640" cy="476424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2529000"/>
            <a:ext cx="77565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1676520"/>
            <a:ext cx="0" cy="47480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onent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5257800" cy="2536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96960" y="4286160"/>
            <a:ext cx="776124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onent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676520"/>
            <a:ext cx="7848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desarrollo basado en componentes contempla la construcción de sistemas, a través del ensamble de módulos predefinidos (componentes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os módulos son genéricos (sirven para más de un sistema), configurables, y pueden ser desarrollados por cualquier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Para que esto sea factible, los módulos deben adherir a una especificación de componentes de software como: JavaBeans, ActiveX, EJB, COM, DCOM, etc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desarrollo basado en componentes tiene un sin número de ventajas, en lo relacionado con el tiempo y costo de desarrollo, y también en lo que respecta a la calidad del producto final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UP (Rational Unified Proces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76760" cy="48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UP (Rational Unified Proces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1676520"/>
            <a:ext cx="784836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 un modelo moderno, que incorpora las recomendaciones (buenas prácticas) de la ingeniería de softwar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iene mucho respaldo, pero es un tanto complejo (se requiere entrenamiento par usarlo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á muy atado a UML (Unified Modeling Language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Hasta el momento, sólo ha demostrado ser uno má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 diferencia del resto, RUP considera la arquitectura como una pieza clave del desarroll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es demasiado fuerte para apoyar el desarrollo de proyectos Web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ebE (Web Engineering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20001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1" name="pressman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ebE (Web Engineering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1676520"/>
            <a:ext cx="784836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 modelo moderno, aplicable a proyectos Web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do por R. Pressman en 1998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el primer modelo diseñado específicamente para desarrollar proyectos Web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nque hay otros como RMM, y OOHDM que proponen alternativas a WebE, pero que vienen del lado de los sistemas hipermedia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WebE aún no ha sido probado lo suficiente, y por ahora es sólo una buena propuest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treme Programm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1676520"/>
            <a:ext cx="7848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a práctica ágil (no burocrática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a filosofía de desarrollo, no una metodologí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volucra ir descubriendo la solución, en la medida que se va avanzando en el desarroll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2843280" y="4292640"/>
            <a:ext cx="3419280" cy="23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treme Programm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31028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Involuc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ca document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cha interacción con el cliente/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ácticas específicas, como por ejemplo: pair-programming, pair- designing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6115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4608360" cy="476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40458c"/>
                </a:solidFill>
                <a:latin typeface="Tahoma"/>
              </a:rPr>
              <a:t>Proceso de producción de softwar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Actividades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que se realizan para la construcción, liberación y evolución de un producto de software, comenzando con el estudio de una idea y finalizando con el retiro final del sistem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40458c"/>
                </a:solidFill>
                <a:latin typeface="Tahoma"/>
              </a:rPr>
              <a:t>Ciclo de Vid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modelos estructurados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de software muestran más claramente los </a:t>
            </a: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ciclos de vida 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del software…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El ciclo de vida </a:t>
            </a: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describe los estados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por los que pasa un producto de software, desde su concepción hasta su muert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230800" y="2060640"/>
            <a:ext cx="38782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de software debe ser guiado por un modelo, como forma de disciplinar, organizar y gerenciar las activ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debe ser definido por la organización y adaptado a cada proyecto en particul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s actividades que deben cumplirse en el proceso de desarrollo son básicamente las que establece el modelo en casc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debe ser lo suficientemente flexible como para incorporar el principio de ANTICIPACION AL CAMB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lo posible debe utilizarse un desarrollo incremental, con entregas parciales al usuario (modelo evolutivo, incremental o espiral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ara los productos que así lo ameriten, realizar análisis de riesgo (modelo espiral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sulta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4000" y="3573000"/>
            <a:ext cx="7885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¿Cuál es el mejor modelo de desarroll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272360" y="1343160"/>
            <a:ext cx="1476360" cy="10778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4067280" y="1916280"/>
            <a:ext cx="1728720" cy="13032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900000" y="1700280"/>
            <a:ext cx="2005200" cy="10414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900000" y="4797360"/>
            <a:ext cx="2376720" cy="993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4067280" y="5805360"/>
            <a:ext cx="2663640" cy="8859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>
            <a:off x="6877080" y="4797360"/>
            <a:ext cx="1946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eguntas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el problema está poco claro, qué u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el problema está muy claro y acotado, qué u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el problema es grande, qué u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el problema es chico, qué u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mi empresa ya tiene un modelo de desarrollo, qué u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el sistema tiene muchas interfaces de usuario, qué u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el no tengo gente con el expertice necesario, qué u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554328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meta de un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odelo estructurado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proceso es determinar el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orden de las etapa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que componen el desarrollo y la evolución de un software, estableciendo los “criterios de transición” para progresar de una etapa a la siguient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modelos están hechos para contestar las siguientes preguntas en un proyecto de softwa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231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-¿Qué debemos hacer a continuación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31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-¿Cuánto tiempo debemos continuar haciéndolo?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”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(B.Bohem 1988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310440" y="1341360"/>
            <a:ext cx="283356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5904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Beneficios de los modelo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Proveen de guías 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a los ingenieros de software, a cerca del orden en el cual deben ser llevadas a cabo las variadas actividades técnic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Dan un marco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o estructura para gerenciar, desarrollar y mantener un desarrollo, lo cual nos permite: estimar recursos, definir hitos intermedios y monitorear los progreso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Anticipan y controlan el proceso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para alcanzar las cualidades deseadas del softwar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Sistematizan el proceso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con el uso de estándares, metodologías y herramient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Permiten la producción de productos </a:t>
            </a: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confiables, predecibles y eficiente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588000" y="2060640"/>
            <a:ext cx="2556000" cy="1955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948360" y="5373720"/>
            <a:ext cx="187164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ción de Model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delos o Estrategias de Desarrol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ode &amp; Fix Model (~1960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Waterfall Model (~1970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ncremental Model (~198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ransformation Model (~197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piral Model (~1988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omponent Model (~199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UP (~1997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WebE (~1998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xtreme Programming (~1998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s de Desarrollo de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8055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Arial"/>
              </a:rPr>
              <a:t>No basta con seleccionar un modelo genérico de desarrollo de software y tratar de adaptarse a él. Se requiere una definición más precisa de cómo se llevan a cabo las distint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Modelos de Desarrollo Genéric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quí caen todos los modelos de desarrollo de software tradicionales: cascada, espiral, prototipo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resentan una estrategia muy general para efectuar el proces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n la realidad casi nunca es posible efectuar el desarrollo adhiriendo completamente a uno de estos mode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s de Desarrollo de Soft.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Modelos de Desarrollo Genér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ermiten un entendimiento de tipo general del proceso pero no es fácil llevarlos a un nivel de detalle más fino, lo cual es necesario para guiar el trabajo de los profesional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o representan en forma precisa lo que realmente se hac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Modelos de Desarrollo Específ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arecen las </a:t>
            </a:r>
            <a:r>
              <a:rPr b="0" i="1" lang="es-ES" sz="2000" spc="-1" strike="noStrike">
                <a:solidFill>
                  <a:srgbClr val="40458c"/>
                </a:solidFill>
                <a:latin typeface="Tahoma"/>
              </a:rPr>
              <a:t>actividades mayor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involucradas en el proces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Brindan una especificación precisa del orden entre ell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ablecen relaciones entre las diversas tareas, los artefactos producidos en ellas, las personas que las realizan y las herramientas utiliza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Usan formalismos gráficos (por ejemplo Redes de Petri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de &amp; Fix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sado  en los comienzos de la computación, cuando ésta era una actividad personal y artesa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sta de 2 etapas: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odificar, eliminar errores en 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ente de dificultades y deficienci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uego de una secuencia de cambios, el código era tan enredado, que eliminar errores era una tarea pesada y muy difícil de realiz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uando el desarrollo de sistemas dejó de ser una actividad personal y artesanal, el modelo no podía manejar la complejidad de los  sistemas 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acepta la rotación de personal en un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a práctica habitual en el desarrollo Web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7:31:38Z</dcterms:created>
  <dc:creator>Sergio Ochoa</dc:creator>
  <dc:description/>
  <dc:language>en-US</dc:language>
  <cp:lastModifiedBy>Sergio F. Ochoa</cp:lastModifiedBy>
  <cp:lastPrinted>2001-08-08T05:55:09Z</cp:lastPrinted>
  <dcterms:modified xsi:type="dcterms:W3CDTF">2007-08-02T12:28:15Z</dcterms:modified>
  <cp:revision>54</cp:revision>
  <dc:subject/>
  <dc:title>Ingeniería de Software   </dc:title>
</cp:coreProperties>
</file>