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8.png" ContentType="image/png"/>
  <Override PartName="/ppt/media/image7.png" ContentType="image/png"/>
  <Override PartName="/ppt/media/image15.wmf" ContentType="image/x-wmf"/>
  <Override PartName="/ppt/media/image12.jpeg" ContentType="image/jpeg"/>
  <Override PartName="/ppt/media/image1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ED275-F179-4431-99C4-0688C8DCF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49DD4-C6F1-4BAB-B890-0604CD2A5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8023B-DD00-43A0-8FDA-AD4CB2779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EF036-74DC-4D54-B5DC-AA1ECD39C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5C36A-C952-47E0-BF96-813C35C62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32128-AA33-4258-AF0A-070F0BC0D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2D7C6-9D17-4E8A-9EAC-02163093C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A152B-CC30-46DB-BF40-45886EC61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FA829-FD38-47C4-B737-E98F7C7AE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67138-D07B-4C85-AEE0-51C24BDA4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90C26-A56B-4558-A28B-4230254FF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D4557-1170-4F35-AA54-F7455DAC7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BA4B9-44EE-48A4-817C-386AA8980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754EC-965A-4651-B52A-6D358E1DF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F81DB-C923-42C7-9760-F44E535FF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45AF2-69DF-4106-AA3D-E335B0139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9DC69-891E-4DD8-8C2C-9E2507222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FF042-0704-42DA-B6BE-C80433B97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E46A5-90F5-4D51-B387-0DB31115A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26BD5-5BE7-44FE-A4CD-57A8BDEBD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460ED-B15E-455D-A3D1-2D6A89111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E087D-6B50-4352-8433-0F3B1803D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A0A4F-D8D5-4F78-A3E9-409A94350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9BDCA-7399-4C4C-A8FE-D3604A052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E0E0A-68EC-4D2D-AD58-E4796DFB6F6D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E718F-16D1-47D9-B203-E4FF3D3BFEE5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4.pn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0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C51A – Ingeniería de Softwar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990720" y="3309840"/>
            <a:ext cx="7035840" cy="9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40458c"/>
                </a:solidFill>
                <a:latin typeface="Tahoma"/>
              </a:rPr>
              <a:t>Modelos de Desarrollo de Softwar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4638600"/>
            <a:ext cx="8534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40458c"/>
                </a:solidFill>
                <a:latin typeface="Tahoma"/>
              </a:rPr>
              <a:t>Sergio Ochoa D.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0" y="395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0" y="649116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40458c"/>
                </a:solidFill>
                <a:latin typeface="Tahoma"/>
              </a:rPr>
              <a:t>Clase 3 - Versión 5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0" y="422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Code &amp; Fix Model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58800" y="1523520"/>
            <a:ext cx="8305920" cy="492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Code &amp; Fix =  Desarrollo guiado por el código (o por el programador)…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…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. No se planifica ni se diseña formalmente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¿Qué significaría en nuestro proyecto aplicar code and fix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601"/>
              </a:spcBef>
              <a:spcAft>
                <a:spcPts val="134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En término de previsibilidad del proceso y del product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601"/>
              </a:spcBef>
              <a:spcAft>
                <a:spcPts val="134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Capacidad de sincronización del esfuerz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601"/>
              </a:spcBef>
              <a:spcAft>
                <a:spcPts val="134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Productividad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601"/>
              </a:spcBef>
              <a:spcAft>
                <a:spcPts val="134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Calidad de product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7236000" y="4940280"/>
            <a:ext cx="1873080" cy="1873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Waterfall Model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57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914400" y="1676520"/>
          <a:ext cx="5257800" cy="3271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676520"/>
                    <a:ext cx="5257800" cy="32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1" name=""/>
          <p:cNvSpPr/>
          <p:nvPr/>
        </p:nvSpPr>
        <p:spPr>
          <a:xfrm>
            <a:off x="685800" y="5191200"/>
            <a:ext cx="8134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0458c"/>
                </a:solidFill>
                <a:latin typeface="Arial"/>
              </a:rPr>
              <a:t>El modelo de cascada aunque algo desprestigiado continúa siendo usado para visualizar las etapas de desarrollo (¿cómo debería avanzarse?) y funciona bien si no hay grandes sorpresas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Waterfall Model (cont..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57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4" name=""/>
          <p:cNvSpPr/>
          <p:nvPr/>
        </p:nvSpPr>
        <p:spPr>
          <a:xfrm>
            <a:off x="762120" y="1523880"/>
            <a:ext cx="8153280" cy="529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• 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En el modelo de cascada puro no hay realimentación entre las distintas etapas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179280" indent="-1792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• 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También se usa el modelo con feedback hacia atrás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179280" indent="-1792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• 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Dependiendo de la versión, posee entre 5 y 10 actividades fundamentales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179280" indent="-1792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• 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Útil en la identificación de las actividades fundamentales (que aparecen en cualquier proceso) y la definición de los documentos de entrega (deliverables)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179280" indent="-1792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marL="179280" indent="-1792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Arial"/>
              </a:rPr>
              <a:t>Los problemas más importantes de este modelo son: (a) que no maneja los riesgos y (b) que obtiene un producto demasiado tarde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Waterfall Model (cont..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57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1752480" y="1571760"/>
            <a:ext cx="5164200" cy="525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Incremental Model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1125360" y="1828800"/>
          <a:ext cx="7118640" cy="236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25360" y="1828800"/>
                    <a:ext cx="7118640" cy="236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1" name=""/>
          <p:cNvSpPr/>
          <p:nvPr/>
        </p:nvSpPr>
        <p:spPr>
          <a:xfrm>
            <a:off x="838080" y="495288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0458c"/>
                </a:solidFill>
                <a:latin typeface="Arial"/>
              </a:rPr>
              <a:t>La idea es combinar los elementos del tradicional modelo de cascada con la filosofía de prototipos (usada principalmente en la etapa de definición de requisitos)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Incremental Model (cont..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3" name=""/>
          <p:cNvSpPr/>
          <p:nvPr/>
        </p:nvSpPr>
        <p:spPr>
          <a:xfrm>
            <a:off x="611280" y="1413000"/>
            <a:ext cx="4897440" cy="58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Características: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4480" indent="-2872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• 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Conjunto de cascadas desarrolladas en forma escalonada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1" marL="744480" indent="-2872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• 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Cada cascada genera un incremento del software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– 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Ejemplo: Word Processor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1" marL="744480" indent="-2872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• 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Primer incremento: edición y formateo básicos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1" marL="744480" indent="-2872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• 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gundo incremento: párrafos y documento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1" marL="744480" indent="-2872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• 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Tercer incremento: spelling y gramática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1" marL="744480" indent="-2872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• 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Cuarto incremento: layout avanzado, etc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5532480" y="1916280"/>
            <a:ext cx="3611520" cy="374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Incremental Model (cont..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6" name=""/>
          <p:cNvSpPr/>
          <p:nvPr/>
        </p:nvSpPr>
        <p:spPr>
          <a:xfrm>
            <a:off x="684360" y="1557360"/>
            <a:ext cx="8135640" cy="549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40458c"/>
                </a:solidFill>
                <a:latin typeface="Tahoma"/>
              </a:rPr>
              <a:t>Características: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4480" indent="-2872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• </a:t>
            </a: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Cada incremento representa una versión reducida del producto final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4480" indent="-2872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• </a:t>
            </a: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Que puede ser validado de inmediato por el usuario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4480" indent="-287280">
              <a:lnSpc>
                <a:spcPct val="100000"/>
              </a:lnSpc>
              <a:spcBef>
                <a:spcPts val="1500"/>
              </a:spcBef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Es una buena preparación para la vida evolutiva del producto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4480" indent="-287280">
              <a:lnSpc>
                <a:spcPct val="100000"/>
              </a:lnSpc>
              <a:spcBef>
                <a:spcPts val="1500"/>
              </a:spcBef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Es difícil obtener una buena segmentación del producto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4480" indent="-287280">
              <a:lnSpc>
                <a:spcPct val="100000"/>
              </a:lnSpc>
              <a:spcBef>
                <a:spcPts val="1500"/>
              </a:spcBef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Es difícil incorporar cambios (respecto a lo que se pretende obtener), una vez que el proyecto está en marcha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Spiral Model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4" marL="2057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838080" y="1676520"/>
            <a:ext cx="6400800" cy="317952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609480" y="5348160"/>
            <a:ext cx="8001000" cy="113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40458c"/>
                </a:solidFill>
                <a:latin typeface="Tahoma"/>
              </a:rPr>
              <a:t>Objetivo: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i="1" lang="es-ES_tradnl" sz="2400" spc="-1" strike="noStrike">
                <a:solidFill>
                  <a:srgbClr val="40458c"/>
                </a:solidFill>
                <a:latin typeface="Tahoma"/>
              </a:rPr>
              <a:t>Proveer una estructura para el diseño de procesos de producción de software, guiado por los </a:t>
            </a:r>
            <a:r>
              <a:rPr b="1" i="1" lang="es-ES_tradnl" sz="2400" spc="-1" strike="noStrike">
                <a:solidFill>
                  <a:srgbClr val="40458c"/>
                </a:solidFill>
                <a:latin typeface="Tahoma"/>
              </a:rPr>
              <a:t>niveles de riesgo </a:t>
            </a:r>
            <a:r>
              <a:rPr b="0" i="1" lang="es-ES_tradnl" sz="2400" spc="-1" strike="noStrike">
                <a:solidFill>
                  <a:srgbClr val="40458c"/>
                </a:solidFill>
                <a:latin typeface="Tahoma"/>
              </a:rPr>
              <a:t>del proyecto a desarrollar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Spiral Model (cont..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El modelo en espiral puede ser visto como un “</a:t>
            </a:r>
            <a:r>
              <a:rPr b="0" i="1" lang="es-ES_tradnl" sz="2400" spc="-1" strike="noStrike">
                <a:solidFill>
                  <a:srgbClr val="40458c"/>
                </a:solidFill>
                <a:latin typeface="Tahoma"/>
              </a:rPr>
              <a:t>metamodelo”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 pues cualquier modelo de proceso puede ser enmarcado en él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Definiciones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40458c"/>
                </a:solidFill>
                <a:latin typeface="Tahoma"/>
              </a:rPr>
              <a:t>Riesgo: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 Circunstancias potencialmente adversas que pueden perjudicar el proceso de desarrollo o la calidad del product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40458c"/>
                </a:solidFill>
                <a:latin typeface="Tahoma"/>
              </a:rPr>
              <a:t>Manejo del Riesgo: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 “Disciplina cuyos objetivos son identificar, manejar y eliminar los elementos de riesgo del software, antes que se conviertan en problemas”  B.W. Boehm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Spiral Model (cont..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 algn="just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El modelo en espiral se basa en la identificación y eliminación de problemas de alto riesgo a través de un proceso de diseño cuidados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580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 algn="just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El modelo en espiral tiene como característica principal que es </a:t>
            </a:r>
            <a:r>
              <a:rPr b="0" i="1" lang="es-ES_tradnl" sz="2400" spc="-1" strike="noStrike">
                <a:solidFill>
                  <a:srgbClr val="40458c"/>
                </a:solidFill>
                <a:latin typeface="Tahoma"/>
              </a:rPr>
              <a:t>cíclico y no lineal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580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 algn="just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El radio del espiral marca el costo acumulado en el proceso, mientras que la dimensión angular representa el progreso dentro del proces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580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 algn="just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Cuando no existe riesgo, el modelo en espiral puede reducirse a un modelo en cascad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Estructura de la Presenta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40458c"/>
                </a:solidFill>
                <a:latin typeface="Tahoma"/>
              </a:rPr>
              <a:t>Objetivo de la Presentación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Mostrar diferentes formas de organizar el desarrollo de software según el avance de la informátic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 algn="just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Analizar los “ciclos de vida” más representativ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40458c"/>
                </a:solidFill>
                <a:latin typeface="Tahoma"/>
              </a:rPr>
              <a:t>Estructura de la Presentación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Definición y Objetivos de los Modelos de Desarroll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Evolución de estos model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Conclusione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Spiral Model (cont..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458c"/>
                </a:solidFill>
                <a:latin typeface="Tahoma"/>
              </a:rPr>
              <a:t>        </a:t>
            </a:r>
            <a:r>
              <a:rPr b="1" lang="es-ES_tradnl" sz="2400" spc="-1" strike="noStrike">
                <a:solidFill>
                  <a:srgbClr val="40458c"/>
                </a:solidFill>
                <a:latin typeface="Tahoma"/>
              </a:rPr>
              <a:t>Elementos de</a:t>
            </a:r>
            <a:r>
              <a:rPr b="1" lang="es-ES_tradnl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40458c"/>
                </a:solidFill>
                <a:latin typeface="Tahoma"/>
              </a:rPr>
              <a:t>       Técnicas de manej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458c"/>
                </a:solidFill>
                <a:latin typeface="Tahoma"/>
              </a:rPr>
              <a:t>              </a:t>
            </a:r>
            <a:r>
              <a:rPr b="1" lang="es-ES_tradnl" sz="2400" spc="-1" strike="noStrike">
                <a:solidFill>
                  <a:srgbClr val="40458c"/>
                </a:solidFill>
                <a:latin typeface="Tahoma"/>
              </a:rPr>
              <a:t>Riesgo</a:t>
            </a:r>
            <a:r>
              <a:rPr b="1" lang="es-ES_tradnl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40458c"/>
                </a:solidFill>
                <a:latin typeface="Tahoma"/>
              </a:rPr>
              <a:t>            </a:t>
            </a:r>
            <a:r>
              <a:rPr b="1" lang="es-ES_tradnl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40458c"/>
                </a:solidFill>
                <a:latin typeface="Tahoma"/>
              </a:rPr>
              <a:t>Riesg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1-  Carencias del personal. 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   - Staff calificado, equipos,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                  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      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entrenamiento, etc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2- Cronogramas y presupuestos    -  Estimación de cronograma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    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no realistas.                               y costos detallados, reuso de 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      experiencia previas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3- Desarrollo de funciones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   -  Análisis organizado,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Equivocadas.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      prototipación, etc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4- Desarrollo de interfases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   -  Prototipos, escenarios,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    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equivocadas.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                 caracterización de usuario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5- “Gold plating”... 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   -  Análisis costo-beneficio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6- Continuos cambios de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   -  Ocultamiento de información,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Requisitos.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      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      desarrollo incremental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7" name=""/>
          <p:cNvSpPr/>
          <p:nvPr/>
        </p:nvSpPr>
        <p:spPr>
          <a:xfrm>
            <a:off x="685800" y="1636560"/>
            <a:ext cx="7721640" cy="5069160"/>
          </a:xfrm>
          <a:prstGeom prst="rect">
            <a:avLst/>
          </a:prstGeom>
          <a:noFill/>
          <a:ln w="381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85800" y="2471760"/>
            <a:ext cx="7756560" cy="0"/>
          </a:xfrm>
          <a:prstGeom prst="line">
            <a:avLst/>
          </a:prstGeom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572000" y="1676520"/>
            <a:ext cx="0" cy="5181480"/>
          </a:xfrm>
          <a:prstGeom prst="line">
            <a:avLst/>
          </a:prstGeom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Spiral Model (cont..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458c"/>
                </a:solidFill>
                <a:latin typeface="Tahoma"/>
              </a:rPr>
              <a:t>        </a:t>
            </a:r>
            <a:r>
              <a:rPr b="1" lang="es-ES_tradnl" sz="2400" spc="-1" strike="noStrike">
                <a:solidFill>
                  <a:srgbClr val="40458c"/>
                </a:solidFill>
                <a:latin typeface="Tahoma"/>
              </a:rPr>
              <a:t>Elementos de</a:t>
            </a:r>
            <a:r>
              <a:rPr b="1" lang="es-ES_tradnl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40458c"/>
                </a:solidFill>
                <a:latin typeface="Tahoma"/>
              </a:rPr>
              <a:t>       Técnicas de manej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458c"/>
                </a:solidFill>
                <a:latin typeface="Tahoma"/>
              </a:rPr>
              <a:t>              </a:t>
            </a:r>
            <a:r>
              <a:rPr b="1" lang="es-ES_tradnl" sz="2400" spc="-1" strike="noStrike">
                <a:solidFill>
                  <a:srgbClr val="40458c"/>
                </a:solidFill>
                <a:latin typeface="Tahoma"/>
              </a:rPr>
              <a:t>Riesgo</a:t>
            </a:r>
            <a:r>
              <a:rPr b="1" lang="es-ES_tradnl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40458c"/>
                </a:solidFill>
                <a:latin typeface="Tahoma"/>
              </a:rPr>
              <a:t>            </a:t>
            </a:r>
            <a:r>
              <a:rPr b="1" lang="es-ES_tradnl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40458c"/>
                </a:solidFill>
                <a:latin typeface="Tahoma"/>
              </a:rPr>
              <a:t>Riesg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7- Carencias en componentes       -  Análisis de compatibilidad,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452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externos (soft, hard, etc).          benchmarks, inspecciones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8- Carencias en tareas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              -  Control de referencias,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452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desarrolladas en forma              contratos cuidadosos,   externa.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      selección de subcontratados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9- Carencias de performance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   -  Simulación, prototipos,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452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en tiempo real.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                  benchmarks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10- Forzar la computación.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   -  Análisis técnico, prototipos y 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       honestidad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" y="1636560"/>
            <a:ext cx="7721640" cy="4764240"/>
          </a:xfrm>
          <a:prstGeom prst="rect">
            <a:avLst/>
          </a:prstGeom>
          <a:noFill/>
          <a:ln w="381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85800" y="2529000"/>
            <a:ext cx="7756560" cy="0"/>
          </a:xfrm>
          <a:prstGeom prst="line">
            <a:avLst/>
          </a:prstGeom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572000" y="1676520"/>
            <a:ext cx="0" cy="4748040"/>
          </a:xfrm>
          <a:prstGeom prst="line">
            <a:avLst/>
          </a:prstGeom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Component Model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4" marL="2057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>
            <a:off x="838080" y="1600200"/>
            <a:ext cx="5257800" cy="253692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2"/>
          <a:stretch/>
        </p:blipFill>
        <p:spPr>
          <a:xfrm>
            <a:off x="696960" y="4286160"/>
            <a:ext cx="7761240" cy="242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Component Model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4" marL="2057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1" name=""/>
          <p:cNvSpPr/>
          <p:nvPr/>
        </p:nvSpPr>
        <p:spPr>
          <a:xfrm>
            <a:off x="762120" y="1676520"/>
            <a:ext cx="78483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spcAft>
                <a:spcPts val="1749"/>
              </a:spcAft>
              <a:buSzPct val="1131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El desarrollo basado en componentes contempla la construcción de sistemas, a través del ensamble de módulos predefinidos (componentes)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spcAft>
                <a:spcPts val="1749"/>
              </a:spcAft>
              <a:buSzPct val="1131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Estos módulos son genéricos (sirven para más de un sistema), configurables, y pueden ser desarrollados por cualquiera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spcAft>
                <a:spcPts val="1749"/>
              </a:spcAft>
              <a:buSzPct val="1131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Para que esto sea factible, los módulos deben adherir a una especificación de componentes de software como: JavaBeans, ActiveX, EJB, COM, DCOM, etc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spcAft>
                <a:spcPts val="1749"/>
              </a:spcAft>
              <a:buSzPct val="1131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El desarrollo basado en componentes tiene un sin número de ventajas, en lo relacionado con el tiempo y costo de desarrollo, y también en lo que respecta a la calidad del producto final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RUP (Rational Unified Process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4" marL="2057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1219320" y="1676520"/>
            <a:ext cx="6476760" cy="488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RUP (Rational Unified Process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4" marL="2057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7" name=""/>
          <p:cNvSpPr/>
          <p:nvPr/>
        </p:nvSpPr>
        <p:spPr>
          <a:xfrm>
            <a:off x="762120" y="1676520"/>
            <a:ext cx="7848360" cy="499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spcAft>
                <a:spcPts val="1749"/>
              </a:spcAft>
              <a:buSzPct val="1131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Es un modelo moderno, que incorpora las recomendaciones (buenas prácticas) de la ingeniería de software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spcAft>
                <a:spcPts val="1749"/>
              </a:spcAft>
              <a:buSzPct val="1131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Tiene mucho respaldo, pero es un tanto complejo (se requiere entrenamiento par usarlo)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spcAft>
                <a:spcPts val="1749"/>
              </a:spcAft>
              <a:buSzPct val="1131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Está muy atado a UML (Unified Modeling Language)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spcAft>
                <a:spcPts val="1749"/>
              </a:spcAft>
              <a:buSzPct val="1131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Hasta el momento, sólo ha demostrado ser uno más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spcAft>
                <a:spcPts val="1749"/>
              </a:spcAft>
              <a:buSzPct val="1131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A diferencia del resto, RUP considera la arquitectura como una pieza clave del desarrollo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spcAft>
                <a:spcPts val="1749"/>
              </a:spcAft>
              <a:buSzPct val="1131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No es demasiado fuerte para apoyar el desarrollo de proyectos Web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WebE (Web Engineering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4" marL="2057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0" name=""/>
          <p:cNvSpPr/>
          <p:nvPr/>
        </p:nvSpPr>
        <p:spPr>
          <a:xfrm>
            <a:off x="2000160" y="1500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91" name="pressman" descr=""/>
          <p:cNvPicPr/>
          <p:nvPr/>
        </p:nvPicPr>
        <p:blipFill>
          <a:blip r:embed="rId1"/>
          <a:stretch/>
        </p:blipFill>
        <p:spPr>
          <a:xfrm>
            <a:off x="1371600" y="1676520"/>
            <a:ext cx="6705720" cy="502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WebE (Web Engineering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4" marL="2057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4" name=""/>
          <p:cNvSpPr/>
          <p:nvPr/>
        </p:nvSpPr>
        <p:spPr>
          <a:xfrm>
            <a:off x="762120" y="1676520"/>
            <a:ext cx="7848360" cy="492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spcAft>
                <a:spcPts val="2100"/>
              </a:spcAft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Es un modelo moderno, aplicable a proyectos Web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spcAft>
                <a:spcPts val="2100"/>
              </a:spcAft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Definido por R. Pressman en 1998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spcAft>
                <a:spcPts val="2100"/>
              </a:spcAft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Es el primer modelo diseñado específicamente para desarrollar proyectos Web.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spcAft>
                <a:spcPts val="2100"/>
              </a:spcAft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Aunque hay otros como RMM, y OOHDM que proponen alternativas a WebE, pero que vienen del lado de los sistemas hipermediales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spcAft>
                <a:spcPts val="2100"/>
              </a:spcAft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WebE aún no ha sido probado lo suficiente, y por ahora es sólo una buena propuesta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Extreme Programming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4" marL="2057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7" name=""/>
          <p:cNvSpPr/>
          <p:nvPr/>
        </p:nvSpPr>
        <p:spPr>
          <a:xfrm>
            <a:off x="762120" y="1676520"/>
            <a:ext cx="784836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spcAft>
                <a:spcPts val="2100"/>
              </a:spcAft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Es una práctica ágil (no burocrática)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spcAft>
                <a:spcPts val="2100"/>
              </a:spcAft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Es una filosofía de desarrollo, no una metodología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spcAft>
                <a:spcPts val="2100"/>
              </a:spcAft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Involucra ir descubriendo la solución, en la medida que se va avanzando en el desarrollo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4"/>
          <a:stretch/>
        </p:blipFill>
        <p:spPr>
          <a:xfrm>
            <a:off x="2843280" y="4292640"/>
            <a:ext cx="3419280" cy="231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Extreme Programming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4310280" cy="47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40458c"/>
                </a:solidFill>
                <a:latin typeface="Tahoma"/>
              </a:rPr>
              <a:t>Involucra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spcAft>
                <a:spcPts val="1400"/>
              </a:spcAft>
              <a:buClr>
                <a:srgbClr val="6f89f7"/>
              </a:buClr>
              <a:buSzPct val="11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oca documentación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spcAft>
                <a:spcPts val="1400"/>
              </a:spcAft>
              <a:buClr>
                <a:srgbClr val="6f89f7"/>
              </a:buClr>
              <a:buSzPct val="11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Mucha interacción con el cliente/usuari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spcAft>
                <a:spcPts val="1400"/>
              </a:spcAft>
              <a:buClr>
                <a:srgbClr val="6f89f7"/>
              </a:buClr>
              <a:buSzPct val="11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rácticas específicas, como por ejemplo: pair-programming, pair- designing, etc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301" name="" descr=""/>
          <p:cNvPicPr/>
          <p:nvPr/>
        </p:nvPicPr>
        <p:blipFill>
          <a:blip r:embed="rId1"/>
          <a:stretch/>
        </p:blipFill>
        <p:spPr>
          <a:xfrm>
            <a:off x="5219640" y="1773360"/>
            <a:ext cx="361152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Definición y Objetivo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10920" y="1699920"/>
            <a:ext cx="4608360" cy="476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40458c"/>
                </a:solidFill>
                <a:latin typeface="Tahoma"/>
              </a:rPr>
              <a:t>Proceso de producción de software: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 u="sng">
                <a:solidFill>
                  <a:srgbClr val="40458c"/>
                </a:solidFill>
                <a:uFillTx/>
                <a:latin typeface="Tahoma"/>
              </a:rPr>
              <a:t>Actividades</a:t>
            </a:r>
            <a:r>
              <a:rPr b="0" lang="es-ES_tradnl" sz="1800" spc="-1" strike="noStrike">
                <a:solidFill>
                  <a:srgbClr val="40458c"/>
                </a:solidFill>
                <a:latin typeface="Tahoma"/>
              </a:rPr>
              <a:t> que se realizan para la construcción, liberación y evolución de un producto de software, comenzando con el estudio de una idea y finalizando con el retiro final del sistema.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40458c"/>
                </a:solidFill>
                <a:latin typeface="Tahoma"/>
              </a:rPr>
              <a:t>Ciclo de Vida: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458c"/>
                </a:solidFill>
                <a:latin typeface="Tahoma"/>
              </a:rPr>
              <a:t>Los </a:t>
            </a:r>
            <a:r>
              <a:rPr b="0" i="1" lang="es-ES_tradnl" sz="1800" spc="-1" strike="noStrike" u="sng">
                <a:solidFill>
                  <a:srgbClr val="40458c"/>
                </a:solidFill>
                <a:uFillTx/>
                <a:latin typeface="Tahoma"/>
              </a:rPr>
              <a:t>modelos estructurados</a:t>
            </a:r>
            <a:r>
              <a:rPr b="0" lang="es-ES_tradnl" sz="1800" spc="-1" strike="noStrike">
                <a:solidFill>
                  <a:srgbClr val="40458c"/>
                </a:solidFill>
                <a:latin typeface="Tahoma"/>
              </a:rPr>
              <a:t> de software muestran más claramente los </a:t>
            </a:r>
            <a:r>
              <a:rPr b="0" i="1" lang="es-ES_tradnl" sz="1800" spc="-1" strike="noStrike">
                <a:solidFill>
                  <a:srgbClr val="40458c"/>
                </a:solidFill>
                <a:latin typeface="Tahoma"/>
              </a:rPr>
              <a:t>ciclos de vida </a:t>
            </a:r>
            <a:r>
              <a:rPr b="0" lang="es-ES_tradnl" sz="1800" spc="-1" strike="noStrike">
                <a:solidFill>
                  <a:srgbClr val="40458c"/>
                </a:solidFill>
                <a:latin typeface="Tahoma"/>
              </a:rPr>
              <a:t> del software…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458c"/>
                </a:solidFill>
                <a:latin typeface="Tahoma"/>
              </a:rPr>
              <a:t>El ciclo de vida </a:t>
            </a:r>
            <a:r>
              <a:rPr b="0" i="1" lang="es-ES_tradnl" sz="1800" spc="-1" strike="noStrike" u="sng">
                <a:solidFill>
                  <a:srgbClr val="40458c"/>
                </a:solidFill>
                <a:uFillTx/>
                <a:latin typeface="Tahoma"/>
              </a:rPr>
              <a:t>describe los estados</a:t>
            </a:r>
            <a:r>
              <a:rPr b="0" lang="es-ES_tradnl" sz="1800" spc="-1" strike="noStrike">
                <a:solidFill>
                  <a:srgbClr val="40458c"/>
                </a:solidFill>
                <a:latin typeface="Tahoma"/>
              </a:rPr>
              <a:t> por los que pasa un producto de software, desde su concepción hasta su muerte.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5230800" y="2060640"/>
            <a:ext cx="3878280" cy="396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Conclusion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just"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El desarrollo de software debe ser guiado por un modelo, como forma de disciplinar, organizar y gerenciar las actividade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El modelo debe ser definido por la organización y adaptado a cada proyecto en particular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Las actividades que deben cumplirse en el proceso de desarrollo son básicamente las que establece el modelo en cascad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Conclusiones (cont..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just"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El modelo debe ser lo suficientemente flexible como para incorporar el principio de ANTICIPACION AL CAMBI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En lo posible debe utilizarse un desarrollo incremental, con entregas parciales al usuario (modelo evolutivo, incremental o espiral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Para los productos que así lo ameriten, realizar análisis de riesgo (modelo espiral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onsulta…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4000" y="3573000"/>
            <a:ext cx="788508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800"/>
              </a:spcBef>
              <a:spcAft>
                <a:spcPts val="24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¿Cuál es el mejor modelo de desarrollo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7272360" y="1343160"/>
            <a:ext cx="1476360" cy="107784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2"/>
          <a:stretch/>
        </p:blipFill>
        <p:spPr>
          <a:xfrm>
            <a:off x="4067280" y="1916280"/>
            <a:ext cx="1728720" cy="130320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3"/>
          <a:stretch/>
        </p:blipFill>
        <p:spPr>
          <a:xfrm>
            <a:off x="900000" y="1700280"/>
            <a:ext cx="2005200" cy="1041480"/>
          </a:xfrm>
          <a:prstGeom prst="rect">
            <a:avLst/>
          </a:prstGeom>
          <a:ln w="0">
            <a:noFill/>
          </a:ln>
        </p:spPr>
      </p:pic>
      <p:pic>
        <p:nvPicPr>
          <p:cNvPr id="311" name="" descr=""/>
          <p:cNvPicPr/>
          <p:nvPr/>
        </p:nvPicPr>
        <p:blipFill>
          <a:blip r:embed="rId4"/>
          <a:stretch/>
        </p:blipFill>
        <p:spPr>
          <a:xfrm>
            <a:off x="900000" y="4797360"/>
            <a:ext cx="2376720" cy="993960"/>
          </a:xfrm>
          <a:prstGeom prst="rect">
            <a:avLst/>
          </a:prstGeom>
          <a:ln w="0">
            <a:noFill/>
          </a:ln>
        </p:spPr>
      </p:pic>
      <p:pic>
        <p:nvPicPr>
          <p:cNvPr id="312" name="" descr=""/>
          <p:cNvPicPr/>
          <p:nvPr/>
        </p:nvPicPr>
        <p:blipFill>
          <a:blip r:embed="rId5"/>
          <a:stretch/>
        </p:blipFill>
        <p:spPr>
          <a:xfrm>
            <a:off x="4067280" y="5805360"/>
            <a:ext cx="2663640" cy="885960"/>
          </a:xfrm>
          <a:prstGeom prst="rect">
            <a:avLst/>
          </a:prstGeom>
          <a:ln w="0">
            <a:noFill/>
          </a:ln>
        </p:spPr>
      </p:pic>
      <p:pic>
        <p:nvPicPr>
          <p:cNvPr id="313" name="" descr=""/>
          <p:cNvPicPr/>
          <p:nvPr/>
        </p:nvPicPr>
        <p:blipFill>
          <a:blip r:embed="rId6"/>
          <a:stretch/>
        </p:blipFill>
        <p:spPr>
          <a:xfrm>
            <a:off x="6877080" y="4797360"/>
            <a:ext cx="1946160" cy="121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Preguntas…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84000" y="1628280"/>
            <a:ext cx="8135640" cy="504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spcAft>
                <a:spcPts val="1349"/>
              </a:spcAft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Si el problema está poco claro, qué uso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spcAft>
                <a:spcPts val="1349"/>
              </a:spcAft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Si el problema está muy claro y acotado, qué uso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spcAft>
                <a:spcPts val="1349"/>
              </a:spcAft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Si el problema es grande, qué uso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spcAft>
                <a:spcPts val="1349"/>
              </a:spcAft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Si el problema es chico, qué uso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spcAft>
                <a:spcPts val="1349"/>
              </a:spcAft>
              <a:buSzPct val="1507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Si mi empresa ya tiene un modelo de desarrollo, qué uso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spcAft>
                <a:spcPts val="1349"/>
              </a:spcAft>
              <a:buSzPct val="1507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Si el sistema tiene muchas interfaces de usuario, qué uso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spcAft>
                <a:spcPts val="1349"/>
              </a:spcAft>
              <a:buSzPct val="1507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Si el no tengo gente con el expertice necesario, qué uso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Definición y Objetivos (cont..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5543280" cy="522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La meta de un </a:t>
            </a:r>
            <a:r>
              <a:rPr b="0" i="1" lang="es-ES_tradnl" sz="2400" spc="-1" strike="noStrike">
                <a:solidFill>
                  <a:srgbClr val="40458c"/>
                </a:solidFill>
                <a:latin typeface="Tahoma"/>
              </a:rPr>
              <a:t>modelo estructurado 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de proceso es determinar el </a:t>
            </a:r>
            <a:r>
              <a:rPr b="1" lang="es-ES_tradnl" sz="2400" spc="-1" strike="noStrike">
                <a:solidFill>
                  <a:srgbClr val="40458c"/>
                </a:solidFill>
                <a:latin typeface="Tahoma"/>
              </a:rPr>
              <a:t>orden de las etapas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 que componen el desarrollo y la evolución de un software, estableciendo los “criterios de transición” para progresar de una etapa a la siguiente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824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Los modelos están hechos para contestar las siguientes preguntas en un proyecto de software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824040" indent="0" algn="just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lvl="2" marL="1231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40458c"/>
                </a:solidFill>
                <a:latin typeface="Tahoma"/>
              </a:rPr>
              <a:t>-¿Qué debemos hacer a continuación?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23192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40458c"/>
                </a:solidFill>
                <a:latin typeface="Tahoma"/>
              </a:rPr>
              <a:t>-¿Cuánto tiempo debemos continuar haciéndolo?</a:t>
            </a:r>
            <a:r>
              <a:rPr b="0" lang="es-ES_tradnl" sz="1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” </a:t>
            </a:r>
            <a:r>
              <a:rPr b="0" lang="es-ES_tradnl" sz="1600" spc="-1" strike="noStrike">
                <a:solidFill>
                  <a:srgbClr val="40458c"/>
                </a:solidFill>
                <a:latin typeface="Tahoma"/>
              </a:rPr>
              <a:t>(B.Bohem 1988)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6310440" y="1341360"/>
            <a:ext cx="2833560" cy="547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Definición y Objetivos (cont..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11280" y="1557000"/>
            <a:ext cx="5904000" cy="504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40458c"/>
                </a:solidFill>
                <a:latin typeface="Tahoma"/>
              </a:rPr>
              <a:t>Beneficios de los modelos: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 u="sng">
                <a:solidFill>
                  <a:srgbClr val="40458c"/>
                </a:solidFill>
                <a:uFillTx/>
                <a:latin typeface="Tahoma"/>
              </a:rPr>
              <a:t>Proveen de guías </a:t>
            </a:r>
            <a:r>
              <a:rPr b="0" lang="es-ES_tradnl" sz="1800" spc="-1" strike="noStrike">
                <a:solidFill>
                  <a:srgbClr val="40458c"/>
                </a:solidFill>
                <a:latin typeface="Tahoma"/>
              </a:rPr>
              <a:t>a los ingenieros de software, a cerca del orden en el cual deben ser llevadas a cabo las variadas actividades técnicas.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 algn="just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 u="sng">
                <a:solidFill>
                  <a:srgbClr val="40458c"/>
                </a:solidFill>
                <a:uFillTx/>
                <a:latin typeface="Tahoma"/>
              </a:rPr>
              <a:t>Dan un marco</a:t>
            </a:r>
            <a:r>
              <a:rPr b="0" lang="es-ES_tradnl" sz="1800" spc="-1" strike="noStrike">
                <a:solidFill>
                  <a:srgbClr val="40458c"/>
                </a:solidFill>
                <a:latin typeface="Tahoma"/>
              </a:rPr>
              <a:t> o estructura para gerenciar, desarrollar y mantener un desarrollo, lo cual nos permite: estimar recursos, definir hitos intermedios y monitorear los progresos.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 algn="just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 u="sng">
                <a:solidFill>
                  <a:srgbClr val="40458c"/>
                </a:solidFill>
                <a:uFillTx/>
                <a:latin typeface="Tahoma"/>
              </a:rPr>
              <a:t>Anticipan y controlan el proceso</a:t>
            </a:r>
            <a:r>
              <a:rPr b="0" lang="es-ES_tradnl" sz="1800" spc="-1" strike="noStrike">
                <a:solidFill>
                  <a:srgbClr val="40458c"/>
                </a:solidFill>
                <a:latin typeface="Tahoma"/>
              </a:rPr>
              <a:t> para alcanzar las cualidades deseadas del software.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 u="sng">
                <a:solidFill>
                  <a:srgbClr val="40458c"/>
                </a:solidFill>
                <a:uFillTx/>
                <a:latin typeface="Tahoma"/>
              </a:rPr>
              <a:t>Sistematizan el proceso</a:t>
            </a:r>
            <a:r>
              <a:rPr b="0" lang="es-ES_tradnl" sz="1800" spc="-1" strike="noStrike">
                <a:solidFill>
                  <a:srgbClr val="40458c"/>
                </a:solidFill>
                <a:latin typeface="Tahoma"/>
              </a:rPr>
              <a:t> con el uso de estándares, metodologías y herramientas.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458c"/>
                </a:solidFill>
                <a:latin typeface="Tahoma"/>
              </a:rPr>
              <a:t>Permiten la producción de productos </a:t>
            </a:r>
            <a:r>
              <a:rPr b="1" lang="es-ES_tradnl" sz="1800" spc="-1" strike="noStrike">
                <a:solidFill>
                  <a:srgbClr val="40458c"/>
                </a:solidFill>
                <a:latin typeface="Tahoma"/>
              </a:rPr>
              <a:t>confiables, predecibles y eficientes.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6588000" y="2060640"/>
            <a:ext cx="2556000" cy="195588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6948360" y="5373720"/>
            <a:ext cx="1871640" cy="135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Evolución de Modelo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Modelos o Estrategias de Desarrollo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Code &amp; Fix Model (~1960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Waterfall Model (~1970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Incremental Model (~1985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Transformation Model (~1975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Spiral Model (~1988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Component Model (~1992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RUP (~1997)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WebE (~1998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Extreme Programming (~1998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Modelos de Desarrollo de Soft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755280" y="1600200"/>
            <a:ext cx="80550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40458c"/>
                </a:solidFill>
                <a:latin typeface="Arial"/>
              </a:rPr>
              <a:t>No basta con seleccionar un modelo genérico de desarrollo de software y tratar de adaptarse a él. Se requiere una definición más precisa de cómo se llevan a cabo las distintas tarea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Modelos de Desarrollo Genérico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– </a:t>
            </a: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Aquí caen todos los modelos de desarrollo de software tradicionales: cascada, espiral, prototipos, etc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– </a:t>
            </a: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Presentan una estrategia muy general para efectuar el proceso de desarroll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– </a:t>
            </a: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En la realidad casi nunca es posible efectuar el desarrollo adhiriendo completamente a uno de estos model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Modelos de Desarrollo de Soft. (cont..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40458c"/>
                </a:solidFill>
                <a:latin typeface="Tahoma"/>
              </a:rPr>
              <a:t>Modelos de Desarrollo Genérico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– 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Permiten un entendimiento de tipo general del proceso pero no es fácil llevarlos a un nivel de detalle más fino, lo cual es necesario para guiar el trabajo de los profesionales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– 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No representan en forma precisa lo que realmente se hace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40458c"/>
                </a:solidFill>
                <a:latin typeface="Tahoma"/>
              </a:rPr>
              <a:t>Modelos de Desarrollo Específico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– 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Aparecen las </a:t>
            </a:r>
            <a:r>
              <a:rPr b="0" i="1" lang="es-ES" sz="2000" spc="-1" strike="noStrike">
                <a:solidFill>
                  <a:srgbClr val="40458c"/>
                </a:solidFill>
                <a:latin typeface="Tahoma"/>
              </a:rPr>
              <a:t>actividades mayores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 involucradas en el proceso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– 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Brindan una especificación precisa del orden entre ellas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– 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Establecen relaciones entre las diversas tareas, los artefactos producidos en ellas, las personas que las realizan y las herramientas utilizadas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– 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Usan formalismos gráficos (por ejemplo Redes de Petri)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Code &amp; Fix Model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533160" y="1523520"/>
            <a:ext cx="830556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lvl="1" marL="676080" indent="-259920" algn="just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Usado  en los comienzos de la computación, cuando ésta era una actividad personal y artesanal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7608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lvl="1" marL="676080" indent="-259920" algn="just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Consta de 2 etapas: </a:t>
            </a:r>
            <a:r>
              <a:rPr b="0" i="1" lang="es-ES_tradnl" sz="2400" spc="-1" strike="noStrike">
                <a:solidFill>
                  <a:srgbClr val="40458c"/>
                </a:solidFill>
                <a:latin typeface="Tahoma"/>
              </a:rPr>
              <a:t>codificar, eliminar errores en el códig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7608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lvl="1" marL="676080" indent="-259920" algn="just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Fuente de dificultades y deficiencia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7608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lvl="2" marL="1040040" indent="-207720" algn="just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Luego de una secuencia de cambios, el código era tan enredado, que eliminar errores era una tarea pesada y muy difícil de realizar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040040" indent="-207720" algn="just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Cuando el desarrollo de sistemas dejó de ser una actividad personal y artesanal, el modelo no podía manejar la complejidad de los  sistemas 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040040" indent="-207720" algn="just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No acepta la rotación de personal en un proyecto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676080" indent="-259920" algn="just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Es una práctica habitual en el desarrollo Web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2T17:31:38Z</dcterms:created>
  <dc:creator>Sergio Ochoa</dc:creator>
  <dc:description/>
  <dc:language>en-US</dc:language>
  <cp:lastModifiedBy>Sergio F. Ochoa</cp:lastModifiedBy>
  <cp:lastPrinted>2001-08-08T05:55:09Z</cp:lastPrinted>
  <dcterms:modified xsi:type="dcterms:W3CDTF">2007-08-02T12:28:15Z</dcterms:modified>
  <cp:revision>54</cp:revision>
  <dc:subject/>
  <dc:title>Ingeniería de Software   </dc:title>
</cp:coreProperties>
</file>