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C89-A41F-4EE9-94AE-AB62C4C0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123-C6A9-4566-B2A4-071F1CD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0AE-13BA-4571-84C9-EB45F46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C0F-84BF-4CDD-AE38-7B13418F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CA02-5C48-41AD-B9EB-C7786793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479-E0EE-4F9D-B4FD-8EBB33AC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0DAB-B0C0-48BB-A4A3-5C80FA23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E7E-626C-4779-A4A0-6CA6785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2414-53BB-4D65-A7A8-FAD0D37C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B80-2986-4C6F-BC2F-F579835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8D40-88E5-4C81-A3AE-E5B1769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F87-2A4E-4F4B-908E-A3EC09F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86E8-8304-4536-856A-50A34DB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7B3-53E8-4A6E-89E9-45AA4E60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A977-2BA0-4562-B2A3-17555E4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20E8-4B4A-435D-BA62-2709754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4D13-1AE3-4007-971A-3006A01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017-9856-44B5-B8AC-49C10896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023-0E8C-4AE4-A5BB-B200EB3D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799-9D5A-4D34-82C4-338B24E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F63-432D-4AF8-ADE0-72F80F4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40A-1E0A-4D74-A6B8-BE4EE7A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5D2-A093-4C43-A30B-25604F4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A05-A6C4-4532-8666-8DBCACE5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0CA-25BC-4B43-B9FD-10F4AC2F82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2BF1-636A-44DC-9108-5E4259962F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8800" y="1523520"/>
            <a:ext cx="830592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No se planifica ni se diseña formal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significaría en nuestro proyecto aplicar code and fix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término de previsibilidad del proceso y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pacidad de sincronización del esfuer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roductiv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lidad de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236000" y="4940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843280" y="4292640"/>
            <a:ext cx="341928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ult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00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72360" y="1343160"/>
            <a:ext cx="1476360" cy="1077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1728720" cy="1303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376720" cy="993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87708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egunta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poco clar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muy claro y acotad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grande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chic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mi empresa ya tiene un modelo de desarroll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sistema tiene muchas interfaces de usu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no tengo gente con el expertice neces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el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7-08-02T12:28:15Z</dcterms:modified>
  <cp:revision>54</cp:revision>
  <dc:subject/>
  <dc:title>Ingeniería de Software   </dc:title>
</cp:coreProperties>
</file>