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11E5F-B9D1-46D6-A297-739120A46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0C78-6B1C-4559-B215-906005E95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A937E-B105-495D-AA01-7933C150F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966CD-8D50-4787-874B-40D163661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0DF13-7C5E-4146-95DB-06AAEE1C9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DC5EC-4D58-4747-9B23-5DCCCD53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B05A0-FAA9-4D0E-8C8B-6CFA949EF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C8F92-0DE8-49DA-B90C-9BBFFDA53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57737-322E-44FF-B39B-91CAAC74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1FE6A-9295-448B-A145-1CCF5AB5B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257DF-653F-44EC-9547-43CA4EC98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67FC-2EAE-4B6A-BAA1-F6EE7427B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552E4-E212-469F-A35C-9AF579A6A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CA449-694A-4D68-BEE3-974AD4E3C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E6EAA-54D9-4366-9927-1CE60889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47E1B-F618-4781-9650-40E2BBBB7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FA6C9-D8A4-48D7-8185-20F3068A1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067C-AE14-4CAE-B984-F3554D74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C01C-55E2-4A93-91EB-5EB0299E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0392-E2C4-4B46-A57D-4560E4DF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59623-3813-40D9-BE0A-E0BC2231E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32F6-C668-44B0-B5BA-A26B4A75E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D904-883B-4285-B9B2-C15BC282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ADE9-5DB5-41D7-B3D9-A26D81A4D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D0A1-2B3B-464C-ADCF-2AC864CFD5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360B-ED1E-4240-9616-6186D405E2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5"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7"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Qué es un Proyecto Grande?</a:t>
            </a:r>
            <a:endParaRPr b="0" lang="en-US" sz="32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800" spc="-1" strike="noStrike">
                <a:solidFill>
                  <a:srgbClr val="40458c"/>
                </a:solidFill>
                <a:latin typeface="Tahoma"/>
              </a:rPr>
              <a:t>Windows Vista: </a:t>
            </a:r>
            <a:endParaRPr b="0" lang="en-US" sz="28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00 desarrolladores aprox.</a:t>
            </a:r>
            <a:endParaRPr b="0" lang="en-US" sz="24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2.400 testers aprox.</a:t>
            </a:r>
            <a:endParaRPr b="0" lang="en-US" sz="24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ordinar a un equipo de desarrollo de esa magnitud es un esfuerzo no trivial.</a:t>
            </a: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41"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4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Hay casos similares en Chile… Lamentablemente,  los nombres de los implicados no pueden hacerse públic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9"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1"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53"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320840" y="2400480"/>
            <a:ext cx="6299280" cy="2342880"/>
          </a:xfrm>
          <a:prstGeom prst="rect">
            <a:avLst/>
          </a:prstGeom>
          <a:ln w="0">
            <a:noFill/>
          </a:ln>
        </p:spPr>
      </p:pic>
      <p:sp>
        <p:nvSpPr>
          <p:cNvPr id="259"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60"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62"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64"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6"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8"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70"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 partir casi de cero </a:t>
            </a:r>
            <a:r>
              <a:rPr b="0" lang="es-ES" sz="2800" spc="-1" strike="noStrike">
                <a:solidFill>
                  <a:srgbClr val="40458c"/>
                </a:solidFill>
                <a:latin typeface="Arial"/>
              </a:rPr>
              <a:t>(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20800" y="187308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1633680" y="1994040"/>
            <a:ext cx="5673600" cy="296208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548080" y="245124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056040" y="29653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6" name=""/>
          <p:cNvSpPr/>
          <p:nvPr/>
        </p:nvSpPr>
        <p:spPr>
          <a:xfrm>
            <a:off x="755640" y="3716280"/>
            <a:ext cx="741672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820800" y="37036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3684960" y="328464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9" name=""/>
          <p:cNvSpPr/>
          <p:nvPr/>
        </p:nvSpPr>
        <p:spPr>
          <a:xfrm>
            <a:off x="3048120" y="26272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80" name=""/>
          <p:cNvSpPr/>
          <p:nvPr/>
        </p:nvSpPr>
        <p:spPr>
          <a:xfrm>
            <a:off x="3408480" y="20509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81" name=""/>
          <p:cNvSpPr/>
          <p:nvPr/>
        </p:nvSpPr>
        <p:spPr>
          <a:xfrm>
            <a:off x="3454200" y="15318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82" name=""/>
          <p:cNvSpPr/>
          <p:nvPr/>
        </p:nvSpPr>
        <p:spPr>
          <a:xfrm>
            <a:off x="755640" y="3789360"/>
            <a:ext cx="790560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84"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5"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94"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5"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6"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Ingeniería de Software</a:t>
            </a:r>
            <a:endParaRPr b="0" lang="en-US" sz="4400" spc="-1" strike="noStrike">
              <a:solidFill>
                <a:srgbClr val="660066"/>
              </a:solidFill>
              <a:latin typeface="Tahoma"/>
            </a:endParaRPr>
          </a:p>
        </p:txBody>
      </p:sp>
      <p:pic>
        <p:nvPicPr>
          <p:cNvPr id="217" name="" descr=""/>
          <p:cNvPicPr/>
          <p:nvPr/>
        </p:nvPicPr>
        <p:blipFill>
          <a:blip r:embed="rId1"/>
          <a:stretch/>
        </p:blipFill>
        <p:spPr>
          <a:xfrm>
            <a:off x="395280" y="1195560"/>
            <a:ext cx="4532400" cy="3097080"/>
          </a:xfrm>
          <a:prstGeom prst="rect">
            <a:avLst/>
          </a:prstGeom>
          <a:ln w="0">
            <a:noFill/>
          </a:ln>
        </p:spPr>
      </p:pic>
      <p:sp>
        <p:nvSpPr>
          <p:cNvPr id="218" name=""/>
          <p:cNvSpPr/>
          <p:nvPr/>
        </p:nvSpPr>
        <p:spPr>
          <a:xfrm>
            <a:off x="468360" y="4573440"/>
            <a:ext cx="820728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Si usted quiere contratar la construcción de su casa:</a:t>
            </a:r>
            <a:endParaRPr b="0" lang="en-US" sz="28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ducto (casa)?</a:t>
            </a:r>
            <a:endParaRPr b="0" lang="en-US" sz="24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yecto?</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300" name="PlaceHolder 2"/>
          <p:cNvSpPr>
            <a:spLocks noGrp="1"/>
          </p:cNvSpPr>
          <p:nvPr>
            <p:ph/>
          </p:nvPr>
        </p:nvSpPr>
        <p:spPr>
          <a:xfrm>
            <a:off x="609120" y="1542600"/>
            <a:ext cx="853452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Diseño de software</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realista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Verificación y validación</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que satisfagan las especificacione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poyo del computador</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Conclusiones…</a:t>
            </a:r>
            <a:endParaRPr b="0" lang="en-US" sz="4400" spc="-1" strike="noStrike">
              <a:solidFill>
                <a:srgbClr val="660066"/>
              </a:solidFill>
              <a:latin typeface="Tahoma"/>
            </a:endParaRPr>
          </a:p>
        </p:txBody>
      </p:sp>
      <p:pic>
        <p:nvPicPr>
          <p:cNvPr id="302" name="" descr=""/>
          <p:cNvPicPr/>
          <p:nvPr/>
        </p:nvPicPr>
        <p:blipFill>
          <a:blip r:embed="rId1"/>
          <a:stretch/>
        </p:blipFill>
        <p:spPr>
          <a:xfrm>
            <a:off x="395280" y="1195560"/>
            <a:ext cx="4532400" cy="3097080"/>
          </a:xfrm>
          <a:prstGeom prst="rect">
            <a:avLst/>
          </a:prstGeom>
          <a:ln w="0">
            <a:noFill/>
          </a:ln>
        </p:spPr>
      </p:pic>
      <p:sp>
        <p:nvSpPr>
          <p:cNvPr id="303" name=""/>
          <p:cNvSpPr/>
          <p:nvPr/>
        </p:nvSpPr>
        <p:spPr>
          <a:xfrm>
            <a:off x="468360" y="4573440"/>
            <a:ext cx="8207280" cy="155340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Qué dijimos que le exigiríamos al producto (casa)?</a:t>
            </a:r>
            <a:endParaRPr b="0" lang="en-US" sz="2800" spc="-1" strike="noStrike">
              <a:solidFill>
                <a:srgbClr val="40458c"/>
              </a:solidFill>
              <a:latin typeface="Times New Roman"/>
            </a:endParaRPr>
          </a:p>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y al Proyecto?</a:t>
            </a:r>
            <a:endParaRPr b="0" lang="en-US" sz="28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20"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21" name="" descr=""/>
          <p:cNvPicPr/>
          <p:nvPr/>
        </p:nvPicPr>
        <p:blipFill>
          <a:blip r:embed="rId1"/>
          <a:stretch/>
        </p:blipFill>
        <p:spPr>
          <a:xfrm>
            <a:off x="7236000" y="2781360"/>
            <a:ext cx="1490400" cy="1854000"/>
          </a:xfrm>
          <a:prstGeom prst="rect">
            <a:avLst/>
          </a:prstGeom>
          <a:ln w="0">
            <a:noFill/>
          </a:ln>
        </p:spPr>
      </p:pic>
      <p:sp>
        <p:nvSpPr>
          <p:cNvPr id="222"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3" name="" descr=""/>
          <p:cNvPicPr/>
          <p:nvPr/>
        </p:nvPicPr>
        <p:blipFill>
          <a:blip r:embed="rId2"/>
          <a:stretch/>
        </p:blipFill>
        <p:spPr>
          <a:xfrm>
            <a:off x="0" y="5103720"/>
            <a:ext cx="2771640" cy="175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5"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9000"/>
          </a:bodyPr>
          <a:p>
            <a:pPr marL="457200" indent="-45720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analizar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separar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53200" indent="-28260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57200" indent="-457200">
              <a:lnSpc>
                <a:spcPct val="90000"/>
              </a:lnSpc>
              <a:spcBef>
                <a:spcPts val="601"/>
              </a:spcBef>
              <a:spcAft>
                <a:spcPts val="45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1"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3"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7-07-31T12:28:25Z</dcterms:modified>
  <cp:revision>75</cp:revision>
  <dc:subject/>
  <dc:title>Ingeniería de Software   </dc:title>
</cp:coreProperties>
</file>