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18D00-1A09-46EE-A7EF-D809C8DA0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C95FD-A830-4F2B-B07C-F59EA62F2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4ABEB-2BC1-4598-9048-33D61013C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40519-4E6A-4534-A876-B9DE45BDC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0811D-537A-45C7-8864-74DD85D97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A4AF-9439-4CE5-BFD5-8AEBB5A4F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07902-54E0-464C-8F3A-880F90746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9D4F7-5FDE-4DEC-8ACA-E49E62EAD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A881A-0DA0-4CEF-A1C3-3F7B6CD77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A55FE-1C48-4755-B3A7-F264DA247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B1C9-AE9A-48DB-9C91-793AA1541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EBD2D-7D02-4924-9286-5DF9A7EE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87DF5-6AB3-4448-9BF6-9155DBA07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7396C-7378-400D-850D-492E4AEF6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32B7E-27EF-44FF-B310-64BE119E1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13BF2-788E-4BC8-9600-D48592371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C7297-96CE-43AF-899E-1F3DC3005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12680-5AE6-46B8-9309-358A87A77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7498F-4F8C-4D8A-920C-D5282B181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0D887-AB78-4596-B6E0-3E09B687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723C4-477B-4DFB-9327-EAB79179E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D0B1-2EF4-46E5-B668-0A4EDDA6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1A66-6AC2-40FB-9424-34F3AC03F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5423-0023-4CA9-BC8A-1C4019487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F7D8-1314-46F4-88A9-6187F6645D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B87D-4D25-4837-96B4-6688F09BA8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5"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7"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Qué es un Proyecto Grande?</a:t>
            </a:r>
            <a:endParaRPr b="0" lang="en-US" sz="32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 </a:t>
            </a:r>
            <a:r>
              <a:rPr b="0" lang="es-ES_tradnl" sz="2800" spc="-1" strike="noStrike">
                <a:solidFill>
                  <a:srgbClr val="40458c"/>
                </a:solidFill>
                <a:latin typeface="Tahoma"/>
              </a:rPr>
              <a:t>Windows Vista: </a:t>
            </a:r>
            <a:endParaRPr b="0" lang="en-US" sz="28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00 desarrolladores aprox.</a:t>
            </a:r>
            <a:endParaRPr b="0" lang="en-US" sz="24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2.400 testers aprox.</a:t>
            </a:r>
            <a:endParaRPr b="0" lang="en-US" sz="24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ordinar a un equipo de desarrollo de esa magnitud es un esfuerzo no trivial.</a:t>
            </a: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41"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4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Hay casos similares en Chile… Lamentablemente,  los nombres de los implicados no pueden hacerse públic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9"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1"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53"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320840" y="2400480"/>
            <a:ext cx="6299280" cy="2342880"/>
          </a:xfrm>
          <a:prstGeom prst="rect">
            <a:avLst/>
          </a:prstGeom>
          <a:ln w="0">
            <a:noFill/>
          </a:ln>
        </p:spPr>
      </p:pic>
      <p:sp>
        <p:nvSpPr>
          <p:cNvPr id="259"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60"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62"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64"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6"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8"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70"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 partir casi de cero </a:t>
            </a:r>
            <a:r>
              <a:rPr b="0" lang="es-ES" sz="2800" spc="-1" strike="noStrike">
                <a:solidFill>
                  <a:srgbClr val="40458c"/>
                </a:solidFill>
                <a:latin typeface="Arial"/>
              </a:rPr>
              <a:t>(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20800" y="187308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1633680" y="1994040"/>
            <a:ext cx="5673600" cy="296208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548080" y="245124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3056040" y="29653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6" name=""/>
          <p:cNvSpPr/>
          <p:nvPr/>
        </p:nvSpPr>
        <p:spPr>
          <a:xfrm>
            <a:off x="755640" y="3716280"/>
            <a:ext cx="741672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820800" y="37036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3684960" y="328464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9" name=""/>
          <p:cNvSpPr/>
          <p:nvPr/>
        </p:nvSpPr>
        <p:spPr>
          <a:xfrm>
            <a:off x="3048120" y="26272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80" name=""/>
          <p:cNvSpPr/>
          <p:nvPr/>
        </p:nvSpPr>
        <p:spPr>
          <a:xfrm>
            <a:off x="3408480" y="20509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81" name=""/>
          <p:cNvSpPr/>
          <p:nvPr/>
        </p:nvSpPr>
        <p:spPr>
          <a:xfrm>
            <a:off x="3454200" y="15318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82" name=""/>
          <p:cNvSpPr/>
          <p:nvPr/>
        </p:nvSpPr>
        <p:spPr>
          <a:xfrm>
            <a:off x="755640" y="3789360"/>
            <a:ext cx="790560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84"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5"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0"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1"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94"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5"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6"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Ingeniería de Software</a:t>
            </a:r>
            <a:endParaRPr b="0" lang="en-US" sz="4400" spc="-1" strike="noStrike">
              <a:solidFill>
                <a:srgbClr val="660066"/>
              </a:solidFill>
              <a:latin typeface="Tahoma"/>
            </a:endParaRPr>
          </a:p>
        </p:txBody>
      </p:sp>
      <p:pic>
        <p:nvPicPr>
          <p:cNvPr id="217" name="" descr=""/>
          <p:cNvPicPr/>
          <p:nvPr/>
        </p:nvPicPr>
        <p:blipFill>
          <a:blip r:embed="rId1"/>
          <a:stretch/>
        </p:blipFill>
        <p:spPr>
          <a:xfrm>
            <a:off x="395280" y="1195560"/>
            <a:ext cx="4532400" cy="3097080"/>
          </a:xfrm>
          <a:prstGeom prst="rect">
            <a:avLst/>
          </a:prstGeom>
          <a:ln w="0">
            <a:noFill/>
          </a:ln>
        </p:spPr>
      </p:pic>
      <p:sp>
        <p:nvSpPr>
          <p:cNvPr id="218" name=""/>
          <p:cNvSpPr/>
          <p:nvPr/>
        </p:nvSpPr>
        <p:spPr>
          <a:xfrm>
            <a:off x="468360" y="4573440"/>
            <a:ext cx="820728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Si usted quiere contratar la construcción de su casa:</a:t>
            </a:r>
            <a:endParaRPr b="0" lang="en-US" sz="28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ducto (casa)?</a:t>
            </a:r>
            <a:endParaRPr b="0" lang="en-US" sz="24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yecto?</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300" name="PlaceHolder 2"/>
          <p:cNvSpPr>
            <a:spLocks noGrp="1"/>
          </p:cNvSpPr>
          <p:nvPr>
            <p:ph/>
          </p:nvPr>
        </p:nvSpPr>
        <p:spPr>
          <a:xfrm>
            <a:off x="609120" y="1542600"/>
            <a:ext cx="8534520" cy="4419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Diseño de software</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realista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Verificación y validación</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que satisfagan las especificacione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poyo del computador</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Conclusiones…</a:t>
            </a:r>
            <a:endParaRPr b="0" lang="en-US" sz="4400" spc="-1" strike="noStrike">
              <a:solidFill>
                <a:srgbClr val="660066"/>
              </a:solidFill>
              <a:latin typeface="Tahoma"/>
            </a:endParaRPr>
          </a:p>
        </p:txBody>
      </p:sp>
      <p:pic>
        <p:nvPicPr>
          <p:cNvPr id="302" name="" descr=""/>
          <p:cNvPicPr/>
          <p:nvPr/>
        </p:nvPicPr>
        <p:blipFill>
          <a:blip r:embed="rId1"/>
          <a:stretch/>
        </p:blipFill>
        <p:spPr>
          <a:xfrm>
            <a:off x="395280" y="1195560"/>
            <a:ext cx="4532400" cy="3097080"/>
          </a:xfrm>
          <a:prstGeom prst="rect">
            <a:avLst/>
          </a:prstGeom>
          <a:ln w="0">
            <a:noFill/>
          </a:ln>
        </p:spPr>
      </p:pic>
      <p:sp>
        <p:nvSpPr>
          <p:cNvPr id="303" name=""/>
          <p:cNvSpPr/>
          <p:nvPr/>
        </p:nvSpPr>
        <p:spPr>
          <a:xfrm>
            <a:off x="468360" y="4573440"/>
            <a:ext cx="8207280" cy="155340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Qué dijimos que le exigiríamos al producto (casa)?</a:t>
            </a:r>
            <a:endParaRPr b="0" lang="en-US" sz="2800" spc="-1" strike="noStrike">
              <a:solidFill>
                <a:srgbClr val="40458c"/>
              </a:solidFill>
              <a:latin typeface="Times New Roman"/>
            </a:endParaRPr>
          </a:p>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y al Proyecto?</a:t>
            </a:r>
            <a:endParaRPr b="0" lang="en-US" sz="28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20"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21" name="" descr=""/>
          <p:cNvPicPr/>
          <p:nvPr/>
        </p:nvPicPr>
        <p:blipFill>
          <a:blip r:embed="rId1"/>
          <a:stretch/>
        </p:blipFill>
        <p:spPr>
          <a:xfrm>
            <a:off x="7236000" y="2781360"/>
            <a:ext cx="1490400" cy="1854000"/>
          </a:xfrm>
          <a:prstGeom prst="rect">
            <a:avLst/>
          </a:prstGeom>
          <a:ln w="0">
            <a:noFill/>
          </a:ln>
        </p:spPr>
      </p:pic>
      <p:sp>
        <p:nvSpPr>
          <p:cNvPr id="222"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3" name="" descr=""/>
          <p:cNvPicPr/>
          <p:nvPr/>
        </p:nvPicPr>
        <p:blipFill>
          <a:blip r:embed="rId2"/>
          <a:stretch/>
        </p:blipFill>
        <p:spPr>
          <a:xfrm>
            <a:off x="0" y="5103720"/>
            <a:ext cx="2771640" cy="175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5"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9000"/>
          </a:bodyPr>
          <a:p>
            <a:pPr marL="457200" indent="-457200">
              <a:lnSpc>
                <a:spcPct val="90000"/>
              </a:lnSpc>
              <a:spcBef>
                <a:spcPts val="601"/>
              </a:spcBef>
              <a:spcAft>
                <a:spcPts val="45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analizar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separar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53200" indent="-28260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57200" indent="-457200">
              <a:lnSpc>
                <a:spcPct val="90000"/>
              </a:lnSpc>
              <a:spcBef>
                <a:spcPts val="601"/>
              </a:spcBef>
              <a:spcAft>
                <a:spcPts val="45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1"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3"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7-07-31T12:28:25Z</dcterms:modified>
  <cp:revision>75</cp:revision>
  <dc:subject/>
  <dc:title>Ingeniería de Software   </dc:title>
</cp:coreProperties>
</file>