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088188" cy="10220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116-5E1A-4984-AF42-74F866D7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E0F-D822-4500-92B1-8AAA1F0D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8DF-DCE3-4A8B-B214-9ECF6C58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810-0F9E-4EA5-9A2E-19FEB6F2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DC6D-A35E-4669-9E65-2A90EB1F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D418-B11A-4E29-8FC7-5434525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216-E609-429E-A08E-3EB5FF7A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568-FF91-4B52-9A4E-CA6140D6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307-574E-48F2-B3CC-7B89D247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80F-D4F6-461B-86D7-931CDF08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66A9-281F-4CB2-88E5-12E55F7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07EF-6D7F-4CF1-857F-E8DC2C1F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cc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D91-5EDD-4322-8137-7C9CD202A158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76520"/>
            <a:ext cx="9144000" cy="75960"/>
          </a:xfrm>
          <a:prstGeom prst="rect">
            <a:avLst/>
          </a:prstGeom>
          <a:gradFill rotWithShape="0">
            <a:gsLst>
              <a:gs pos="0">
                <a:srgbClr val="c3e8ff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 Software Orientado a Obje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usuario puede interactuar con el ACII para planear el menú de cada d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6CC-E951-49FA-A1A8-7365FE0F5F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dentificar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iseño de software complejo se inicia identificando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una componente (en el diseño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 conjunto pequeño y bien definido de responsabilidad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actuar mínimamente con otr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485-D9AE-408F-AD87-DC97918A17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5257800" y="4267080"/>
            <a:ext cx="3124080" cy="1981080"/>
            <a:chOff x="5257800" y="4267080"/>
            <a:chExt cx="3124080" cy="1981080"/>
          </a:xfrm>
        </p:grpSpPr>
        <p:sp>
          <p:nvSpPr>
            <p:cNvPr id="89" name=""/>
            <p:cNvSpPr/>
            <p:nvPr/>
          </p:nvSpPr>
          <p:spPr>
            <a:xfrm>
              <a:off x="5257800" y="4267080"/>
              <a:ext cx="31240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426708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61040" y="433512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9960" y="47448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44640" y="433512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7800" y="47242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Tarjetas CR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tarjeta contie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mbre de la compon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ista de responsabilidad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otras componentes con las que interactú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miembro del equipo de desarrollo tiene una o más tarjetas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0C6-E93A-4AE9-AFF6-B699CA2A57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iclo “Qué - Quién”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actividad, tarea o funcionalidad identificada en la especificación de requisitos debe ser asignada a una componente como parte de sus responsabil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ún el análisis se hace a nivel del sistema complet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diseño están frescas en la mente de los desarroll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2D6-4365-4FB8-BCCC-B8DB0ECFDC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omponentes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rrer las recetas existent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regar una nueva receta a la base de da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ificar una receta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visar un plan de comidas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ctividades pueden clasificarse en dos grup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as recet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ciones sobre los planes de com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8A9F-B291-40DB-8EA4-A7502326A6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1523880" y="1905120"/>
            <a:ext cx="6175440" cy="4114800"/>
            <a:chOff x="1523880" y="1905120"/>
            <a:chExt cx="6175440" cy="4114800"/>
          </a:xfrm>
        </p:grpSpPr>
        <p:sp>
          <p:nvSpPr>
            <p:cNvPr id="103" name=""/>
            <p:cNvSpPr/>
            <p:nvPr/>
          </p:nvSpPr>
          <p:spPr>
            <a:xfrm>
              <a:off x="1523880" y="190512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88000" y="190512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3880" y="275616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08640" y="1992600"/>
              <a:ext cx="146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Bienven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03440" y="2824560"/>
              <a:ext cx="2838240" cy="21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mensaje in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Ofrecer las opciones de a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asar el control a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90440"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0960" y="205776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es de Com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ienvenid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B880-58E6-430D-89D1-A439B87280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Base de Datos de 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CEC-1E69-4631-B955-830F7F9810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 Cambio es Inevitab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centrar los cambios probables en una o dos compon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faces, formatos de comunicación y sal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las dependencias del hardware (portabil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imizar el acoplamiento entr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22D-D189-462D-B8F4-B8E58E04C3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osponer Decision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C412-3380-4E4F-B344-0E6ACFB5D8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da Receta será también un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 contener una cierta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gredientes necesari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os a segu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que debe realizar una receta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splegar la receta en pantall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mitir modificar ingredientes y/o pas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primir la rec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 es un modelo de formato para cada una de las rec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ndo la Base de Datos ofrece incluir una nueva rece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crea una nueva componente de Receta en blan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asignan los valores de la información con los datos proporcionados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F206-6DB9-4BAC-B9A9-83E9C968DCE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¿Qué es Orientación a Objetos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finición de clases y her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saje de mensaj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estáticos y virtu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un lenguaje orientado a objetos no es condición necesaria ni suficiente para hacer un programa orientado a obj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4A7F-2A8E-4586-B132-BDF963330C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Recet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523880" y="2057400"/>
            <a:ext cx="6175440" cy="4114800"/>
            <a:chOff x="1523880" y="2057400"/>
            <a:chExt cx="6175440" cy="4114800"/>
          </a:xfrm>
        </p:grpSpPr>
        <p:sp>
          <p:nvSpPr>
            <p:cNvPr id="126" name=""/>
            <p:cNvSpPr/>
            <p:nvPr/>
          </p:nvSpPr>
          <p:spPr>
            <a:xfrm>
              <a:off x="1523880" y="2057400"/>
              <a:ext cx="617544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88000" y="2057400"/>
              <a:ext cx="0" cy="411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23880" y="2908440"/>
              <a:ext cx="41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20160" y="2144880"/>
              <a:ext cx="9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ahoma"/>
                </a:rPr>
                <a:t>Rece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5880" y="2976480"/>
              <a:ext cx="2914200" cy="18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Responsabilid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Desplegar la recet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ingred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Modificación de pasos a seguir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Imprimir la receta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91320" y="2209680"/>
              <a:ext cx="1828800" cy="14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Colaborad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Base de Datos de Rece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lan de Com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6954-CCEC-4F2C-9824-8F7378F8D8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Otra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lan de Comidas permite (responsabilida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r un nuevo pl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 y modificar un plan exist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un plan de comid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cular la lista de compras necesar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nuevo plan tiene una Fecha asoci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Fecha es también una compon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ultar la comida de una Fecha particula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 del d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545-989F-41A7-B212-E350801DA7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ás Component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comensa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plegar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ditar/modificar recetas de la Comid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mprimir la Com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E1B2-6DBC-4C0E-9CCF-7D2C50A9F8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ienven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es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 Rec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2"/>
            <a:endCxn id="137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7" idx="2"/>
            <a:endCxn id="139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8" idx="2"/>
            <a:endCxn id="140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8" idx="2"/>
            <a:endCxn id="141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0" idx="3"/>
            <a:endCxn id="141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39" idx="3"/>
            <a:endCxn id="140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Estructura de ACII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6D1E-36F1-4E4E-969E-C028493EDC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52712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96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7040" y="2362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44920" y="1987560"/>
            <a:ext cx="13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ienven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96680" y="19875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Base de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99960" y="19875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Rece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36600" y="198756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Arial"/>
              </a:rPr>
              <a:t>Planes de Com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712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32240" y="32767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358452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679040" y="44956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7120" y="51055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7040" y="265572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09640" y="297180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37360" y="350532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39800" y="419112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94320" y="480060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4840" y="251460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9600" y="259092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7000" y="3124080"/>
            <a:ext cx="304920" cy="838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0" y="502920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2514600"/>
            <a:ext cx="304560" cy="3505320"/>
          </a:xfrm>
          <a:prstGeom prst="downArrow">
            <a:avLst>
              <a:gd name="adj1" fmla="val 40620"/>
              <a:gd name="adj2" fmla="val 198058"/>
            </a:avLst>
          </a:prstGeom>
          <a:gradFill rotWithShape="0">
            <a:gsLst>
              <a:gs pos="0">
                <a:srgbClr val="00cc99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102960" y="388440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3333cc"/>
                </a:solidFill>
                <a:latin typeface="Arial"/>
              </a:rPr>
              <a:t>Diagrama de Secuenci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8B2-117E-4DC1-85D3-FB5EAF2B82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3824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stado y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mportamiento  de una componente es el conjunto de acciones que puede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conjunto de todas las acciones posibles de una componente se llama el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rotocol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la compo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es la información contenida dentro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Estado  de una componente no es estático sino que puede cambiar con el tiem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DA4-196C-4994-95B6-FB70FDADA3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stancias y Cl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n varias Recetas en la Base de Da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ablemente tienen distintos ingredientes y distintos pasos a seguir (estad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o todas tendrán las mismas responsabilidades (comportami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ando la especificación de un sistema, nos centramos en el comportamiento común de las Rec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lase es un conjunto de objetos con el mismo comport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individuo de una Clase es una Instancia; la caracteriza su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21EC-C9A5-4ABA-8E2E-7573E1F611A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r el comportamiento de una componente permite que otro programador pueda usarla sin conocer su imple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o se llama ocultamiento de la información (information hid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cimos que la componente encapsula  su comportamiento y muestra sólo los detalles necesarios para usar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terfaz describe lo que la componente puede hac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hacia otros progra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mplementación describe cómo la componente realiza sus tare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s la cara de la componente que ve el programador trabajando en e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8D0-FC16-4EDC-89BE-E7FAEC3478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Interfaz e Implementació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factor crítico aquí es la comunic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componentes se desarrollan en forma independ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E448-4843-4B7C-B5B4-6F425A10DCD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Principios de Parna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desarrollador de una componente de software será provisto de toda la información neces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rias implementaciones pueden probarse para la mism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B1CE-2DCE-469F-B61E-09449E47C7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4160" y="400860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7520" y="400860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1440" y="53802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qué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94120" y="5380200"/>
            <a:ext cx="14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71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Diseño de Softwar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El diseño del software consiste en crear un modelo del software deseado de modo que satisfaga los requisitos de buena f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8ED-B54E-4F91-907A-835542BB3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guiendo el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general del sist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sin estado interno, pueden implementarse como una fun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nentes con estado y varias responsabilidades pueden implementarse como clas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responsabilidad será un mét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dos los datos necesarios deben identifica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parámetros de los métodos se identifican con su nombre y su ori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os datos internos se identifi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00D-E1F4-46C0-9E04-652B0EA1182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lección de Nombr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uías para elección de nombres [Keller, 1990]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nombres fácilmente pronunciab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ar mayúsculas o guiones para unir palab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 cuidadoso con las abreviatu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nombres con diferentes interpretacio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vitar los números como parte de un nomb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funciones o variables con valores lógicos, deben tener nombres que sugieran este tipo, e.g., estáL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EE53-FC0E-4061-B6C5-0ED07DE2B2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CRC de Fech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1981080"/>
            <a:ext cx="617544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64320" y="1981080"/>
            <a:ext cx="27000" cy="426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2832120"/>
            <a:ext cx="416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91800" y="20685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29005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Fecha (año, mes, día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C4CE-17D6-46FB-9C39-063A18676D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Detallad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el diseño detall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ligen las estructuras de datos inter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implementan los métodos definidos en la interfa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303-7314-4D98-B9D9-82781342D4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066680" y="3336840"/>
            <a:ext cx="175284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00800" y="3336840"/>
            <a:ext cx="1752480" cy="164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Cu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12920" y="490680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4560" y="3622680"/>
            <a:ext cx="511200" cy="1212840"/>
          </a:xfrm>
          <a:prstGeom prst="downArrow">
            <a:avLst>
              <a:gd name="adj1" fmla="val 50000"/>
              <a:gd name="adj2" fmla="val 59313"/>
            </a:avLst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2920" y="1981080"/>
            <a:ext cx="2921040" cy="1570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404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1960" y="4051440"/>
            <a:ext cx="1460520" cy="284040"/>
          </a:xfrm>
          <a:custGeom>
            <a:avLst/>
            <a:gdLst>
              <a:gd name="textAreaLeft" fmla="*/ 182520 w 1460520"/>
              <a:gd name="textAreaRight" fmla="*/ 1278000 w 1460520"/>
              <a:gd name="textAreaTop" fmla="*/ 70920 h 284040"/>
              <a:gd name="textAreaBottom" fmla="*/ 213120 h 2840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Proceso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3B2-DF64-4CC4-819E-EA76FF2FE3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5105520" y="4403880"/>
            <a:ext cx="3637800" cy="1923480"/>
            <a:chOff x="5105520" y="4403880"/>
            <a:chExt cx="3637800" cy="1923480"/>
          </a:xfrm>
        </p:grpSpPr>
        <p:sp>
          <p:nvSpPr>
            <p:cNvPr id="63" name=""/>
            <p:cNvSpPr/>
            <p:nvPr/>
          </p:nvSpPr>
          <p:spPr>
            <a:xfrm>
              <a:off x="5105520" y="5261040"/>
              <a:ext cx="685800" cy="304560"/>
            </a:xfrm>
            <a:prstGeom prst="rightArrow">
              <a:avLst>
                <a:gd name="adj1" fmla="val 50000"/>
                <a:gd name="adj2" fmla="val 56294"/>
              </a:avLst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87360" y="4403880"/>
              <a:ext cx="295596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Más que métodos, s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notaciones y guías par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l diseño de softwar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La creatividad y el rigor</a:t>
              </a:r>
              <a:br>
                <a:rPr sz="2000"/>
              </a:b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siguen siendo la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2000" spc="-1" strike="noStrike">
                  <a:solidFill>
                    <a:srgbClr val="000000"/>
                  </a:solidFill>
                  <a:latin typeface="Arial"/>
                </a:rPr>
                <a:t>esencia del diseñ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3333cc"/>
                </a:solidFill>
                <a:latin typeface="Arial"/>
              </a:rPr>
              <a:t>Métodos Estructurados de Diseñ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Estructur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Yourd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Análisis Estructurado de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Gane &amp; Sarson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esarrollo de Sistemas Jack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Jackson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Arial"/>
              </a:rPr>
              <a:t>Diseño Orientado a Obje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Robinson, 19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Booch,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UML, 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91A5-9CE0-412E-9B2E-02860C3F13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57400" y="3386160"/>
            <a:ext cx="27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impe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2360" y="541656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gramación por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Diseño por Responsabilida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r a alguien una responsabilidad impl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espera un cierto comportamien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le dará independencia para hacer su t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incipios de delegación y no interferencia son esen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capsulamiento y modularidad como un 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se para la reuti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3BA-5CBC-4502-A92E-B821717A2D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Sistemas Chicos y Grand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ch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desarrollado por uno o unos pocos programador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persona entiende todas las facetas del sist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ción en gra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as personas participan en la program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ie abarca todo el conocimiento del siste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2F8-F9AD-4513-9529-A6B24CFCF3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Modelar el Comportamiento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eño Dirigido por la Respons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BFD6-8BE6-49CA-A0EA-ED5B559C1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Arial"/>
              </a:rPr>
              <a:t>Ejemplo: Ayudante de Cocina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ducto a desarrol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cc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yudante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c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ractivo 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teligente (ACI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DF3-744B-43D2-A055-2CCAAA4841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1T13:49:39Z</dcterms:created>
  <dc:creator>Cecilia Bastarrica</dc:creator>
  <dc:description/>
  <dc:language>en-US</dc:language>
  <cp:lastModifiedBy>cecilia</cp:lastModifiedBy>
  <cp:lastPrinted>2005-04-28T15:52:47Z</cp:lastPrinted>
  <dcterms:modified xsi:type="dcterms:W3CDTF">2007-10-02T18:31:08Z</dcterms:modified>
  <cp:revision>34</cp:revision>
  <dc:subject/>
  <dc:title>CC31B: Desarrollo de Software de Aplicaciones</dc:title>
</cp:coreProperties>
</file>