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7F8-00C4-4C69-A5FA-163E6965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2B5-BDB5-4078-97F2-DA1C4542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DC3-76DD-4438-A7FD-1269CF70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A0E-3CA4-47F8-9D73-CB05611B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E6B-0B3A-4772-95E3-D657B5A6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EC1-9396-4008-AD94-BC6A18B6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5EB-E019-44B6-9DB9-25F927F7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495-A88F-4A95-B49A-A94FDFEF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B43-EA10-40C8-87A4-CEB5B1D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7BD-6CF5-496B-951C-63CD0C9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F96-F1FD-46F5-A757-EFB0DF65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353-9B07-4A91-AE56-36AD17CE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145D-2F37-4BAA-A46E-ADA3D7360F9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 Software Orientado a Obje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quisi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uede interactuar con el ACII para planear el menú de cada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683-2870-413A-843A-896CE447A8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dentificar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eño de software complejo se inicia identificando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una componente (en el diseñ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 conjunto pequeño y bien definido de responsabi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actuar mínimamente con otr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560-9692-43F4-9E04-627D036186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257800" y="4267080"/>
            <a:ext cx="3124080" cy="1981080"/>
            <a:chOff x="5257800" y="4267080"/>
            <a:chExt cx="3124080" cy="1981080"/>
          </a:xfrm>
        </p:grpSpPr>
        <p:sp>
          <p:nvSpPr>
            <p:cNvPr id="89" name=""/>
            <p:cNvSpPr/>
            <p:nvPr/>
          </p:nvSpPr>
          <p:spPr>
            <a:xfrm>
              <a:off x="5257800" y="4267080"/>
              <a:ext cx="3124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10440" y="42670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61040" y="433512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9960" y="47448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4640" y="433512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4724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Tarjetas CR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tarjeta con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 de la compon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sta de responsabilida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 componentes con las que interactú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miembro del equipo de desarrollo tiene una o más tarjetas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EAE-5116-489C-9DF9-5DC5835956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iclo “Qué - Quién”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actividad, tarea o funcionalidad identificada en la especificación de requisitos debe ser asignada a una componente como parte de sus respons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ún el análisis se hace a nivel del sistema comple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diseño están frescas en la mente de los desarrol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7A9-5E4A-49CF-B48E-09FFD32392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mponentes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rrer las recetas exist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una nueva receta a la base de da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ificar una receta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ar un plan de comidas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ctividades pueden clasificarse en do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as rec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os planes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757-B36A-44E4-A4B2-2E2943E5D2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23880" y="1905120"/>
            <a:ext cx="6175440" cy="4114800"/>
            <a:chOff x="1523880" y="1905120"/>
            <a:chExt cx="6175440" cy="4114800"/>
          </a:xfrm>
        </p:grpSpPr>
        <p:sp>
          <p:nvSpPr>
            <p:cNvPr id="103" name=""/>
            <p:cNvSpPr/>
            <p:nvPr/>
          </p:nvSpPr>
          <p:spPr>
            <a:xfrm>
              <a:off x="1523880" y="190512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88000" y="19051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275616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8640" y="19926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Bienven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3440" y="2824560"/>
              <a:ext cx="2838240" cy="21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mensaje in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Ofrecer las opciones de a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asar el control 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0960" y="205776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ienveni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A2C-08E2-4B43-A971-50CB3E0E7A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ase de Datos de 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CF1-BED8-4093-96A0-7559AC17A5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Cambio es Inevi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r los cambios probables en una o dos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, formatos de comunicación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las dependencias del hardware (portabi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el acoplamiento entr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AC3-3293-4448-B74B-C4364D7DDF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osponer Decis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0B4-B57F-4372-BBAE-DC5E0596E4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Receta será también un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contener una cierta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redientes necesa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os a segu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que debe realizar una receta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plegar la receta en pantal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modificar ingredientes y/o pa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rimir la rec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es un modelo de formato para cada una de las re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la Base de Datos ofrece incluir una nueva rec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ea una nueva componente de Receta en blan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asignan los valores de la información con los datos proporcionados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5D8-33F4-46D9-A776-2AC50CE955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¿Qué es Orientación a Objetos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ción de clases y her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aje de mensa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estáticos y vir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un lenguaje orientado a objetos no es condición necesaria ni suficiente para hacer un programa orientado a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3FB-ED3D-4B67-81FA-089FEB479F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Recet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3880" y="2057400"/>
            <a:ext cx="6175440" cy="4114800"/>
            <a:chOff x="1523880" y="2057400"/>
            <a:chExt cx="6175440" cy="4114800"/>
          </a:xfrm>
        </p:grpSpPr>
        <p:sp>
          <p:nvSpPr>
            <p:cNvPr id="126" name=""/>
            <p:cNvSpPr/>
            <p:nvPr/>
          </p:nvSpPr>
          <p:spPr>
            <a:xfrm>
              <a:off x="1523880" y="205740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8000" y="20574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290844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0160" y="21448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Rec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5880" y="2976480"/>
              <a:ext cx="291420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la recet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ingred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pasos a segui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mprimir la rece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220968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 de Com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81B-6356-4FA1-80EF-DEBD0B8DB1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de Comidas permite (responsabilid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 y modificar un plan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un plan de comid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cular la lista de compras neces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nuevo plan tiene una Fecha asoci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Fecha es también una compo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ltar la comida de una Fecha partic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 del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D54-8F22-4DF0-BF7B-E40F8E5E6F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comensa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plegar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/modificar recetas de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6C5-E937-4AFF-A625-40E47A6096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ven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Rec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2"/>
            <a:endCxn id="137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7" idx="2"/>
            <a:endCxn id="139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8" idx="2"/>
            <a:endCxn id="140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8" idx="2"/>
            <a:endCxn id="141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0" idx="3"/>
            <a:endCxn id="141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9" idx="3"/>
            <a:endCxn id="140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Estructura de AC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4D6-F827-4BC1-8B74-35E3EAEFDB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71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22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96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70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4920" y="19875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ienven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6680" y="19875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ase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99960" y="1987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6600" y="19875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Planes de Com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712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224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58452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679040" y="4495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7120" y="51055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7040" y="265572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9640" y="297180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37360" y="35053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9800" y="419112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94320" y="480060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4840" y="251460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9600" y="259092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7000" y="3124080"/>
            <a:ext cx="3049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0" y="502920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514600"/>
            <a:ext cx="304560" cy="3505320"/>
          </a:xfrm>
          <a:prstGeom prst="downArrow">
            <a:avLst>
              <a:gd name="adj1" fmla="val 40620"/>
              <a:gd name="adj2" fmla="val 198058"/>
            </a:avLst>
          </a:prstGeom>
          <a:gradFill rotWithShape="0">
            <a:gsLst>
              <a:gs pos="0">
                <a:srgbClr val="00cc99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102960" y="388440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Diagrama de Secu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5B9-831A-439F-AA82-3270649C60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3824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stado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 de una componente es el conjunto de acciones que puede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junto de todas las acciones posibles de una componente se llama el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es la información contenida dentro de e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no es estático sino que puede cambiar co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7BE-89B7-40DC-ACA8-C375F725EF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stancias y Cl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varias Recetas en la Base de 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ablemente tienen distintos ingredientes y distintos pasos a seguir (estad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todas tendrán las mismas responsabilidades (comportami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ando la especificación de un sistema, nos centramos en el comportamiento común de las Rec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lase es un conjunto de objetos con el mismo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ndividuo de una Clase es una Instancia; la caracteriza su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F21-28B0-41C9-99A7-683FC4CCD7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r el comportamiento de una componente permite que otro programador pueda usarla sin conocer su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se llama ocultamiento de la información (information hid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mos que la componente encapsula  su comportamiento y muestra sólo los detalles necesarios para us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faz describe lo que la componente puede hac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hacia otros program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lementación describe cómo la componente realiza sus t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que ve el programador trabajando en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158-A47B-4ABD-9F16-DAA4B76BCC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factor crítico aquí es la comunic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componentes se desarroll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1DE-02D3-43E3-9C1D-A86643C4EC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Parn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será provisto de toda la información neces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s implementaciones pueden probarse para la mism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55F-F11B-42F5-B934-701CE28DDB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4160" y="4008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7520" y="40086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1440" y="53802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qu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94120" y="53802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1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Diseñ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El diseño del software consiste en crear un modelo del software deseado de modo que satisfaga los requisitos de buena 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A40-EB15-4001-8A97-09E6EAA682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guiendo el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general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sin estado interno, pueden implementarse como una fun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con estado y varias responsabilidades pueden implementarse como clas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responsabilidad será un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datos necesarios deben identifica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parámetros de los métodos se identifican con su nombre y su ori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datos internos se identifi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0C7-6DCC-4A93-8BE9-4F2DBACEB0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ección de Nombr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uías para elección de nombres [Keller, 1990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nombres fácilmente pronunciab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mayúsculas o guiones para unir palab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 cuidadoso con las abreviatu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nombres con diferentes interpretacio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los números como parte de un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funciones o variables con valores lógicos, deben tener nombres que sugieran este tipo, e.g., está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D67-ACF7-4670-9526-D8856EA731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Fech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981080"/>
            <a:ext cx="617544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4320" y="1981080"/>
            <a:ext cx="2700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91800" y="2068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29005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Fecha (año, mes, día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EF6-34AE-4B55-8204-6E0A1D8A0C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tallad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diseño detal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ligen las estructuras de datos inter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implementan los métodos definidos en l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F30-0348-4D31-A500-0A55966266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336840"/>
            <a:ext cx="175284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336840"/>
            <a:ext cx="175248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2920" y="490680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4560" y="3622680"/>
            <a:ext cx="511200" cy="1212840"/>
          </a:xfrm>
          <a:prstGeom prst="downArrow">
            <a:avLst>
              <a:gd name="adj1" fmla="val 50000"/>
              <a:gd name="adj2" fmla="val 5931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2920" y="198108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404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196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Proceso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001-AFAB-4724-92A3-4062684CB7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5105520" y="4403880"/>
            <a:ext cx="3637800" cy="1923480"/>
            <a:chOff x="5105520" y="4403880"/>
            <a:chExt cx="3637800" cy="1923480"/>
          </a:xfrm>
        </p:grpSpPr>
        <p:sp>
          <p:nvSpPr>
            <p:cNvPr id="63" name=""/>
            <p:cNvSpPr/>
            <p:nvPr/>
          </p:nvSpPr>
          <p:spPr>
            <a:xfrm>
              <a:off x="5105520" y="526104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87360" y="4403880"/>
              <a:ext cx="2955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Más que métodos, s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notaciones y guías par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l diseño de softwa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La creatividad y el rigor</a:t>
              </a:r>
              <a:br>
                <a:rPr sz="2000"/>
              </a:b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siguen siendo l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sencia del diseñ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étodos Estructurados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Estructu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Yourd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nálisis Estructurado de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Gane &amp; Sars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o de Sistemas Jack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Jackson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Orientado a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inson,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Booch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M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846-0AF9-4D44-B364-37FA12B004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7400" y="33861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im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12360" y="541656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por respons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por Responsabi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r a alguien una responsabilidad impl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pera un cierto comportam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e dará independencia para hacer su t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incipios de delegación y no interferencia son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psulamiento y modularidad como un 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para la 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A15-6CFB-4EEF-8EBF-50AB056FD5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stemas Chicos y Gran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ch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desarrollado por uno o unos pocos programad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persona entiende todas las faceta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gr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as personas participan en la program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abarca todo el conocimiento del siste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AF3-49E7-4A28-8FB8-98A34299F4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ar el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Dirigido por l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FF8-2ECE-43DF-A144-E81972319D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yudante de Cocin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a desarrol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udante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c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ractivo 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ligente (ACI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00A-FC6B-45E6-AF5F-CD546A29FB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28T15:52:47Z</cp:lastPrinted>
  <dcterms:modified xsi:type="dcterms:W3CDTF">2007-10-02T18:31:08Z</dcterms:modified>
  <cp:revision>34</cp:revision>
  <dc:subject/>
  <dc:title>CC31B: Desarrollo de Software de Aplicaciones</dc:title>
</cp:coreProperties>
</file>