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441-BE85-4160-BCE1-7AC35AE8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7A4-3D26-47FF-8292-D39DFF06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AC5-9425-424D-9EDF-BB5F662B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100-97B6-47E2-8DBB-6B02EFE6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89B-8996-46A4-98CC-C9EC09D5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17F-52D5-4583-988D-A91562EA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F28-7F5F-49CD-A6FA-2DB32ED8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4FE3-FFB5-450E-A366-52186BB0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FC1C-618A-473F-9C3A-2730DC2D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867-5B84-421F-B714-FAF1149E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9826-0713-4E47-B6ED-42B12613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BB11-DBAC-48B1-A94B-20D626AC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16F5-5960-4CC7-BA04-C0CD9DF6420D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 Software Orientado a Obje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quisi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II es una aplicación para PC que reemplaza los libros de recetas de co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ólo contiene recetas de cocina, sino que ayuda en la planificación de la comida por un cierto período (una sema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usuario puede interactuar con el ACII para planear el menú de cada 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istema escala los menúes de la semana según el número de comensales e imprime una lista de ingredientes a comp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86F-0AB3-47EB-B854-B0C25B255D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dentificar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eño de software complejo se inicia identificando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ponente es una entidad abstracta que puede desarrollar una tarea, o sea, asumir un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 de una componente (en el diseñ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un conjunto pequeño y bien definido de responsabi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actuar mínimamente con otr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7B7-98D6-4A45-B05A-50C83334E4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257800" y="4267080"/>
            <a:ext cx="3124080" cy="1981080"/>
            <a:chOff x="5257800" y="4267080"/>
            <a:chExt cx="3124080" cy="1981080"/>
          </a:xfrm>
        </p:grpSpPr>
        <p:sp>
          <p:nvSpPr>
            <p:cNvPr id="89" name=""/>
            <p:cNvSpPr/>
            <p:nvPr/>
          </p:nvSpPr>
          <p:spPr>
            <a:xfrm>
              <a:off x="5257800" y="4267080"/>
              <a:ext cx="31240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10440" y="42670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61040" y="433512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Nombre de la Compon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9960" y="474480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Lista de 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44640" y="433512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800" y="4724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Tarjetas CRC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rjetas CRC (Componente - Responsabilidad - Colaborador) son una técnica para organizar y registrar las responsabilidades de l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tarjeta con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mbre de la compon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sta de responsabilidad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as componentes con las que interactú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miembro del equipo de desarrollo tiene una o más tarjetas y está encargado de simular un escenario de ejecución, pasándole el control a otro objeto cuando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FDF-3429-4CDF-8F6B-C3EACBB1192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iclo “Qué - Quién”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actividad, tarea o funcionalidad identificada en la especificación de requisitos debe ser asignada a una componente como parte de sus respons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componente tiene muchas responsabilidades, es posiblemente mejor separarla en dos o más sub-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de diseño puede empezar a escribirse en este mo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ún el análisis se hace a nivel del sistema comple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 diseño están frescas en la mente de los desarroll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C30-EFB1-4DB9-83D4-E85D61CCB6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mponentes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comenzar la ejecución del ACII, se presentará una pantalla de Bienvenida con las siguientes op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rrer las recetas existen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regar una nueva receta a la base de da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ificar una receta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visar un plan de comidas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ctividades pueden clasificarse en do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as recet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os planes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8AFB-39C0-4545-A302-DF8F2E6DDF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23880" y="1905120"/>
            <a:ext cx="6175440" cy="4114800"/>
            <a:chOff x="1523880" y="1905120"/>
            <a:chExt cx="6175440" cy="4114800"/>
          </a:xfrm>
        </p:grpSpPr>
        <p:sp>
          <p:nvSpPr>
            <p:cNvPr id="103" name=""/>
            <p:cNvSpPr/>
            <p:nvPr/>
          </p:nvSpPr>
          <p:spPr>
            <a:xfrm>
              <a:off x="1523880" y="190512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88000" y="190512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3880" y="275616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08640" y="19926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Bienven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3440" y="2824560"/>
              <a:ext cx="2838240" cy="21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mensaje in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Ofrecer las opciones de a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asar el control a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0960" y="205776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ienveni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50A-654E-4A52-B4EA-346379515A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44880" y="20685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Base de Datos de 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2120" y="2900520"/>
            <a:ext cx="2336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Recorrida de las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odificación de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cluir nuevas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Bienven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ase de Datos de 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D60E-1EE2-4EF9-8285-D8F646A09E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 Cambio es Inevi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ambios deben afectar el menor número posible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ntrar los cambios probables en una o dos compon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, formatos de comunicación y s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las dependencias del hardware (portabil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el acoplamiento entr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umentar las razones de las decisiones de diseño como apoyo para futuros camb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F6F-C393-449A-8AB1-35CADF817D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osponer Decis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Hay que presentarle al usuario una lista de categorías de recetas a recorr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drá el usuario dar palabras clave como una serie de ingredientes y buscar las recetas con esos ingredi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Deben usarse barras de scroll o el cursor para moverse a través de la lista de rece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decisiones no son fundamentales porque afectan solamente la componente Bienvenida (anticipación del camb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960-5CEB-480E-89F6-54465535DF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Receta será también un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contener una cierta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redientes necesari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sos a segu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que debe realizar una receta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plegar la receta en pantal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ir modificar ingredientes y/o pas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rimir la rec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es un modelo de formato para cada una de las rec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la Base de Datos ofrece incluir una nueva rec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rea una nueva componente de Receta en blan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asignan los valores de la información con los datos proporcionados por e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Base de Datos da el inicio pero la componente Receta realiza las t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0DE-F587-4DEC-954E-1E948B245A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¿Qué es Orientación a Objetos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ición de clases y her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aje de mensaj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estáticos y vir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un lenguaje orientado a objetos no es condición necesaria ni suficiente para hacer un programa orientado a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D987-FE9E-4FFF-90E5-BF73CD9927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Recet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3880" y="2057400"/>
            <a:ext cx="6175440" cy="4114800"/>
            <a:chOff x="1523880" y="2057400"/>
            <a:chExt cx="6175440" cy="4114800"/>
          </a:xfrm>
        </p:grpSpPr>
        <p:sp>
          <p:nvSpPr>
            <p:cNvPr id="126" name=""/>
            <p:cNvSpPr/>
            <p:nvPr/>
          </p:nvSpPr>
          <p:spPr>
            <a:xfrm>
              <a:off x="1523880" y="205740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88000" y="20574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3880" y="290844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0160" y="21448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Rec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95880" y="2976480"/>
              <a:ext cx="291420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la receta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ingred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pasos a seguir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mprimir la rece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220968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 de Com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841-06D4-4EE3-9298-35E5E348D0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tra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n de Comidas permite (responsabilid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 y modificar un plan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un plan de comid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cular la lista de compras neces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nuevo plan tiene una Fecha asoci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Fecha es también una compo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ltar la comida de una Fecha partic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 del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787-B25E-4710-B696-A68479DC5C7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á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ida es la descripción de todas las Recetas a servirse en una determinada Fec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comensa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plegar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/modificar recetas de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EC56-0704-47DD-AFEE-B3F5FD0D56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29000" y="1981080"/>
            <a:ext cx="1676520" cy="60984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ven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34290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e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4290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Rec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8006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2"/>
            <a:endCxn id="137" idx="0"/>
          </p:cNvCxnSpPr>
          <p:nvPr/>
        </p:nvCxnSpPr>
        <p:spPr>
          <a:xfrm flipH="1">
            <a:off x="2285280" y="2590920"/>
            <a:ext cx="1981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6" idx="2"/>
            <a:endCxn id="138" idx="0"/>
          </p:cNvCxnSpPr>
          <p:nvPr/>
        </p:nvCxnSpPr>
        <p:spPr>
          <a:xfrm>
            <a:off x="4266720" y="2590920"/>
            <a:ext cx="16009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7" idx="2"/>
            <a:endCxn id="139" idx="0"/>
          </p:cNvCxnSpPr>
          <p:nvPr/>
        </p:nvCxnSpPr>
        <p:spPr>
          <a:xfrm>
            <a:off x="2285640" y="403812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38" idx="2"/>
            <a:endCxn id="140" idx="0"/>
          </p:cNvCxnSpPr>
          <p:nvPr/>
        </p:nvCxnSpPr>
        <p:spPr>
          <a:xfrm flipH="1">
            <a:off x="4799880" y="4038120"/>
            <a:ext cx="10674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8" idx="2"/>
            <a:endCxn id="141" idx="0"/>
          </p:cNvCxnSpPr>
          <p:nvPr/>
        </p:nvCxnSpPr>
        <p:spPr>
          <a:xfrm>
            <a:off x="5866920" y="4038120"/>
            <a:ext cx="12963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0" idx="3"/>
            <a:endCxn id="141" idx="1"/>
          </p:cNvCxnSpPr>
          <p:nvPr/>
        </p:nvCxnSpPr>
        <p:spPr>
          <a:xfrm>
            <a:off x="5638320" y="51051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39" idx="3"/>
            <a:endCxn id="140" idx="1"/>
          </p:cNvCxnSpPr>
          <p:nvPr/>
        </p:nvCxnSpPr>
        <p:spPr>
          <a:xfrm>
            <a:off x="3123720" y="510516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Estructura de AC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1E2-8B64-479E-B45E-3C11A68F27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71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22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96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70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4920" y="19875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ienven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6680" y="19875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ase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99960" y="19875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36600" y="198756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Planes de Com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712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3224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58452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679040" y="4495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7120" y="51055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7040" y="265572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9640" y="297180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37360" y="350532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9800" y="419112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94320" y="480060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hacerPla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4840" y="2514600"/>
            <a:ext cx="30456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9600" y="2590920"/>
            <a:ext cx="3049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7000" y="3124080"/>
            <a:ext cx="3049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0" y="5029200"/>
            <a:ext cx="3049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514600"/>
            <a:ext cx="304560" cy="3505320"/>
          </a:xfrm>
          <a:prstGeom prst="downArrow">
            <a:avLst>
              <a:gd name="adj1" fmla="val 40620"/>
              <a:gd name="adj2" fmla="val 198058"/>
            </a:avLst>
          </a:prstGeom>
          <a:gradFill rotWithShape="0">
            <a:gsLst>
              <a:gs pos="0">
                <a:srgbClr val="00cc99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-102960" y="388440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Diagrama de Secu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830-FB6D-4793-99EC-51E17BE1A3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38240" y="5486400"/>
            <a:ext cx="787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0880">
              <a:lnSpc>
                <a:spcPct val="10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necesario que una componente mantenga variables de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stado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portamiento  de una componente es el conjunto de acciones que puede re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njunto de todas las acciones posibles de una componente se llama el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rotoco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es la información contenida dentro de e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no es estático sino que puede cambiar co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83A-CE7F-4298-8236-C408C94EDEF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stancias y Cla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varias Recetas en la Base de Da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ablemente tienen distintos ingredientes y distintos pasos a seguir (estad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todas tendrán las mismas responsabilidades (comportami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iciando la especificación de un sistema, nos centramos en el comportamiento común de las Rec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lase es un conjunto de objetos con el mismo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individuo de una Clase es una Instancia; la caracteriza su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489-39BD-46FF-945C-90D8941AC6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r el comportamiento de una componente permite que otro programador pueda usarla sin conocer su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se llama ocultamiento de la información (information hid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mos que la componente encapsula  su comportamiento y muestra sólo los detalles necesarios para us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rfaz describe lo que la componente puede hac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hacia otros program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lementación describe cómo la componente realiza sus t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que ve el programador trabajando en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3F8-1AF2-4687-838B-DC46D83F9D6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 la Interfaz y la Implementación es quizás uno de los principales principios de la Ingeniería de Software (separación de interes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cultamiento de la información es especialmente útil en desarrollos donde participan muchas perso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factor crítico aquí es la comunica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componentes se desarrollan en forma indepe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también muy importante para la reutilización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A5E-6855-4DDB-A871-77B01C7F615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 de Parn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debe proveer al usuario de toda la información necesaria para hacer uso efectivo de sus servicios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será provisto de toda la información necesaria para llevar a cabo las responsabilidades que le son asignadas a la componente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s implementaciones pueden probarse para la mism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1610-656E-422F-AFE9-228608BC1E2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4160" y="4008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7520" y="400860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1440" y="53802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qu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94120" y="53802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71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Diseñ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El diseño del software consiste en crear un modelo del software deseado de modo que satisfaga los requisitos de buena f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1CC0-A54C-42DF-A923-F09786BB76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guiendo el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general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sin estado interno, pueden implementarse como una fun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con estado y varias responsabilidades pueden implementarse como clas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responsabilidad será un mét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s los datos necesarios deben identifica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parámetros de los métodos se identifican con su nombre y su ori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datos internos se identifi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FCAD-8739-43C0-A744-67CD0DBFF3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ección de Nombr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uías para elección de nombres [Keller, 1990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nombres fácilmente pronunciab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mayúsculas o guiones para unir palab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 cuidadoso con las abreviatu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nombres con diferentes interpretacio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los números como parte de un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funciones o variables con valores lógicos, deben tener nombres que sugieran este tipo, e.g., está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scribir las tarjetas CRC con los nombres seleccionados para cada variable y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ECA-180D-4B4D-8FCD-EAE46EC61F5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Fech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981080"/>
            <a:ext cx="617544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64320" y="1981080"/>
            <a:ext cx="2700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91800" y="2068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Fec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2900520"/>
            <a:ext cx="41911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antener información de un día específ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Fecha (año, mes, día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crea una fe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splegarEditar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despliega la información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un día en una ventana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ermitiendo que el usuario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modifi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rearListaCompras 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agregar ingredientes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comida a la lista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4D06-767D-4DDE-888D-A07C6CCC877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tallad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ego de detallar los nombres precisos de cada variable de estado y responsabilidad, cada componente puede desarrollarse separ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diseño detall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ligen las estructuras de datos inter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implementan los métodos definidos en l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2AE-EC47-48F5-9529-B287B70A20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3336840"/>
            <a:ext cx="175284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3336840"/>
            <a:ext cx="175248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12920" y="490680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4560" y="3622680"/>
            <a:ext cx="511200" cy="1212840"/>
          </a:xfrm>
          <a:prstGeom prst="downArrow">
            <a:avLst>
              <a:gd name="adj1" fmla="val 50000"/>
              <a:gd name="adj2" fmla="val 59313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2920" y="198108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404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9196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Proceso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B4F2-74CB-404E-85DD-107F3C03CD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5105520" y="4403880"/>
            <a:ext cx="3637800" cy="1923480"/>
            <a:chOff x="5105520" y="4403880"/>
            <a:chExt cx="3637800" cy="1923480"/>
          </a:xfrm>
        </p:grpSpPr>
        <p:sp>
          <p:nvSpPr>
            <p:cNvPr id="63" name=""/>
            <p:cNvSpPr/>
            <p:nvPr/>
          </p:nvSpPr>
          <p:spPr>
            <a:xfrm>
              <a:off x="5105520" y="526104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87360" y="4403880"/>
              <a:ext cx="2955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Más que métodos, s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notaciones y guías par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l diseño de softwar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La creatividad y el rigor</a:t>
              </a:r>
              <a:br>
                <a:rPr sz="2000"/>
              </a:b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siguen siendo l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sencia del diseñ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étodos Estructurados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Estructu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Yourd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Análisis Estructurado de Siste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Gane &amp; Sars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arrollo de Sistemas Jack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Jackson,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Orientado a Obje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inson,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Booch,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UM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C39-438C-4202-ACB1-139ECCC355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92600" y="2081160"/>
            <a:ext cx="8924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0811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385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3520" y="4138560"/>
            <a:ext cx="89208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2549520"/>
            <a:ext cx="1233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7080" y="4138560"/>
            <a:ext cx="136440" cy="12034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29320" y="46069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57400" y="33861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im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12360" y="541656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por respons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por Responsabilida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r a alguien una responsabilidad impl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spera un cierto comportami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le dará independencia para hacer su t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incipios de delegación y no interferencia son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capsulamiento y modularidad como un 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para la re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FD33-DEE2-498C-8752-DE9F98EB20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stemas Chicos y Gran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ch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 desarrollado por uno o unos pocos programado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persona entiende todas las faceta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gr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chas personas participan en la program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pecificadores, diseñadores y programadores pueden ser distintas perso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ie abarca todo el conocimiento del sistem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anejo de la comunicación es un asunto importante y complej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AE4-5716-4274-B114-D8FCE9DDB3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ar el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eneral es más fácil comprender la funcionalidad del sistema antes que otros aspectos (datos, sincronizació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Dirigido por l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383-3D2D-4F71-A9A5-C889338EA5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Ayudante de Cocin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 a desarrol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udante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c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ractivo 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ligente (ACI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specificaciones son poco más que el nombre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upone que éste es el primero de una línea de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BB4-DA99-4A2C-ABC7-49936483A8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4-28T15:52:47Z</cp:lastPrinted>
  <dcterms:modified xsi:type="dcterms:W3CDTF">2007-10-02T18:31:08Z</dcterms:modified>
  <cp:revision>34</cp:revision>
  <dc:subject/>
  <dc:title>CC31B: Desarrollo de Software de Aplicaciones</dc:title>
</cp:coreProperties>
</file>