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8237-2F43-4FC6-B8EF-BCF12108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D4C7-D6CB-4F95-8B36-EC4E208B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8EE7-1FD1-4DF4-BB7B-2DA3F3683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249-CE7B-4632-A665-F4DA6F17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853-D6B1-4305-9D61-D9F15B6B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038-F5B9-49E7-86C2-DCAACDA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6D4-4638-4D1E-B519-AC7772CE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4A72-3160-4BBA-99D6-F2993896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8C9-268A-486F-A56B-F049881E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FC1-03DF-44C4-A323-CDAD314A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61B1-6461-49AA-B5F9-D2A86923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2272-7B33-46CB-83EF-D2841747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6B22-3F54-4575-97DA-592493891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35000" y="638280"/>
          <a:ext cx="7675560" cy="582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638280"/>
                    <a:ext cx="7675560" cy="58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1120" y="915840"/>
          <a:ext cx="7767720" cy="528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7767720" cy="528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77800" y="480960"/>
          <a:ext cx="8301240" cy="6148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480960"/>
                    <a:ext cx="8301240" cy="614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96720" y="577800"/>
          <a:ext cx="8482320" cy="60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577800"/>
                    <a:ext cx="8482320" cy="60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81120" y="717480"/>
          <a:ext cx="8224920" cy="556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717480"/>
                    <a:ext cx="8224920" cy="556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19120" y="568440"/>
          <a:ext cx="832500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568440"/>
                    <a:ext cx="832500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469800" y="816120"/>
          <a:ext cx="8386920" cy="59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816120"/>
                    <a:ext cx="8386920" cy="59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878040" y="655560"/>
          <a:ext cx="789300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655560"/>
                    <a:ext cx="789300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792000" y="619200"/>
          <a:ext cx="7990200" cy="615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19200"/>
                    <a:ext cx="7990200" cy="615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06520" y="692280"/>
          <a:ext cx="85122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692280"/>
                    <a:ext cx="85122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444600" y="528480"/>
          <a:ext cx="8542080" cy="657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528480"/>
                    <a:ext cx="8542080" cy="65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34440" cy="611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34440" cy="611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9440" y="625320"/>
          <a:ext cx="8218440" cy="587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25320"/>
                    <a:ext cx="8218440" cy="587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520560"/>
          <a:ext cx="8381880" cy="599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520560"/>
                    <a:ext cx="8381880" cy="599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06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lass R1 extends 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98984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1141560"/>
                <a:gridCol w="1389240"/>
                <a:gridCol w="893520"/>
                <a:gridCol w="1141560"/>
                <a:gridCol w="1141200"/>
                <a:gridCol w="114156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r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1(c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250920" y="249228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500280"/>
            <a:ext cx="0" cy="122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5445000"/>
            <a:ext cx="25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06692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140360" y="2637000"/>
            <a:ext cx="8632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140360" y="2708280"/>
            <a:ext cx="93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40360" y="3141720"/>
            <a:ext cx="86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40360" y="2781360"/>
            <a:ext cx="863280" cy="273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211640" y="3213000"/>
            <a:ext cx="79200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42960" y="668160"/>
          <a:ext cx="8337600" cy="602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68160"/>
                    <a:ext cx="8337600" cy="60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8960" y="817560"/>
          <a:ext cx="819468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817560"/>
                    <a:ext cx="819468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30360" y="557280"/>
          <a:ext cx="792936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57280"/>
                    <a:ext cx="792936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853920"/>
          <a:ext cx="818820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853920"/>
                    <a:ext cx="818820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7-08-31T12:58:05Z</dcterms:modified>
  <cp:revision>19</cp:revision>
  <dc:subject/>
  <dc:title>Sin título de diapositiva</dc:title>
</cp:coreProperties>
</file>