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DC9-49A4-475E-ADE7-DA3E1E25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88A-A04A-427F-B6B6-8EA7F68F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E82-98F7-4F78-9160-D52D3922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69B-0936-4DEF-A89E-0645F4CE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B7D-FA4B-4EEA-9C8B-F8789F8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8CF-C140-4216-B786-082BA430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CC1-7D0B-4AC0-AEF5-4C81F61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E62-6BC5-4111-BA64-90E8EB64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0505-422E-4540-96F8-A49F58B3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A1E-813A-44E9-97DC-A41A540F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0D0-B763-4DD1-BE7A-492122E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36D-A1DA-489E-A8DD-90D5B0CA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A34A-E2AC-4306-B90D-B9D395A73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520560"/>
          <a:ext cx="8381880" cy="59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20560"/>
                    <a:ext cx="8381880" cy="59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s R1 extends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98984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1141560"/>
                <a:gridCol w="1389240"/>
                <a:gridCol w="893520"/>
                <a:gridCol w="1141560"/>
                <a:gridCol w="1141200"/>
                <a:gridCol w="114156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249228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50028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4500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6692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140360" y="263700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828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1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40360" y="2781360"/>
            <a:ext cx="86328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11640" y="321300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8-31T12:58:05Z</dcterms:modified>
  <cp:revision>19</cp:revision>
  <dc:subject/>
  <dc:title>Sin título de diapositiva</dc:title>
</cp:coreProperties>
</file>