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41AD-98E9-43A2-846C-1471CA3D8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DA98-7EEB-4636-9FBD-E99B780E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5719-E976-40BE-9580-3BE9E5D0B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912D-D8F5-4B02-A549-AA05C6A16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4F80-6CE2-4F51-9AE1-CBE9C53E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FA5E-12A8-4CBC-84E1-B48D0F8D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5E07-B38C-40D2-90A6-C6B79C11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CFAE-8A64-4A31-B900-5AEAAD6E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E01C-54B9-479F-951F-ECDBE7A0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E364-15F5-407B-A7F7-320D0068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5A2A-E034-40AB-A1A6-8955903A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4F0E-113E-4F97-A2D9-0C648726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73F3-F003-413E-85B8-489FA00E1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35000" y="638280"/>
          <a:ext cx="7675560" cy="58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5000" y="638280"/>
                    <a:ext cx="7675560" cy="58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81120" y="915840"/>
          <a:ext cx="7767720" cy="528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915840"/>
                    <a:ext cx="7767720" cy="528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77800" y="480960"/>
          <a:ext cx="8301240" cy="614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480960"/>
                    <a:ext cx="8301240" cy="61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96720" y="577800"/>
          <a:ext cx="8482320" cy="600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577800"/>
                    <a:ext cx="8482320" cy="60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681120" y="717480"/>
          <a:ext cx="8224920" cy="556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717480"/>
                    <a:ext cx="8224920" cy="556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19120" y="568440"/>
          <a:ext cx="8325000" cy="617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568440"/>
                    <a:ext cx="8325000" cy="61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469800" y="816120"/>
          <a:ext cx="8386920" cy="590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816120"/>
                    <a:ext cx="8386920" cy="59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878040" y="655560"/>
          <a:ext cx="7893000" cy="57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655560"/>
                    <a:ext cx="7893000" cy="57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792000" y="619200"/>
          <a:ext cx="7990200" cy="615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619200"/>
                    <a:ext cx="7990200" cy="61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506520" y="692280"/>
          <a:ext cx="8512200" cy="574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692280"/>
                    <a:ext cx="8512200" cy="57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444600" y="528480"/>
          <a:ext cx="8542080" cy="657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528480"/>
                    <a:ext cx="8542080" cy="65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9640" y="476280"/>
          <a:ext cx="8434440" cy="611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76280"/>
                    <a:ext cx="8434440" cy="61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49440" y="625320"/>
          <a:ext cx="8218440" cy="587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625320"/>
                    <a:ext cx="8218440" cy="587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93840" y="520560"/>
          <a:ext cx="8381880" cy="599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520560"/>
                    <a:ext cx="8381880" cy="599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064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lass R1 extends 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68360" y="1125360"/>
          <a:ext cx="7989840" cy="6031080"/>
        </p:xfrm>
        <a:graphic>
          <a:graphicData uri="http://schemas.openxmlformats.org/drawingml/2006/table">
            <a:tbl>
              <a:tblPr/>
              <a:tblGrid>
                <a:gridCol w="1141200"/>
                <a:gridCol w="1141560"/>
                <a:gridCol w="1389240"/>
                <a:gridCol w="893520"/>
                <a:gridCol w="1141560"/>
                <a:gridCol w="1141200"/>
                <a:gridCol w="114156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r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(cto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ch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1(cto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i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250920" y="2492280"/>
            <a:ext cx="2520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50920" y="2708280"/>
            <a:ext cx="24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5013360"/>
            <a:ext cx="2520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276720" y="3500280"/>
            <a:ext cx="0" cy="122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5445000"/>
            <a:ext cx="2520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50920" y="5734080"/>
            <a:ext cx="25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066920" y="2565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4140360" y="2637000"/>
            <a:ext cx="86328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140360" y="2708280"/>
            <a:ext cx="936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40360" y="3141720"/>
            <a:ext cx="86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140360" y="2781360"/>
            <a:ext cx="86328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211640" y="3213000"/>
            <a:ext cx="79200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42960" y="668160"/>
          <a:ext cx="8337600" cy="602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68160"/>
                    <a:ext cx="8337600" cy="60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88960" y="817560"/>
          <a:ext cx="8194680" cy="543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8960" y="817560"/>
                    <a:ext cx="819468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30360" y="557280"/>
          <a:ext cx="792936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57280"/>
                    <a:ext cx="792936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81120" y="853920"/>
          <a:ext cx="818820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853920"/>
                    <a:ext cx="818820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6-04-13T19:29:55Z</cp:lastPrinted>
  <dcterms:modified xsi:type="dcterms:W3CDTF">2007-08-31T12:58:05Z</dcterms:modified>
  <cp:revision>19</cp:revision>
  <dc:subject/>
  <dc:title>Sin título de diapositiva</dc:title>
</cp:coreProperties>
</file>