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CDE-7CF2-4CC1-BA26-DDDF33CC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B7C-AE68-4501-89F6-3E2C2F43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D29-816B-49C7-BFF3-AA131563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C0D-5C49-4343-BE7D-19E4CCB1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A29-DFCF-44BC-856A-8C9DC34B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F9C-873B-4293-8FD6-213892EA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41C-6C90-4C42-8A31-9B5C7D31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402-D5F2-48DB-ACB3-0CABA01B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38B-9AA3-4DE2-813D-57D3CCEB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41D-8D3B-45A4-A70B-FB5FEAAD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B0A-1D89-4642-A483-86146F6D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7A8-4B4D-4EA5-965F-581B09E1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A9B2-D890-4465-B9D7-3FD77BE07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35000" y="638280"/>
          <a:ext cx="76755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638280"/>
                    <a:ext cx="76755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1120" y="915840"/>
          <a:ext cx="7767720" cy="528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767720" cy="52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77800" y="480960"/>
          <a:ext cx="830124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0960"/>
                    <a:ext cx="830124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96720" y="577800"/>
          <a:ext cx="848232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77800"/>
                    <a:ext cx="848232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81120" y="717480"/>
          <a:ext cx="8224920" cy="556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224920" cy="55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19120" y="568440"/>
          <a:ext cx="832500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68440"/>
                    <a:ext cx="832500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9800" y="816120"/>
          <a:ext cx="838692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816120"/>
                    <a:ext cx="838692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78040" y="655560"/>
          <a:ext cx="789300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55560"/>
                    <a:ext cx="789300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792000" y="619200"/>
          <a:ext cx="799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19200"/>
                    <a:ext cx="799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06520" y="692280"/>
          <a:ext cx="85122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92280"/>
                    <a:ext cx="85122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44600" y="528480"/>
          <a:ext cx="8542080" cy="657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28480"/>
                    <a:ext cx="8542080" cy="65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344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344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9440" y="625320"/>
          <a:ext cx="8218440" cy="587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25320"/>
                    <a:ext cx="821844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3840" y="520560"/>
          <a:ext cx="8381880" cy="59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520560"/>
                    <a:ext cx="8381880" cy="59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6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lass R1 extends 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125360"/>
          <a:ext cx="798984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1141560"/>
                <a:gridCol w="1389240"/>
                <a:gridCol w="893520"/>
                <a:gridCol w="1141560"/>
                <a:gridCol w="1141200"/>
                <a:gridCol w="114156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(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c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1(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50920" y="2492280"/>
            <a:ext cx="25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76720" y="3500280"/>
            <a:ext cx="0" cy="122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5445000"/>
            <a:ext cx="25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06692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140360" y="2637000"/>
            <a:ext cx="863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140360" y="2708280"/>
            <a:ext cx="936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314172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40360" y="2781360"/>
            <a:ext cx="86328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211640" y="3213000"/>
            <a:ext cx="79200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2960" y="668160"/>
          <a:ext cx="83376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376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88960" y="817560"/>
          <a:ext cx="819468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817560"/>
                    <a:ext cx="819468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557280"/>
          <a:ext cx="7929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57280"/>
                    <a:ext cx="7929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81120" y="853920"/>
          <a:ext cx="818820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53920"/>
                    <a:ext cx="818820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7-08-31T12:58:05Z</dcterms:modified>
  <cp:revision>19</cp:revision>
  <dc:subject/>
  <dc:title>Sin título de diapositiva</dc:title>
</cp:coreProperties>
</file>