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F2E8-3906-4874-A59F-94FACF29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ADD-CD3A-421D-BA06-2942D2C0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468-B46A-4B75-90D9-AEE9D85F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F7EC-4A71-4489-96ED-A37A4C10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AD64-6661-4BAA-8E33-362825E5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293-71C6-4770-B322-6C3B8267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C46-E21E-40AC-81ED-A6462BE2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ABAB-1B31-471F-9AEC-F8B5A579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2B9-007F-4DF4-9EBA-94EA7DFA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C4E4-9109-4383-8741-256391DB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17B-EF0C-42CF-ABA8-2CB8AB50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5EBC-AA67-4114-9E77-4778FDFD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0BA3-E030-4B63-B0AF-B8A4F3B1E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35000" y="638280"/>
          <a:ext cx="767556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638280"/>
                    <a:ext cx="76755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1120" y="915840"/>
          <a:ext cx="7767720" cy="528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915840"/>
                    <a:ext cx="7767720" cy="528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77800" y="480960"/>
          <a:ext cx="830124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0960"/>
                    <a:ext cx="830124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96720" y="577800"/>
          <a:ext cx="848232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77800"/>
                    <a:ext cx="848232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81120" y="717480"/>
          <a:ext cx="8224920" cy="556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717480"/>
                    <a:ext cx="8224920" cy="556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19120" y="568440"/>
          <a:ext cx="832500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68440"/>
                    <a:ext cx="832500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69800" y="816120"/>
          <a:ext cx="8386920" cy="59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816120"/>
                    <a:ext cx="838692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878040" y="655560"/>
          <a:ext cx="789300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655560"/>
                    <a:ext cx="789300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792000" y="619200"/>
          <a:ext cx="799020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619200"/>
                    <a:ext cx="799020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06520" y="692280"/>
          <a:ext cx="8512200" cy="57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692280"/>
                    <a:ext cx="8512200" cy="57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44600" y="528480"/>
          <a:ext cx="8542080" cy="657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528480"/>
                    <a:ext cx="8542080" cy="65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476280"/>
          <a:ext cx="8434440" cy="61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434440" cy="61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49440" y="625320"/>
          <a:ext cx="8218440" cy="587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625320"/>
                    <a:ext cx="821844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3840" y="520560"/>
          <a:ext cx="8381880" cy="599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520560"/>
                    <a:ext cx="8381880" cy="599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6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lass R1 extends 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1125360"/>
          <a:ext cx="7989840" cy="6031080"/>
        </p:xfrm>
        <a:graphic>
          <a:graphicData uri="http://schemas.openxmlformats.org/drawingml/2006/table">
            <a:tbl>
              <a:tblPr/>
              <a:tblGrid>
                <a:gridCol w="1141200"/>
                <a:gridCol w="1141560"/>
                <a:gridCol w="1389240"/>
                <a:gridCol w="893520"/>
                <a:gridCol w="1141560"/>
                <a:gridCol w="1141200"/>
                <a:gridCol w="114156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r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(c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c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1(c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50920" y="2492280"/>
            <a:ext cx="25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50920" y="27082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013360"/>
            <a:ext cx="25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276720" y="3500280"/>
            <a:ext cx="0" cy="122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5445000"/>
            <a:ext cx="25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50920" y="57340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066920" y="2565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4140360" y="2637000"/>
            <a:ext cx="863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140360" y="2708280"/>
            <a:ext cx="936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314172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40360" y="2781360"/>
            <a:ext cx="86328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211640" y="3213000"/>
            <a:ext cx="79200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42960" y="668160"/>
          <a:ext cx="833760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68160"/>
                    <a:ext cx="83376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88960" y="817560"/>
          <a:ext cx="8194680" cy="54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817560"/>
                    <a:ext cx="819468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557280"/>
          <a:ext cx="79293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57280"/>
                    <a:ext cx="79293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81120" y="853920"/>
          <a:ext cx="818820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853920"/>
                    <a:ext cx="818820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7-08-31T12:58:05Z</dcterms:modified>
  <cp:revision>19</cp:revision>
  <dc:subject/>
  <dc:title>Sin título de diapositiva</dc:title>
</cp:coreProperties>
</file>