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A00-BA5F-462F-920A-8B44956B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B230-0821-45F0-8B85-8F32A010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EB8-DB80-4FE5-868E-CC2C196B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B0AC-F894-4DCE-8A4E-7C150BBB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C20B-C776-47AF-ADA9-30E95C40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6BC-763C-4CA1-93F4-984E8473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E92-DF5F-4529-A5E8-722E1497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176C-0D84-4F66-B5D4-63AB5B04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E213-A279-4BDE-B22A-88CFB77E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7AC-953E-499B-9370-5AC0F808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F32-E8A8-4456-90A5-83B71EBD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1CF-693B-486B-9B03-B60A894B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27C9-1790-4215-988A-ABED6C7E31C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1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107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11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Aprox. 5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5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E01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á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arcía Tatian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Estudio de Prefactibilidad Técnico Económica de Producción de Etanol a Partir de Productos Agroindustriales para Uso como Combustible.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ernández-R.Donoso-L.Herrera-F.Grac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órdova, Ariel And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ó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-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-H.Pal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7-09-06T16:00:51Z</dcterms:modified>
  <cp:revision>141</cp:revision>
  <dc:subject/>
  <dc:title>El ingeniero, etica y sociedad</dc:title>
</cp:coreProperties>
</file>