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BAB4-386F-439B-A8F8-B3894B237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CDC7-9B94-42BE-8AB5-0C7DB89E6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25C6-374D-4253-BB6A-1E6071673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DC9A-4631-4B0B-81B1-D35FB0F90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BE6D-D59B-4B85-89F8-CF5F616BE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602D-AAD9-43A7-90D1-3CBF31EAE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BAC0-3957-4EF0-A64D-E1680F2A3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34CE-FCFB-4DD1-81CF-57D0B0D84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B2A6-F39E-429F-809B-FF2A218F0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4BA7-8BD3-404B-A7A3-08E345289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9E91-D0CC-47B8-BCD1-D636757C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00E0-D252-439A-9C5E-AD39C801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62BBB-0866-467A-B960-F2930F61BE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bajo de Títul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T-IQ69 F/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2895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http://www.diq.uchile.cl/~btcursos/titulo/index_F.htm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152280"/>
            <a:ext cx="8229600" cy="58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18 de Octubre 14:30 Sala por fija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Queirolo Cordova, Ariel And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REFORMADO DE ALCOHOL PARA LA PRODUCCION DE HIDROGENO, ESTUDIO TEORICO Y EXPERIM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F.Gracia-P Araya-C.Salgado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Rosas Gomez, Cristian Marc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ESTUDIO TECNICO Y ECONOMICO DEL REJUVENECIMIENTO DE FIBRAS RECICLADAS EN PAPELES PARA CORRUG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F. Gracia-D.Rodriguez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Urzua Guerra, Pablo Wal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MODELO FISICO PREDICTIVO DE CONVERSION CONTINUA EN LECHO EMPAC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F.Gracia-G.Rivero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560" y="16765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sistencia Obligatoria a TODA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las present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71320" y="3805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Datos Prác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no debe durar más de 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20 min con preguntas (5 m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Log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Se cuenta con PC y Datash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ebe entregar algún tipo de material escrito a los profesores de la comisió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71320" y="609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se debe centrar en los siguientes pu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Introducción (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BREVE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Objetivos generales y específicos de la 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sultados obten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iscusión y Conclusiones PA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Actividades 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923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-BT-IQ69F</a:t>
            </a:r>
            <a:br>
              <a:rPr sz="4400"/>
            </a:br>
            <a:br>
              <a:rPr sz="4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3-30/8- 6/9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7/9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aller sobre redacción borrador de memoria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1-25/10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-TENIDA FORMAL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or fijar: Como prepararse para una entrevista de trabajo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br>
              <a:rPr sz="2400"/>
            </a:br>
            <a:r>
              <a:rPr b="1" lang="es-ES" sz="4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Ultimo día exámenes: </a:t>
            </a:r>
            <a:r>
              <a:rPr b="0" lang="es-E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4000"/>
            </a:br>
            <a:br>
              <a:rPr sz="2400"/>
            </a:b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3 semanas más </a:t>
            </a: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 por parte de la comisión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3 semanas más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4920" y="2923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-BT-IQ69H</a:t>
            </a:r>
            <a:br>
              <a:rPr sz="3600"/>
            </a:br>
            <a:r>
              <a:rPr b="1" lang="es-E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rimavera 2006</a:t>
            </a:r>
            <a:br>
              <a:rPr sz="36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aller sobre redacción borrador de memoria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-TENIDA FORMAL </a:t>
            </a:r>
            <a:br>
              <a:rPr sz="2400"/>
            </a:br>
            <a:br>
              <a:rPr sz="2400"/>
            </a:br>
            <a:r>
              <a:rPr b="0" lang="es-E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40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 por parte de la comisión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Calend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152280"/>
            <a:ext cx="8229600" cy="72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23 de Agosto 14:30 Sala por fija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ominetti Allende, Ornella Cecil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Comparación teórica de las capacidades metabólicas de Saccharomyces cerevisiae y Pichia pastoris para la producción de S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Comic Sans MS"/>
              </a:rPr>
              <a:t>J.Asenjo-A. Maass-Z.</a:t>
            </a: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GERDTZEN- B.Andre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ortes Burgos, Maria Pa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Prediccion del coeficiente de particion de proteínas en Sistemas de dos Fases Acuosas (ATPS) a traves de la caracterización bioinformatica de su superficie</a:t>
            </a: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C.Salgado-B.Andrews-ME Lienqu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Santander Morales, Carolina Beatri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Corrosión bacteriana industrial: Mecanismos de control y medidas para su inhib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Comic Sans MS"/>
              </a:rPr>
              <a:t>L.Herrera-B.Escobar-J.Hernad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152280"/>
            <a:ext cx="8229600" cy="75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30 de Agosto 14:30 Sala por fija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lgueta Jara, Juan Pabl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Estimación de la biodiversidad de arqueas presente en procesos de biolixiviación, mediante análisis de D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B.Escobar-O.Salazar-T.Varga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Alcaino Reyes, Eloisa Del Car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Determinación de compuestos de azufre reducido en soluciones de biolixiviación de pirita y calcopirita con Leptospirillum ferrooxidan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B.Escobar-T. Vargas-J. Ca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Vasquez Bravo, Felipe Rodri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Caracterización Técnico-Económica de Revestimiento Anticorrosivo de Poliurea para Precipitador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H.Palza-R.Quijada-F.Gra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152280"/>
            <a:ext cx="8229600" cy="58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6 de Septiembre 14:30 Sala por fija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Queirolo Cordova, Ariel And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REFORMADO DE ALCOHOL PARA LA PRODUCCION DE HIDROGENO, ESTUDIO TEORICO Y EXPERIM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F.Gracia-P Araya-C.Salgado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Rosas Gomez, Cristian Marc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ESTUDIO TECNICO Y ECONOMICO DEL REJUVENECIMIENTO DE FIBRAS RECICLADAS EN PAPELES PARA CORRUG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F. Gracia-D.Rodriguez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Urzua Guerra, Pablo Wal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MODELO FISICO PREDICTIVO DE CONVERSION CONTINUA EN LECHO EMPAC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F.Gracia-G.Rivero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152280"/>
            <a:ext cx="8229600" cy="72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11 de Octubre 14:30 Sala por fija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ominetti Allende, Ornella Cecil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Comparación teórica de las capacidades metabólicas de Saccharomyces cerevisiae y Pichia pastoris para la producción de S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Comic Sans MS"/>
              </a:rPr>
              <a:t>J.Asenjo-A. Maass-Z.</a:t>
            </a: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GERDTZEN- B.Andre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ortes Burgos, Maria Pa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Prediccion del coeficiente de particion de proteínas en Sistemas de dos Fases Acuosas (ATPS) a traves de la caracterización bioinformatica de su superficie</a:t>
            </a: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C.Salgado-B.Andrews-ME Lienqu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Santander Morales, Carolina Beatri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Corrosión bacteriana industrial: Mecanismos de control y medidas para su inhib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Comic Sans MS"/>
              </a:rPr>
              <a:t>L.Herrera-B.Escobar-J.Hernad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152280"/>
            <a:ext cx="8229600" cy="75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18 de Octubre 14:30 Sala por fija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lgueta Jara, Juan Pabl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Estimación de la biodiversidad de arqueas presente en procesos de biolixiviación, mediante análisis de D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B.Escobar-O.Salazar-T.Varga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Alcaino Reyes, Eloisa Del Car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Determinación de compuestos de azufre reducido en soluciones de biolixiviación de pirita y calcopirita con Leptospirillum ferrooxidan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B.Escobar-T. Vargas-J. Ca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Vasquez Bravo, Felipe Rodri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Caracterización Técnico-Económica de Revestimiento Anticorrosivo de Poliurea para Precipitador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H.Palza-R.Quijada-F.Gra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Maria Elena Lienqueo</cp:lastModifiedBy>
  <dcterms:modified xsi:type="dcterms:W3CDTF">2007-08-02T01:58:34Z</dcterms:modified>
  <cp:revision>140</cp:revision>
  <dc:subject/>
  <dc:title>El ingeniero, etica y sociedad</dc:title>
</cp:coreProperties>
</file>