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FF31-16AB-419E-8C6C-8BA36FAD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324-FDE4-479D-9E4E-7431C858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2E0-07AE-442B-B3D2-43974CA1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D38-6368-479A-AB5B-525E209D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D26-9192-4A0D-9846-42782374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EE0-C35C-4409-A9BD-D39F6DDD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63D-3F69-45DC-99DA-11D1E853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148-62EC-4B57-8210-C45D5751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0F9F-14D4-4C36-A9CB-4D5004A2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194-6CD9-405F-99CE-7E8EE176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4B2-ACB7-42C6-A695-CB0B3CA9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3A5-0A88-4698-8189-B66DD1DA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0EFE-F3DF-46B8-B91E-6CC4EE0A1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36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 </a:t>
            </a:r>
            <a:br>
              <a:rPr sz="2400"/>
            </a:br>
            <a:br>
              <a:rPr sz="2400"/>
            </a:b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3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0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6 de Septiem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</cp:lastModifiedBy>
  <dcterms:modified xsi:type="dcterms:W3CDTF">2007-08-02T01:58:34Z</dcterms:modified>
  <cp:revision>140</cp:revision>
  <dc:subject/>
  <dc:title>El ingeniero, etica y sociedad</dc:title>
</cp:coreProperties>
</file>