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6B2A-0F83-4416-A566-59D97CFBF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C2C7-7172-4A50-975D-030C7248A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BAA5-4A55-4C7D-9440-10779F341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A29B-1B29-4924-B520-1DD67E43D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D670-2E26-49FA-A2A0-B4EA60C94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C6C8-CDA1-4774-BBA0-E8A377195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F9B3-EA4E-4F42-BDF9-0AE86C5D0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0A65-785A-4D39-9EB8-11C84D027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3271-866D-4740-9A10-1103E1894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DFCD-8187-4E14-BFF3-B4E1EF51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E313-0E09-49FD-A50F-A4F739D5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4AA3-8AB6-4E9A-8835-1DE72C84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920D5-6E26-4358-818B-79ECA0C9CF9F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conama.cl/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T-IQ69 F/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 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m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 Unicode MS"/>
              </a:rPr>
              <a:t>Tít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 Unicode MS"/>
              </a:rPr>
              <a:t>Res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1 Int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ntecedentes Bibliográf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Descripción del Proyecto y Justifica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2 Metod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ater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étod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3 Resultados ( y Discusion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4 Disc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5 Concl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6 </a:t>
            </a:r>
            <a:r>
              <a:rPr b="1" lang="es-ES_tradnl" sz="2000" spc="-1" strike="noStrike" u="sng">
                <a:solidFill>
                  <a:srgbClr val="ffff00"/>
                </a:solidFill>
                <a:uFillTx/>
                <a:latin typeface="Arial Unicode MS"/>
                <a:ea typeface="Arial"/>
              </a:rPr>
              <a:t>Bibliograf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Arial"/>
              </a:rPr>
              <a:t>Anex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391520" y="3429000"/>
            <a:ext cx="1752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50 pág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Ca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80000" y="1052640"/>
            <a:ext cx="15242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}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124000" y="-31680"/>
            <a:ext cx="4894200" cy="6931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465300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NUEV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2700360" y="549360"/>
            <a:ext cx="3238560" cy="4680000"/>
            <a:chOff x="2700360" y="549360"/>
            <a:chExt cx="3238560" cy="4680000"/>
          </a:xfrm>
        </p:grpSpPr>
        <p:sp>
          <p:nvSpPr>
            <p:cNvPr id="61" name=""/>
            <p:cNvSpPr/>
            <p:nvPr/>
          </p:nvSpPr>
          <p:spPr>
            <a:xfrm>
              <a:off x="3203640" y="4076640"/>
              <a:ext cx="2735280" cy="11527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700360" y="549360"/>
              <a:ext cx="2735280" cy="35856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7323120" cy="1225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547640" y="2276640"/>
            <a:ext cx="385956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7999560" cy="4421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39640" y="5589720"/>
            <a:ext cx="813456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80960" y="1689120"/>
            <a:ext cx="8180280" cy="34876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547640" y="62064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Consideraciones bás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epresentativo, pero bre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ebe dar una 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dea concreta del tema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del tema en estu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BE ESTAR LI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una de las partes más crucial del Infor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ser de la menor extensión posible (1 a 1 1/2 págin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entregar una visión completa (autocontenido), de modo que los lectores puedan decidir si leen otras sec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tiene antecedentes que justifiquen la realización de la memoria, la metodologías utilizada, lo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sultados  y la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conclu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resentación del tema de estudio, permite ubicar al lector indicando bajo que área se encuentra contenido el estudio específ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os principales aspectos que dan relevancia al estudio específico que se propone desarroll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F</a:t>
            </a:r>
            <a:br>
              <a:rPr sz="4400"/>
            </a:br>
            <a:br>
              <a:rPr sz="4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3-30/8- 6/9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7/9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1-25/10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-TENIDA FORMAL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or fijar: Como prepararse para una entrevista de trabajo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br>
              <a:rPr sz="2400"/>
            </a:br>
            <a:r>
              <a:rPr b="1" lang="es-ES" sz="4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Ultimo día exámenes: 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 semanas más 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 por parte de la comisión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 semanas más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ntecedentes Bibliográf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recopilación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y análisi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 las  experiencias o publicaciones recientes sobre el tema en estud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incluir en forma oportuna las refere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!! Es básico investigar sobre el tema del proyecto, adecuada y profunda búsqueda bibliográfica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e realizó el semestre pasado (IQ-BT69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jemplo de entrega de antecedent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nt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 [40] , tales como la robótica [25] y los sistemas expertos [1]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¿¿¿ Qué  tiene de extraño este texto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jemplo de entrega de antecedentes</a:t>
            </a:r>
            <a:br>
              <a:rPr sz="32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MPORT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alfab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(Charniak y Mc Dermot, 198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de apar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[1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fer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itar las que se usarán en el tr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Belter PA, Cussler  E.L., Hu W. (1988) “ Bioseparations:  Processing for Biotechnology",John Wiley &amp; Sons, New York, 368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apítulos en 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Hagel L(1998) “ Gel Filtration" en "Protein Purification: Principles, High-Resolution Methods, and Applications”, Editado por J-C Janson and L. Ryden,2 Edition, Wiley-Liss, New York, 79-144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ap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Eriksson H, Sandahl K, Brewer J, Osterlund B (1991b). “Reactive planning for chromatography”, Chemometrics and Intelligent laboratory Systems: Laboratory Information Management 13: 185-194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emo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Muñoz D (1989) "Metodologías de Adquisición de conocimiento para la construcción de sistemas computacionales basados en el conocimiento (Sistemas Expertos) y aplicación a la ingeniería de procesos", Memoria de Magister en Cs. de la Ingeniería mención Química, Univeridad de Chile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anu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euroData (1991) "Nexpert Object - Reference manual", Neuron Data Inc.,Palo Alto, USA, 284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omunicación Direc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Righetti P.G (1999) Comunicación personal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áginas 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1"/>
              </a:rPr>
              <a:t>www.conama.cl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: Página Comisión Nacional Medio Ambiente, 20/mayo/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escripción del Proyecto y Justific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xplicar y fundamentar (con los antecedentes previos) qué problema se pretende abord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a relevancia o utilidad del proyecto propues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dar  las razones que implican que se desarrolle este proye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ier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uede ga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46483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un desglose detallado del objetivo general, se relacionan con los resultados parciales que deberán obteners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los logros intermedios que, en conjunto, posibilitan o alcanzar el objetivo gene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s Específicos</a:t>
            </a: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presenta en forma breve y precisa lo más relevante que se pretende lograr con el proyec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ser coherente con la justificación previa y con los resultados posteriores que se planteará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os objetivos se deben correlacionar directamente con las conclu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176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99"/>
                </a:solidFill>
                <a:uFillTx/>
                <a:latin typeface="Times New Roman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Especí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1640" y="259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ccffff"/>
                </a:solidFill>
                <a:uFillTx/>
                <a:latin typeface="Times New Roman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ón Princip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ones de cad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5480" y="3429000"/>
            <a:ext cx="167652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05320" y="4038480"/>
            <a:ext cx="106668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te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é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2895480"/>
            <a:ext cx="7772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n ser breves y si necesita extenderse más use anex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Calend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ltados (y Discusion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dica los productos concretos obteni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dividir el capítulo por objetivos específ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usar tablas y gráficos en forma simultánea. Si piensa que lo necesita colocar uno de ellos en apénd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ir discutiendo inmediatamente los resultados, resulta más fácil para el le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468360" y="476280"/>
            <a:ext cx="3779640" cy="3831480"/>
            <a:chOff x="468360" y="476280"/>
            <a:chExt cx="3779640" cy="3831480"/>
          </a:xfrm>
        </p:grpSpPr>
        <p:graphicFrame>
          <p:nvGraphicFramePr>
            <p:cNvPr id="107" name=""/>
            <p:cNvGraphicFramePr/>
            <p:nvPr/>
          </p:nvGraphicFramePr>
          <p:xfrm>
            <a:off x="468360" y="476280"/>
            <a:ext cx="3779640" cy="27144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0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8360" y="476280"/>
                      <a:ext cx="3779640" cy="27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9" name=""/>
            <p:cNvSpPr/>
            <p:nvPr/>
          </p:nvSpPr>
          <p:spPr>
            <a:xfrm>
              <a:off x="468360" y="3787560"/>
              <a:ext cx="377964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igure 2: Comparison between Predicted and Observed Dimensionless Retention Tim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859280" y="404640"/>
            <a:ext cx="3780000" cy="5110560"/>
            <a:chOff x="4859280" y="404640"/>
            <a:chExt cx="3780000" cy="5110560"/>
          </a:xfrm>
        </p:grpSpPr>
        <p:graphicFrame>
          <p:nvGraphicFramePr>
            <p:cNvPr id="111" name=""/>
            <p:cNvGraphicFramePr/>
            <p:nvPr/>
          </p:nvGraphicFramePr>
          <p:xfrm>
            <a:off x="4859280" y="404640"/>
            <a:ext cx="3780000" cy="271476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1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59280" y="404640"/>
                      <a:ext cx="3780000" cy="271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3" name=""/>
            <p:cNvSpPr/>
            <p:nvPr/>
          </p:nvSpPr>
          <p:spPr>
            <a:xfrm>
              <a:off x="4859280" y="3716280"/>
              <a:ext cx="3780000" cy="179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igure 2: Comparison between Predicted and Observed Dimensionless Retention Times on Phenyl Sepharose 6FF  2 M ammonium sulphate using the First approach based on  protein average surface hydrophobicity (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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urface) (o) Standard proteins, (●) 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b-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glucanase BglII with UNKNOWN 3D structure, (- - -) Confidence intervals (95%)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1042920" y="515772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IMPOR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Si hay figuras deben tener un texto que las expl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isc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de las partes más importantes de la memo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todo lo aprendido, junto a la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apacidad de análisis y sínte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star relacionada y comentar lo presentado tanto en resultados como en los antecedentes bibliográfico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(apoyarlos o refutarl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arte más importantes de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be responder a los objetivos propue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Se ha logrado establecer 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 puede contener nada que no tenga respaldo con lo antes expuesto en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No deben aparecer nuevos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ome tiempo en escribir este capítulo, COMENTELO CON SU PROFESOR GU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enga cuidado en la forma de redacción, pues se confunden los resultados con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as conclus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l pH óptimo para la reacción en estudio es 7.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Resultado o Conclus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Cómo debería s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criba todo en términos posi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se logró detectar la presencia de orgánicos en la solu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Times New Roman"/>
              </a:rPr>
              <a:t>¿Correcto o no?, ¿Cómo debería se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La cantidad de orgánicos en la solución se encontraba bajo los niveles de detección. Se recomienda utilizar otros métodos de análi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ORTOGRAF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Cuidado con palabras co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Solo o sólo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Este o éste, esta o ésta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Revisar el texto antes de entregar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Preferentemente que lo lea otra pers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1280" y="306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Fecha de entrega del Borrador de Memoria</a:t>
            </a:r>
            <a:br>
              <a:rPr sz="4400"/>
            </a:br>
            <a:br>
              <a:rPr sz="4400"/>
            </a:br>
            <a:r>
              <a:rPr b="0" lang="es-ES" sz="4800" spc="-1" strike="noStrike">
                <a:solidFill>
                  <a:srgbClr val="ffff00"/>
                </a:solidFill>
                <a:latin typeface="Times New Roman"/>
              </a:rPr>
              <a:t>Aprox. 5 de Diciembre </a:t>
            </a:r>
            <a:br>
              <a:rPr sz="48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En SECRETARIA DOCENTE DIQBT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52280"/>
            <a:ext cx="8229600" cy="75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1 de Octubre 14:30 E015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ortes Burgos, Maria P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Prediccion del coeficiente de particion de proteínas en Sistemas de dos Fases Acuosas (ATPS) a traves de la caracterización bioinformática de su superficie</a:t>
            </a: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C.Salgado-B.Andrews-ME Lienqu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Santander Morales, Carolina Beatri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Corrosión bacteriana industrial: Mecanismos de control y medidas para su inhib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Comic Sans MS"/>
              </a:rPr>
              <a:t>L.Herrera-B.Escobar-J.Hernad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García Tatian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Estudio de Prefactibilidad Técnico Económica de Producción de Etanol a Partir de Productos Agroindustriales para Uso como Combustible. </a:t>
            </a:r>
            <a:br>
              <a:rPr sz="1600"/>
            </a:b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Hernández-R.Donoso-L.Herrera-F.Graci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Número de Ejemplares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vitado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Proceso de Titul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000080" y="-115920"/>
            <a:ext cx="7143840" cy="7099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916360" y="692280"/>
            <a:ext cx="934920" cy="792000"/>
          </a:xfrm>
          <a:prstGeom prst="ellipse">
            <a:avLst/>
          </a:prstGeom>
          <a:noFill/>
          <a:ln w="7632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700280"/>
            <a:ext cx="1619280" cy="16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uando la comisión evaluó su mem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28/12/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5/01/2007</a:t>
            </a:r>
            <a:br>
              <a:rPr sz="5400"/>
            </a:br>
            <a:r>
              <a:rPr b="0" lang="es-E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Número de Ejemplares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en cuero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 (en tapa blanda)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vitado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imes New Roman"/>
              </a:rPr>
              <a:t>Además para Cybertesis (NUEVO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CD que contenga los siguientes archivo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Portada de la memoria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Resumen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Indice de Contenidos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Texto de la memoria COMPLETA (PD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894120" y="189000"/>
            <a:ext cx="5249880" cy="6669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95280" y="620640"/>
            <a:ext cx="29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Todas las memorias deberán entregar esta autorización para que sean publicadas en Cyberte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4551480"/>
            <a:ext cx="3780000" cy="1888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924360" y="5084640"/>
            <a:ext cx="2735280" cy="151308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639200" cy="5805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258920" y="18900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https://titulacion.ing.uchile.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Examen de Gr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Lectura del Resu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Presentación de la memoria (2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Preguntas de la comisión ( 6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740280" cy="66992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427640" y="0"/>
            <a:ext cx="3240000" cy="155736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52280"/>
            <a:ext cx="8229600" cy="75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8 de Octubre 14:30 Sala E015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lgueta Jara, Juan Pabl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Estimación de la biodiversidad de arqueas presente en procesos de biolixiviación, mediante análisis de 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B.Escobar-O.Salazar-T.Varga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Alcaino Reyes, Eloisa Del Car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Determinación de compuestos de azufre reducido en soluciones de biolixiviación de pirita y calcopirita con Leptospirillum ferrooxidan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B.Escobar-T. Vargas-J. C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Vasquez Bravo, Felipe Rodri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Caracterización Técnico-Económica de Revestimiento Anticorrosivo de Poliurea para Precipitador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H.Palza-R.Quijada-F.Gra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¿ Consultas  y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 escribir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52280"/>
            <a:ext cx="8229600" cy="58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8 de Octubre 14:30 Sala E015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Queirolo Córdova, Ariel Andr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REFORMADO DE ALCOHOL PARA LA PRODUCCION DE HIDROGENO, ESTUDIO TEORICO Y EXPERIM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F.Gracia-P Araya-C.Salgado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osas Gómez, Cristian Marc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ESTUDIO TECNICO Y ECONOMICO DEL REJUVENECIMIENTO DE FIBRAS RECICLADAS EN PAPELES PARA CORRUG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F. Gracia-D.Rodriguez-</a:t>
            </a: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C.Salgado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Urzua Guerra, Pablo Wal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MODELO FISICO PREDICTIVO DE CONVERSION CONTINUA EN LECHO EMPAC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F.Gracia-G.Riveros-H.Pal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sistencia Obligatoria a TODA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las presen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71320" y="3805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Datos Prá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no debe durar más de 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20 min con preguntas (5 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Se cuenta con PC y Data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visar los diskettes y  llegar antes para instalar y ver que la presentación func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be entregar algún tipo de material escrito a los profesores de la comi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Ver Pauta de Presentaciones Or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7132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se debe centrar en los siguientes pu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Introducción (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BREVE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Objetivos generales y específicos de la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sultados obte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scusión y Conclusiones PA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Actividades 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Ing Quimica</cp:lastModifiedBy>
  <dcterms:modified xsi:type="dcterms:W3CDTF">2007-09-06T16:00:51Z</dcterms:modified>
  <cp:revision>141</cp:revision>
  <dc:subject/>
  <dc:title>El ingeniero, etica y sociedad</dc:title>
</cp:coreProperties>
</file>