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DEFA-9E71-4D29-A42A-26FA320D4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B1E30-B078-480A-8AA8-8A2C44213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0DB9-5452-481D-935F-D86A7A520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6C3F-4848-44C0-A1A5-DBE211CC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065D-658B-4761-BC06-13DB0F16C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0102-C98B-4A6D-AEAA-049D4283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695C-5EFD-4F81-8580-70AA38C4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EC21-CBAB-495B-BAA2-1FD69A84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7D19-AA1C-4F43-8681-B9066E32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B0DC-88A0-4F52-AD54-03B5F858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AD96-94FE-4679-8B81-CAF1DEEE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FE9E-096F-4E4B-B1B7-40AA394B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91593-CEC0-4BF3-8C21-F2464297B30B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61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107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9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11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12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13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Aprox. 5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5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E015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á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García Tatian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Estudio de Prefactibilidad Técnico Económica de Producción de Etanol a Partir de Productos Agroindustriales para Uso como Combustible. </a:t>
            </a:r>
            <a:br>
              <a:rPr sz="1600"/>
            </a:b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ernández-R.Donoso-L.Herrera-F.Gracia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28/12/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5/01/2007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E015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órdova, Ariel Andr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ó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-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-H.Palz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visar los diskettes y  llegar antes para instalar y ver que la presentación func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Ver Pauta de Presentaciones Ora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7-09-06T16:00:51Z</dcterms:modified>
  <cp:revision>141</cp:revision>
  <dc:subject/>
  <dc:title>El ingeniero, etica y sociedad</dc:title>
</cp:coreProperties>
</file>