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93CF6-1AC8-42E1-BD99-56D021802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E0AD5-4BC5-49D8-B7AA-A8EF4A841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974D7-7D66-4F59-8886-A44C585AB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97373-E3D6-47AC-A89B-72685FD7E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D972A-6305-4D8C-AF9A-73B74CD8C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938FE-A01A-4A3A-8F0C-50C6A1145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368C5-7E53-4B71-810E-CEC08EA22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6026B-28E4-4434-A271-74D98A53A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6F6C5-CCB8-4F74-B495-1D885B66A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84E15-D312-4B9B-91BA-D3ABCD38B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36242-EDAB-46AD-86A9-3B213DCA1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5870E-D0E4-4500-A0D2-CF8042D59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2A132-779F-4A88-88EA-4C06DB2148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rabajo de Título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BT-IQ69 F/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04560" y="2895120"/>
            <a:ext cx="80010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PAUTA DE PRESENTAC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http://www.diq.uchile.cl/~btcursos/titulo/index_F.htm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152280"/>
            <a:ext cx="8229600" cy="58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00"/>
                </a:solidFill>
                <a:uFillTx/>
                <a:latin typeface="Comic Sans MS"/>
              </a:rPr>
              <a:t>Programación de Presentaciones I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Jueves 18 de Octubre 14:30 Sala por fijar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Queirolo Cordova, Ariel And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00"/>
                </a:solidFill>
                <a:latin typeface="Comic Sans MS"/>
              </a:rPr>
              <a:t>REFORMADO DE ALCOHOL PARA LA PRODUCCION DE HIDROGENO, ESTUDIO TEORICO Y EXPERIMEN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00"/>
                </a:solidFill>
                <a:latin typeface="Comic Sans MS"/>
              </a:rPr>
              <a:t>F.Gracia-P Araya-C.Salgado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Rosas Gomez, Cristian Marce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00"/>
                </a:solidFill>
                <a:latin typeface="Comic Sans MS"/>
              </a:rPr>
              <a:t>ESTUDIO TECNICO Y ECONOMICO DEL REJUVENECIMIENTO DE FIBRAS RECICLADAS EN PAPELES PARA CORRUG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00"/>
                </a:solidFill>
                <a:latin typeface="Comic Sans MS"/>
              </a:rPr>
              <a:t>F. Gracia-D.Rodriguez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Urzua Guerra, Pablo Wald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Comic Sans MS"/>
              </a:rPr>
              <a:t>MODELO FISICO PREDICTIVO DE CONVERSION CONTINUA EN LECHO EMPAC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Comic Sans MS"/>
              </a:rPr>
              <a:t>F.Gracia-G.Riveros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4560" y="1676520"/>
            <a:ext cx="8001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PAUTA DE PRESENTAC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Asistencia Obligatoria a TODAS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 las presentaci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71320" y="380520"/>
            <a:ext cx="80010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ffff99"/>
                </a:solidFill>
                <a:uFillTx/>
                <a:latin typeface="Comic Sans MS"/>
                <a:ea typeface="Times New Roman"/>
              </a:rPr>
              <a:t>Datos Práct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ffff99"/>
                </a:solidFill>
                <a:uFillTx/>
                <a:latin typeface="Comic Sans MS"/>
                <a:ea typeface="Times New Roman"/>
              </a:rPr>
              <a:t>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La presentación no debe durar más de </a:t>
            </a:r>
            <a:r>
              <a:rPr b="1" lang="es-ES" sz="2400" spc="-1" strike="noStrike" u="sng">
                <a:solidFill>
                  <a:srgbClr val="ffff99"/>
                </a:solidFill>
                <a:uFillTx/>
                <a:latin typeface="Comic Sans MS"/>
                <a:ea typeface="Times New Roman"/>
              </a:rPr>
              <a:t>20 min con preguntas (5 mi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ffff99"/>
                </a:solidFill>
                <a:uFillTx/>
                <a:latin typeface="Comic Sans MS"/>
                <a:ea typeface="Times New Roman"/>
              </a:rPr>
              <a:t>Logís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Se cuenta con PC y Datash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Debe entregar algún tipo de material escrito a los profesores de la comisió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71320" y="609120"/>
            <a:ext cx="80010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La presentación se debe centrar en los siguientes punt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</a:t>
            </a:r>
            <a:r>
              <a:rPr b="1" lang="es-E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        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Introducción (</a:t>
            </a:r>
            <a:r>
              <a:rPr b="1" lang="es-ES" sz="2400" spc="-1" strike="noStrike" u="sng">
                <a:solidFill>
                  <a:srgbClr val="ffff99"/>
                </a:solidFill>
                <a:uFillTx/>
                <a:latin typeface="Comic Sans MS"/>
                <a:ea typeface="Times New Roman"/>
              </a:rPr>
              <a:t>BREVE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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Objetivos generales y específicos de la memo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</a:t>
            </a:r>
            <a:r>
              <a:rPr b="1" lang="es-E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        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Metodolog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</a:t>
            </a:r>
            <a:r>
              <a:rPr b="1" lang="es-E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        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Resultados obteni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</a:t>
            </a:r>
            <a:r>
              <a:rPr b="1" lang="es-E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        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Discusión y Conclusiones PAR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</a:t>
            </a:r>
            <a:r>
              <a:rPr b="1" lang="es-E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        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Actividades pendi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4920" y="29239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Fechas Importantes-BT-IQ69F</a:t>
            </a:r>
            <a:br>
              <a:rPr sz="4400"/>
            </a:br>
            <a:br>
              <a:rPr sz="4400"/>
            </a:b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23-30/8- 6/9: 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esentaciones I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27/9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Taller sobre redacción borrador de memoria</a:t>
            </a:r>
            <a:br>
              <a:rPr sz="2400"/>
            </a:br>
            <a:br>
              <a:rPr sz="2400"/>
            </a:b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11-25/10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esentaciones II-TENIDA FORMAL</a:t>
            </a:r>
            <a:br>
              <a:rPr sz="2400"/>
            </a:br>
            <a:br>
              <a:rPr sz="2400"/>
            </a:b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or fijar: Como prepararse para una entrevista de trabajo</a:t>
            </a:r>
            <a:br>
              <a:rPr sz="2400"/>
            </a:b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</a:t>
            </a:r>
            <a:br>
              <a:rPr sz="2400"/>
            </a:br>
            <a:r>
              <a:rPr b="1" lang="es-ES" sz="48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Ultimo día exámenes: </a:t>
            </a:r>
            <a:r>
              <a:rPr b="0" lang="es-E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trega Informe Final</a:t>
            </a:r>
            <a:br>
              <a:rPr sz="4000"/>
            </a:br>
            <a:br>
              <a:rPr sz="2400"/>
            </a:br>
            <a:r>
              <a:rPr b="1" lang="es-ES" sz="4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3 semanas más </a:t>
            </a: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: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trega de Evaluación del Informe Final por parte de la comisión</a:t>
            </a:r>
            <a:br>
              <a:rPr sz="2400"/>
            </a:br>
            <a:br>
              <a:rPr sz="2400"/>
            </a:b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3 semanas más: 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trega de memoria en Oficina de títulos y grados</a:t>
            </a:r>
            <a:br>
              <a:rPr sz="2400"/>
            </a:b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94920" y="29239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Fechas Importantes-BT-IQ69H</a:t>
            </a:r>
            <a:br>
              <a:rPr sz="3600"/>
            </a:br>
            <a:r>
              <a:rPr b="1" lang="es-ES" sz="36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Primavera 2006</a:t>
            </a:r>
            <a:br>
              <a:rPr sz="3600"/>
            </a:b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esentaciones I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Taller sobre redacción borrador de memoria</a:t>
            </a:r>
            <a:br>
              <a:rPr sz="2400"/>
            </a:br>
            <a:br>
              <a:rPr sz="2400"/>
            </a:b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esentaciones II-TENIDA FORMAL </a:t>
            </a:r>
            <a:br>
              <a:rPr sz="2400"/>
            </a:br>
            <a:br>
              <a:rPr sz="2400"/>
            </a:br>
            <a:r>
              <a:rPr b="0" lang="es-E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trega Informe Final</a:t>
            </a:r>
            <a:br>
              <a:rPr sz="4000"/>
            </a:br>
            <a:br>
              <a:rPr sz="2400"/>
            </a:b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trega de Evaluación del Informe Final por parte de la comisión</a:t>
            </a:r>
            <a:br>
              <a:rPr sz="2400"/>
            </a:br>
            <a:br>
              <a:rPr sz="2400"/>
            </a:b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trega de memoria en Oficina de títulos y grados</a:t>
            </a:r>
            <a:br>
              <a:rPr sz="2400"/>
            </a:b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br>
              <a:rPr sz="2400"/>
            </a:b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00"/>
                </a:solidFill>
                <a:latin typeface="Times New Roman"/>
              </a:rPr>
              <a:t>Calendari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7200" y="152280"/>
            <a:ext cx="8229600" cy="72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00"/>
                </a:solidFill>
                <a:uFillTx/>
                <a:latin typeface="Comic Sans MS"/>
              </a:rPr>
              <a:t>Programación de Presentaciones 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Jueves 23 de Agosto 14:30 Sala por fijar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Cominetti Allende, Ornella Cecili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00"/>
                </a:solidFill>
                <a:latin typeface="Comic Sans MS"/>
              </a:rPr>
              <a:t>Comparación teórica de las capacidades metabólicas de Saccharomyces cerevisiae y Pichia pastoris para la producción de S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00"/>
                </a:solidFill>
                <a:latin typeface="Comic Sans MS"/>
              </a:rPr>
              <a:t>J.Asenjo-A. Maass-Z.</a:t>
            </a:r>
            <a:r>
              <a:rPr b="1" lang="es-CL" sz="1600" spc="-1" strike="noStrike">
                <a:solidFill>
                  <a:srgbClr val="ffff00"/>
                </a:solidFill>
                <a:latin typeface="Comic Sans MS"/>
              </a:rPr>
              <a:t>GERDTZEN- B.Andre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Cortes Burgos, Maria Pa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00"/>
                </a:solidFill>
                <a:latin typeface="Comic Sans MS"/>
              </a:rPr>
              <a:t>Prediccion del coeficiente de particion de proteínas en Sistemas de dos Fases Acuosas (ATPS) a traves de la caracterización bioinformatica de su superficie</a:t>
            </a:r>
            <a:r>
              <a:rPr b="1" lang="es-ES" sz="1600" spc="-1" strike="noStrike">
                <a:solidFill>
                  <a:srgbClr val="ffff00"/>
                </a:solidFill>
                <a:latin typeface="Comic Sans MS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Comic Sans MS"/>
              </a:rPr>
              <a:t>C.Salgado-B.Andrews-ME Lienque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Santander Morales, Carolina Beatri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00"/>
                </a:solidFill>
                <a:latin typeface="Comic Sans MS"/>
              </a:rPr>
              <a:t>Corrosión bacteriana industrial: Mecanismos de control y medidas para su inhibi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00"/>
                </a:solidFill>
                <a:latin typeface="Comic Sans MS"/>
              </a:rPr>
              <a:t>L.Herrera-B.Escobar-J.Hernade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152280"/>
            <a:ext cx="8229600" cy="75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00"/>
                </a:solidFill>
                <a:uFillTx/>
                <a:latin typeface="Comic Sans MS"/>
              </a:rPr>
              <a:t>Programación de Presentaciones 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Jueves 30 de Agosto 14:30 Sala por fijar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Elgueta Jara, Juan Pabl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00"/>
                </a:solidFill>
                <a:latin typeface="Comic Sans MS"/>
              </a:rPr>
              <a:t>Estimación de la biodiversidad de arqueas presente en procesos de biolixiviación, mediante análisis de D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00"/>
                </a:solidFill>
                <a:latin typeface="Comic Sans MS"/>
              </a:rPr>
              <a:t>B.Escobar-O.Salazar-T.Vargas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Alcaino Reyes, Eloisa Del Carm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00"/>
                </a:solidFill>
                <a:latin typeface="Comic Sans MS"/>
              </a:rPr>
              <a:t>Determinación de compuestos de azufre reducido en soluciones de biolixiviación de pirita y calcopirita con Leptospirillum ferrooxidans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Comic Sans MS"/>
              </a:rPr>
              <a:t>B.Escobar-T. Vargas-J. Cas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Vasquez Bravo, Felipe Rodri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Comic Sans MS"/>
              </a:rPr>
              <a:t>Caracterización Técnico-Económica de Revestimiento Anticorrosivo de Poliurea para Precipitador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Comic Sans MS"/>
              </a:rPr>
              <a:t>H.Palza-R.Quijada-F.Grac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457200" y="152280"/>
            <a:ext cx="8229600" cy="58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00"/>
                </a:solidFill>
                <a:uFillTx/>
                <a:latin typeface="Comic Sans MS"/>
              </a:rPr>
              <a:t>Programación de Presentaciones 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Jueves 6 de Septiembre 14:30 Sala por fijar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Queirolo Cordova, Ariel And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00"/>
                </a:solidFill>
                <a:latin typeface="Comic Sans MS"/>
              </a:rPr>
              <a:t>REFORMADO DE ALCOHOL PARA LA PRODUCCION DE HIDROGENO, ESTUDIO TEORICO Y EXPERIMEN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00"/>
                </a:solidFill>
                <a:latin typeface="Comic Sans MS"/>
              </a:rPr>
              <a:t>F.Gracia-P Araya-C.Salgado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Rosas Gomez, Cristian Marce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00"/>
                </a:solidFill>
                <a:latin typeface="Comic Sans MS"/>
              </a:rPr>
              <a:t>ESTUDIO TECNICO Y ECONOMICO DEL REJUVENECIMIENTO DE FIBRAS RECICLADAS EN PAPELES PARA CORRUG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00"/>
                </a:solidFill>
                <a:latin typeface="Comic Sans MS"/>
              </a:rPr>
              <a:t>F. Gracia-D.Rodriguez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Urzua Guerra, Pablo Wald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Comic Sans MS"/>
              </a:rPr>
              <a:t>MODELO FISICO PREDICTIVO DE CONVERSION CONTINUA EN LECHO EMPAC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Comic Sans MS"/>
              </a:rPr>
              <a:t>F.Gracia-G.Riveros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152280"/>
            <a:ext cx="8229600" cy="72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00"/>
                </a:solidFill>
                <a:uFillTx/>
                <a:latin typeface="Comic Sans MS"/>
              </a:rPr>
              <a:t>Programación de Presentaciones I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Jueves 11 de Octubre 14:30 Sala por fijar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Cominetti Allende, Ornella Cecili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00"/>
                </a:solidFill>
                <a:latin typeface="Comic Sans MS"/>
              </a:rPr>
              <a:t>Comparación teórica de las capacidades metabólicas de Saccharomyces cerevisiae y Pichia pastoris para la producción de S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00"/>
                </a:solidFill>
                <a:latin typeface="Comic Sans MS"/>
              </a:rPr>
              <a:t>J.Asenjo-A. Maass-Z.</a:t>
            </a:r>
            <a:r>
              <a:rPr b="1" lang="es-CL" sz="1600" spc="-1" strike="noStrike">
                <a:solidFill>
                  <a:srgbClr val="ffff00"/>
                </a:solidFill>
                <a:latin typeface="Comic Sans MS"/>
              </a:rPr>
              <a:t>GERDTZEN- B.Andre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Cortes Burgos, Maria Pa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00"/>
                </a:solidFill>
                <a:latin typeface="Comic Sans MS"/>
              </a:rPr>
              <a:t>Prediccion del coeficiente de particion de proteínas en Sistemas de dos Fases Acuosas (ATPS) a traves de la caracterización bioinformatica de su superficie</a:t>
            </a:r>
            <a:r>
              <a:rPr b="1" lang="es-ES" sz="1600" spc="-1" strike="noStrike">
                <a:solidFill>
                  <a:srgbClr val="ffff00"/>
                </a:solidFill>
                <a:latin typeface="Comic Sans MS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Comic Sans MS"/>
              </a:rPr>
              <a:t>C.Salgado-B.Andrews-ME Lienque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Santander Morales, Carolina Beatri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00"/>
                </a:solidFill>
                <a:latin typeface="Comic Sans MS"/>
              </a:rPr>
              <a:t>Corrosión bacteriana industrial: Mecanismos de control y medidas para su inhibi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00"/>
                </a:solidFill>
                <a:latin typeface="Comic Sans MS"/>
              </a:rPr>
              <a:t>L.Herrera-B.Escobar-J.Hernade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152280"/>
            <a:ext cx="8229600" cy="75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00"/>
                </a:solidFill>
                <a:uFillTx/>
                <a:latin typeface="Comic Sans MS"/>
              </a:rPr>
              <a:t>Programación de Presentaciones I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Jueves 18 de Octubre 14:30 Sala por fijar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Elgueta Jara, Juan Pabl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00"/>
                </a:solidFill>
                <a:latin typeface="Comic Sans MS"/>
              </a:rPr>
              <a:t>Estimación de la biodiversidad de arqueas presente en procesos de biolixiviación, mediante análisis de D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00"/>
                </a:solidFill>
                <a:latin typeface="Comic Sans MS"/>
              </a:rPr>
              <a:t>B.Escobar-O.Salazar-T.Vargas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Alcaino Reyes, Eloisa Del Carm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00"/>
                </a:solidFill>
                <a:latin typeface="Comic Sans MS"/>
              </a:rPr>
              <a:t>Determinación de compuestos de azufre reducido en soluciones de biolixiviación de pirita y calcopirita con Leptospirillum ferrooxidans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Comic Sans MS"/>
              </a:rPr>
              <a:t>B.Escobar-T. Vargas-J. Cas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Vasquez Bravo, Felipe Rodri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Comic Sans MS"/>
              </a:rPr>
              <a:t>Caracterización Técnico-Económica de Revestimiento Anticorrosivo de Poliurea para Precipitador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Comic Sans MS"/>
              </a:rPr>
              <a:t>H.Palza-R.Quijada-F.Grac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21T21:44:03Z</dcterms:created>
  <dc:creator>Ignacio Badilla</dc:creator>
  <dc:description/>
  <dc:language>en-US</dc:language>
  <cp:lastModifiedBy>Maria Elena Lienqueo</cp:lastModifiedBy>
  <dcterms:modified xsi:type="dcterms:W3CDTF">2007-08-02T01:58:34Z</dcterms:modified>
  <cp:revision>140</cp:revision>
  <dc:subject/>
  <dc:title>El ingeniero, etica y sociedad</dc:title>
</cp:coreProperties>
</file>