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0443-E167-456C-8078-B7E17725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1E20-2B8A-49C6-A01E-DC277630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0711-1E69-41EA-8BC6-059A099F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63A5-6563-4E72-B28A-BC79377E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BC3D-41C9-499E-A998-6A3FAB74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2259-8C60-43D7-9970-A8E9CEBD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F62C-4D4E-4EE5-9494-91F8F5EB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A73C-D30C-42A3-A72D-7D58BEE7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AC8D-1BC8-4EDB-BA28-A0BD59EB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68EF-0A1B-4A5E-B16C-73E73348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D47D-0565-4B96-8083-4F1427CF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EFDD-F12B-4395-A8E9-CAA1B976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3A0C-4EF4-41CE-857E-356F2CF0E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www.diq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52280"/>
            <a:ext cx="8229600" cy="58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ordova, Ariel A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o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8- 6/9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9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25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fijar: Como prepararse para una entrevista de trabajo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o dí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3600"/>
            </a:b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mavera 2006</a:t>
            </a:r>
            <a:br>
              <a:rPr sz="36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 </a:t>
            </a:r>
            <a:br>
              <a:rPr sz="2400"/>
            </a:br>
            <a:br>
              <a:rPr sz="2400"/>
            </a:b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2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3 de Agosto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minetti Allende, Ornell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mparación teórica de las capacidades metabólicas de Saccharomyces cerevisiae y Pichia pastoris para la producción de S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J.Asenjo-A. Maass-Z.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GERDTZEN- B.Andr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a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30 de Agosto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8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6 de Septiem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ordova, Ariel A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o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72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1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minetti Allende, Ornell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mparación teórica de las capacidades metabólicas de Saccharomyces cerevisiae y Pichia pastoris para la producción de S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J.Asenjo-A. Maass-Z.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GERDTZEN- B.Andr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a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</cp:lastModifiedBy>
  <dcterms:modified xsi:type="dcterms:W3CDTF">2007-08-02T01:58:34Z</dcterms:modified>
  <cp:revision>140</cp:revision>
  <dc:subject/>
  <dc:title>El ingeniero, etica y sociedad</dc:title>
</cp:coreProperties>
</file>