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FCD-6BD1-4EC4-AE2F-0DE41EDD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DF9-1C4B-425D-AC0C-BA4D6F44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9B2-03BB-491B-91B8-77F55F41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80D-2A7B-4798-B08B-294B0421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2C6-C5CF-47E2-BEBD-B18C7B07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A81-22C8-4BA0-9BB1-A52477A7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4AA-EB73-4524-8DFF-DDF2CEB5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43C-ECAA-4641-BC2B-CA36498E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3B3-5481-4032-8D3F-39618303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819-97B1-4AFE-9318-E99C3BBB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F6D-9119-4B53-883A-101DB77B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443-8291-4A33-9040-ED95C651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68BE-55E8-46B9-A41C-C8F3B5C14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36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 </a:t>
            </a:r>
            <a:br>
              <a:rPr sz="2400"/>
            </a:br>
            <a:br>
              <a:rPr sz="2400"/>
            </a:b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3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0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6 de Septiem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</cp:lastModifiedBy>
  <dcterms:modified xsi:type="dcterms:W3CDTF">2007-08-02T01:58:34Z</dcterms:modified>
  <cp:revision>140</cp:revision>
  <dc:subject/>
  <dc:title>El ingeniero, etica y sociedad</dc:title>
</cp:coreProperties>
</file>