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A1A3-646A-4989-A8F1-7FE39789D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53E0-AC58-40A8-BE9D-B96B928AE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C4E41-950E-4800-9661-47A7CFB3F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8666-8D55-4B31-9ACE-5DBA7E1AC9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97908-9C87-4AD5-8446-267724503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D9C8-BBC1-4112-B181-C73C5AECB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FEBB-6E95-4684-A6EC-D0B2BB31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FBC0-D95C-42BC-B363-41D1A2EDB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6E0-F8C2-407E-8D47-483239199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C277-BCDA-4C6F-87FB-115505961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CFFD-D475-44A3-B961-C561208D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A4CC-456A-4D5A-941F-431B2C882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0555C-FEAE-4A13-AFA3-0470E73589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52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Trabajo de Título </a:t>
            </a:r>
            <a:br>
              <a:rPr sz="4400"/>
            </a:b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BT-IQ69 F/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04560" y="2895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Arial"/>
                <a:ea typeface="Times New Roman"/>
              </a:rPr>
              <a:t>http://www.diq.uchile.cl/~btcursos/titulo/index_F.htm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4560" y="1676520"/>
            <a:ext cx="80010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PAUTA DE PRESENTAC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  <a:ea typeface="Times New Roman"/>
              </a:rPr>
              <a:t>Asistencia Obligatoria a TODAS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Times New Roman"/>
              </a:rPr>
              <a:t> las presentacio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71320" y="3805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Datos Práct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no debe durar más de 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20 min con preguntas (5 m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Logís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buClr>
                <a:srgbClr val="ff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Se cuenta con PC y Datasho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ebe entregar algún tipo de material escrito a los profesores de la comisió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1320" y="609120"/>
            <a:ext cx="8001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La presentación se debe centrar en los siguientes pu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Introducción (</a:t>
            </a:r>
            <a:r>
              <a:rPr b="1" lang="es-ES" sz="2400" spc="-1" strike="noStrike" u="sng">
                <a:solidFill>
                  <a:srgbClr val="ffff99"/>
                </a:solidFill>
                <a:uFillTx/>
                <a:latin typeface="Comic Sans MS"/>
                <a:ea typeface="Times New Roman"/>
              </a:rPr>
              <a:t>BREVE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Objetivos generales y específicos de la mem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Resultados obteni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Discusión y Conclusiones PAR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99"/>
                </a:solidFill>
                <a:latin typeface="Symbol"/>
                <a:ea typeface="Symbol"/>
              </a:rPr>
              <a:t></a:t>
            </a:r>
            <a:r>
              <a:rPr b="1" lang="es-ES" sz="24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        </a:t>
            </a:r>
            <a:r>
              <a:rPr b="1" lang="es-ES" sz="2400" spc="-1" strike="noStrike">
                <a:solidFill>
                  <a:srgbClr val="ffff99"/>
                </a:solidFill>
                <a:latin typeface="Comic Sans MS"/>
                <a:ea typeface="Times New Roman"/>
              </a:rPr>
              <a:t>Actividades pendi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F</a:t>
            </a:r>
            <a:br>
              <a:rPr sz="4400"/>
            </a:br>
            <a:br>
              <a:rPr sz="4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3-30/8- 6/9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27/9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11-25/10</a:t>
            </a: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or fijar: Como prepararse para una entrevista de trabajo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-</a:t>
            </a:r>
            <a:br>
              <a:rPr sz="2400"/>
            </a:br>
            <a:r>
              <a:rPr b="1" lang="es-ES" sz="48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Ultimo día exámenes: </a:t>
            </a: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44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 </a:t>
            </a: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: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3 semanas más: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4920" y="292392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Fechas Importantes-BT-IQ69H</a:t>
            </a:r>
            <a:br>
              <a:rPr sz="3600"/>
            </a:br>
            <a:r>
              <a:rPr b="1" lang="es-ES" sz="36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Primavera 2006</a:t>
            </a:r>
            <a:br>
              <a:rPr sz="36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Taller sobre redacción borrador de memoria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esentaciones II-TENIDA FORMAL </a:t>
            </a:r>
            <a:br>
              <a:rPr sz="2400"/>
            </a:br>
            <a:br>
              <a:rPr sz="2400"/>
            </a:br>
            <a:r>
              <a:rPr b="0" lang="es-E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Informe Final</a:t>
            </a:r>
            <a:br>
              <a:rPr sz="4000"/>
            </a:br>
            <a:br>
              <a:rPr sz="2400"/>
            </a:br>
            <a:r>
              <a:rPr b="1" lang="es-ES" sz="3200" spc="-1" strike="noStrike" u="sng">
                <a:solidFill>
                  <a:srgbClr val="ffff00"/>
                </a:solidFill>
                <a:uFillTx/>
                <a:latin typeface="Times New Roman"/>
                <a:ea typeface="Times New Roman"/>
              </a:rPr>
              <a:t> </a:t>
            </a: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Evaluación del Informe Final por parte de la comisión</a:t>
            </a:r>
            <a:br>
              <a:rPr sz="24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trega de memoria en Oficina de títulos y grados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ff00"/>
                </a:solidFill>
                <a:latin typeface="Times New Roman"/>
              </a:rPr>
              <a:t>Calendari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23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30 de Agosto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152280"/>
            <a:ext cx="8229600" cy="586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6 de Septiem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Queirolo Cordova, Ariel And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REFORMADO DE ALCOHOL PARA LA PRODUCCION DE HIDROGENO, ESTUDIO TEORICO Y EXPERIM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Gracia-P Araya-C.Salgado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Rosas Gomez, Cristian Marce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UDIO TECNICO Y ECONOMICO DEL REJUVENECIMIENTO DE FIBRAS RECICLADAS EN PAPELES PARA CORRUG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F. Gracia-D.Rodriguez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Urzua Guerra, Pablo Wald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MODELO FISICO PREDICTIVO DE CONVERSION CONTINUA EN LECHO EMPAC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F.Gracia-G.Rivero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52280"/>
            <a:ext cx="8229600" cy="72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1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minetti Allende, Ornella Cecili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mparación teórica de las capacidades metabólicas de Saccharomyces cerevisiae y Pichia pastoris para la producción de S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J.Asenjo-A. Maass-Z.</a:t>
            </a: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GERDTZEN- B.Andre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Cortes Burgos, Maria Pa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Prediccion del coeficiente de particion de proteínas en Sistemas de dos Fases Acuosas (ATPS) a traves de la caracterización bioinformatica de su superficie</a:t>
            </a: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.Salgado-B.Andrews-ME Lienque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Santander Morales, Carolina Beatri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Corrosión bacteriana industrial: Mecanismos de control y medidas para su inhib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Comic Sans MS"/>
              </a:rPr>
              <a:t>L.Herrera-B.Escobar-J.Herna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5e"/>
            </a:gs>
            <a:gs pos="100000">
              <a:srgbClr val="0033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152280"/>
            <a:ext cx="8229600" cy="75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ffff00"/>
                </a:solidFill>
                <a:uFillTx/>
                <a:latin typeface="Comic Sans MS"/>
              </a:rPr>
              <a:t>Programación de Presentaciones 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Jueves 18 de Octubre 14:30 Sala por fij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Elgueta Jara, Juan Pabl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Estimación de la biodiversidad de arqueas presente en procesos de biolixiviación, mediante análisis de D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B.Escobar-O.Salazar-T.Varga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Alcaino Reyes, Eloisa Del Car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00"/>
                </a:solidFill>
                <a:latin typeface="Comic Sans MS"/>
              </a:rPr>
              <a:t>Determinación de compuestos de azufre reducido en soluciones de biolixiviación de pirita y calcopirita con Leptospirillum ferrooxidans</a:t>
            </a: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B.Escobar-T. Vargas-J. C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00"/>
                </a:solidFill>
                <a:latin typeface="Comic Sans MS"/>
              </a:rPr>
              <a:t>Vasquez Bravo, Felipe Rodri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Caracterización Técnico-Económica de Revestimiento Anticorrosivo de Poliurea para Precipitador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00"/>
                </a:solidFill>
                <a:latin typeface="Comic Sans MS"/>
              </a:rPr>
              <a:t>H.Palza-R.Quijada-F.Gra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21T21:44:03Z</dcterms:created>
  <dc:creator>Ignacio Badilla</dc:creator>
  <dc:description/>
  <dc:language>en-US</dc:language>
  <cp:lastModifiedBy>Maria Elena Lienqueo</cp:lastModifiedBy>
  <dcterms:modified xsi:type="dcterms:W3CDTF">2007-08-02T01:58:34Z</dcterms:modified>
  <cp:revision>140</cp:revision>
  <dc:subject/>
  <dc:title>El ingeniero, etica y sociedad</dc:title>
</cp:coreProperties>
</file>