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BB7-97F9-451E-815F-774C41BE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CF1-464A-4315-BEC8-D84568BD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6F4-DDD2-46F1-B04D-E6F99651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8CE-0464-4B11-B56C-B688F809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85AF-B036-49E7-864D-2BB509FD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4C03-4019-40E0-964F-0A3B3D34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7707-88B8-48FF-A542-9B983949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13A7-241D-4D10-9F7A-32876B5A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7EBB-3704-4A2B-B317-EA35F365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2DD0-E519-4E52-BB9B-07C5AFBE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AAFE-CC70-4E8E-8C73-AFFACCE0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2F1-EEA3-4E9C-ABAF-14820F77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1ACC-F5ED-4086-B1EC-3221B2F2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FA6C-30D6-4A5F-9FF6-08FF00EE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E880-5D24-467D-924C-E453E626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4397-6183-4DA2-A941-AFFEE4AA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7DB2-B5FB-4E0F-B66D-71B48B7C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BB2-9C5C-443C-A4FA-9CB0D78B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B7D-FBB4-467A-8E28-C379652A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B55-79EA-4D8D-8804-DAD0CB8F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70DD-2AAE-4E4D-A7B0-95D6B3E8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1C2-2D81-4B8F-9A28-A3638645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1D8-73F1-4686-B029-543AD842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06E-04B5-459C-AAC1-64E96BC9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E23B-79E9-4FE5-89A0-9C47139D6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A67D-64C9-4932-A88D-A4E64D3AC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80360" cy="439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6520" y="466560"/>
            <a:ext cx="64198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ENOBIOTICOS EN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573120"/>
            <a:ext cx="86421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474840"/>
            <a:ext cx="820728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917640"/>
            <a:ext cx="8280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Biotransformación  F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Dos sistemas de enzim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ino-oxigenasas  (oxidan aminas y compues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sulfur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- Citocromos P-4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bos sistemas se encuentran localizados en el retículo endoplásmico de las célul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439560"/>
            <a:ext cx="8439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78360"/>
            <a:ext cx="867564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Georgia"/>
              </a:rPr>
              <a:t>Citocromos P-450</a:t>
            </a:r>
            <a:r>
              <a:rPr b="0" lang="es-ES" sz="2800" spc="-1" strike="noStrike">
                <a:solidFill>
                  <a:srgbClr val="bbe0e3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Formados por dos proteínas dif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Reduc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Hemoproteína con actividad de oxigena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La oxigenasa es una proteína, que en estado reducido  presenta un pico de absorción a 450 nm. ( lo que da el nombre a esta familia de enzimas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50000">
              <a:srgbClr val="ff0066"/>
            </a:gs>
            <a:gs pos="100000">
              <a:srgbClr val="75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42840"/>
            <a:ext cx="762624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681200"/>
            <a:ext cx="9144000" cy="349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628640"/>
            <a:ext cx="914400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57720"/>
            <a:ext cx="9144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-105840"/>
            <a:ext cx="8283600" cy="70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Citocromos P-450 Act. Cat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ecanismo de la reacción de la oxidación del xenobiótico catalizada por citocromo P-450, en términos generales es como sigue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xenobiótico entra a su sitio activo que se encuent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la oxigenasa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tasa transfiere un electrón al hierro hemín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duciéndolo del nivel (III) a (II)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C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ción abre el sitio activo d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D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tra a su sitio activo y oxida al xenobiótic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en la superficie de la enzima transfiriéndole uno d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átomos de oxígen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5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acciones Comunes de Oxidación en la F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4760" y="907920"/>
            <a:ext cx="632160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3480"/>
            <a:ext cx="8496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10821" r="0" b="3322"/>
          <a:stretch/>
        </p:blipFill>
        <p:spPr>
          <a:xfrm>
            <a:off x="0" y="73836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4880" y="163440"/>
            <a:ext cx="79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Hidroxilación del Naftaleno a través de la formación de epóx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3880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00640"/>
            <a:ext cx="914400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15840"/>
            <a:ext cx="7200720" cy="6826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99320" y="44280"/>
            <a:ext cx="623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idroxilación Microsomal de Piridina y Quinole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5840" y="355680"/>
            <a:ext cx="91598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9360" y="870120"/>
            <a:ext cx="9153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24173" r="0" b="7325"/>
          <a:stretch/>
        </p:blipFill>
        <p:spPr>
          <a:xfrm>
            <a:off x="34920" y="2708280"/>
            <a:ext cx="9058320" cy="1944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91880" y="1265400"/>
            <a:ext cx="72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ulfuración Oxidativa del Para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8000" y="244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i la concentración de oxígeno en la célula es muy baja, entonces la reacción catalizada por el Citocromo P-450 es una reducción en la que el NADPH actúa como donante de iones hidruro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2560" y="2228760"/>
            <a:ext cx="79218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10993" t="11687" r="9762" b="4998"/>
          <a:stretch/>
        </p:blipFill>
        <p:spPr>
          <a:xfrm>
            <a:off x="757080" y="888840"/>
            <a:ext cx="7702560" cy="592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880" y="115920"/>
            <a:ext cx="881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acciones de reducción del sistema microsomal con particip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itocromo P-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060560"/>
            <a:ext cx="91440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165720"/>
            <a:ext cx="9144000" cy="21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740" t="14956" r="2740" b="464"/>
          <a:stretch/>
        </p:blipFill>
        <p:spPr>
          <a:xfrm>
            <a:off x="0" y="105408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2600" y="307800"/>
            <a:ext cx="83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cc"/>
                </a:solidFill>
                <a:latin typeface="Arial"/>
              </a:rPr>
              <a:t>Hidrólisis de epóxidos por acción de epoxido-hidrat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7280" y="346320"/>
            <a:ext cx="8605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Al conjunto de caminos metabólicos por medio de los cuales los tejidos incrementan la polaridad de un tóxico se le denom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66"/>
                </a:solidFill>
                <a:latin typeface="Arial"/>
              </a:rPr>
              <a:t>biotrans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Podemos decir que la biotransformación de un tóxico consiste fundamentalmente en convertir un xenobiótico no polar en un compuesto soluble en ag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ste es el mecanismo más común que usan los organismos para eliminar los tóxicos ambientales.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5840" y="1346040"/>
            <a:ext cx="915984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" y="582480"/>
            <a:ext cx="914076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85760"/>
            <a:ext cx="85690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06600"/>
            <a:ext cx="9144000" cy="564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836640"/>
            <a:ext cx="30970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8:52:58Z</dcterms:created>
  <dc:creator>mllanos</dc:creator>
  <dc:description/>
  <dc:language>en-US</dc:language>
  <cp:lastModifiedBy>mllanos</cp:lastModifiedBy>
  <dcterms:modified xsi:type="dcterms:W3CDTF">2007-08-27T15:57:47Z</dcterms:modified>
  <cp:revision>36</cp:revision>
  <dc:subject/>
  <dc:title>Diapositiva 1</dc:title>
</cp:coreProperties>
</file>