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D82-9A0B-4251-B62F-5A18795E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77D-C75C-4CC2-B269-2511679E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142-A39D-4E75-AD17-5F1B80A1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B8B-824F-4FF3-9B50-CD4F6F48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141F-3749-4419-88FC-1A810520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BD96-260E-422B-98B0-B2DDABBB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0095-D707-45B9-85F3-9DFEA5AE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8EEE-20E2-4A55-BB37-11224870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1DB3-B180-408A-B5FC-C45B6BB1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69EE-F160-4FFE-9ACC-A2C5920B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E9B8-5A96-48CC-AA31-A375DF7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B9CC-6222-46B2-8FFF-32E4E9BD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B00D-D164-4650-8EF5-84B450A7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4C36-01F9-49F5-A84F-597FEE61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4306-CA46-40CA-A46A-9285FACD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61B1-6AD3-4C80-88A7-DCDD17FD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16E7-47DB-4A41-AEBC-FE20D2DA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A33-8395-43B6-8973-BB068277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846-87AB-4A81-B7BF-12FCC2BA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5A6-50E7-49A6-9ED6-6C9CCA1B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556-F225-4C0D-BC9C-0B8D625F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3F4-55B7-41E0-965F-984095B0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0A9-A191-4C13-AE21-51DB7DE5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F8E-92B9-4DB0-915E-0E1690DF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43C2-A2E0-45F6-BA64-8C843E2B253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2A84-A8F1-4F89-AE7D-808D9CC5FD6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46800" y="677880"/>
            <a:ext cx="9367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mente el organismo tiene las defensas adecu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manejar la agresión química debido a xenobio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ya que cuenta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5040" y="3157560"/>
            <a:ext cx="816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proteínas plásmaticas que ligan tóxicos en el plas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anguíneo impidiendo su rápida difusión hacia los tej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 presencia de antioxidantes que eliminan rad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bres y reducen especies tóx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enzimas de las dos fases de la biotrans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2603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11280" y="907920"/>
            <a:ext cx="788508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versión del enlace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en la formación del glucuro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76360" y="766800"/>
            <a:ext cx="6191280" cy="59752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550160" y="1126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incipales tipos de glucurón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076480"/>
            <a:ext cx="91440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003320"/>
            <a:ext cx="9144000" cy="4851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771480"/>
            <a:ext cx="9144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1314360"/>
            <a:ext cx="8512200" cy="5067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473040"/>
            <a:ext cx="914400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62160"/>
            <a:ext cx="9144000" cy="5695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7680" y="189000"/>
            <a:ext cx="821988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-ACETILACION DE COMPUESTOS AMI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etil CoA amino acetil transfer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30148" t="26057" r="14087" b="147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60280"/>
            <a:ext cx="8569080" cy="6311880"/>
          </a:xfrm>
          <a:prstGeom prst="rect">
            <a:avLst/>
          </a:prstGeom>
          <a:noFill/>
          <a:ln w="54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ACCIONES DE BIOTRANSFORMACION F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-  Reacciones de conju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1.- Se adicionan moléculas endógenas a los compuestos xenobióticos, las cuales generalmente son polares y de alta disponibilidad por parte del organis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2.- Estos grupos endógenos son adicionados a grupos funcionales presentes ya en los compuestos xenobiótic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 que fueron introducidos o expuestos en las reacciones de  fase I del proceso de biotransform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3.- El propósito final es obtener moléculas muy polares y con bajo coeficiente de partición lípido/agua, para que se facilite su excreción al disminuir sustancialmente su carácter lipofí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03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4068720" y="533520"/>
            <a:ext cx="12242880" cy="691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549360"/>
            <a:ext cx="1547640" cy="71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4175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4941720"/>
            <a:ext cx="9144000" cy="1568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87640" y="6165720"/>
            <a:ext cx="460872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98040" cy="5321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03360" y="471600"/>
            <a:ext cx="77850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23955" t="42746" r="3689" b="15977"/>
          <a:stretch/>
        </p:blipFill>
        <p:spPr>
          <a:xfrm>
            <a:off x="1440" y="1484280"/>
            <a:ext cx="9178920" cy="3924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79800" y="49536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 RESU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46800" y="677880"/>
            <a:ext cx="93675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rmalmente el organismo tiene las defensas adecu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manejar la agresión química debido a xenobiot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ya que cuenta 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5040" y="3157560"/>
            <a:ext cx="816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enzimas de las dos fases de la biotrans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 presencia de antioxidantes que eliminan rad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ibres y reducen especies tóxic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Las proteínas plásmaticas que ligan tóxicos en el plas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anguíneo impidiendo su rápida difusión hacia los tej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56000" y="115920"/>
            <a:ext cx="39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otransforma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nzimas Fase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240" y="1557360"/>
            <a:ext cx="900936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acciones de Conju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nzima es una transferasa + un co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- Enzima cataliza re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- Cofactor dona un grupo quím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- Acido Glucurónico, Glutation, Sulfato, Acetil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eti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sultado de estas reacciones tiende a aumen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tamaño molecular   y  la polaridad para  facilit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excreció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137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31107" t="24809" r="6519" b="14723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8000" y="4428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1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33001" t="24809" r="8418" b="28583"/>
          <a:stretch/>
        </p:blipFill>
        <p:spPr>
          <a:xfrm>
            <a:off x="0" y="708120"/>
            <a:ext cx="9144000" cy="5457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8000" y="84312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2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31107" t="24809" r="6519" b="1850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8000" y="11592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3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70520" y="279396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31107" t="26057" r="12211" b="17249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8000" y="44280"/>
            <a:ext cx="8964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factores Fase II (4)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5480" y="226692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D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481640" y="4024440"/>
            <a:ext cx="866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643280" y="4365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4076640"/>
            <a:ext cx="28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9:53:44Z</dcterms:created>
  <dc:creator>mllanos</dc:creator>
  <dc:description/>
  <dc:language>en-US</dc:language>
  <cp:lastModifiedBy>mllanos</cp:lastModifiedBy>
  <dcterms:modified xsi:type="dcterms:W3CDTF">2007-09-03T16:44:17Z</dcterms:modified>
  <cp:revision>18</cp:revision>
  <dc:subject/>
  <dc:title>Diapositiva 1</dc:title>
</cp:coreProperties>
</file>