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DAD-8C1B-4CF8-88C0-6744C66C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C86-3D13-466F-A3F4-955B5375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263C-CC89-4565-86E1-8C5EA035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B312-7332-4A8C-8FB2-2D2F02A5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C963-FE55-4F30-BAC6-E02301C4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611C-D148-4C66-92A2-E3ECC7E7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0307-D6C5-46CE-8B6E-420CB044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19F0-7C32-48D9-8B31-8E9C4B29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E091-F2D2-4649-895B-9F5D3D40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58E7-B02C-4C7F-91EC-FD88236F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D614-541C-4CD1-96D6-F59F94D3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2BED-D8A3-472C-BD75-EA3ED21A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4BF1-1098-46F8-95CD-01B32A55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8A51-967D-4D68-9A68-8E8A0B19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BABD-E97F-4311-9241-B1DCDEE9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390B-92E5-41DC-95DB-C1EF86D7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7E80-C2D8-4289-8632-86A5B93E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8EC-82F3-4AD1-83B3-6B8AB1FE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86F-C5CA-4FFD-AFF6-D013F955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43C4-5CF9-4E86-B731-F6C6C150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683-50C3-40DE-B92A-7E34FB4C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34C-DD28-4E51-9384-61A95648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153A-C509-4F3E-9FB0-0AA7BE1E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9BEE-39D8-4EF4-A6AB-901E4EE7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7752-3073-4911-AAEC-CE9DCDBABD6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C62C-60C3-4ADB-94DA-7E9601FEE83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46800" y="677880"/>
            <a:ext cx="9367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mente el organismo tiene las defensas adecua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manejar la agresión química debido a xenobiot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ya que cuenta c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5040" y="3157560"/>
            <a:ext cx="816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s proteínas plásmaticas que ligan tóxicos en el plas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anguíneo impidiendo su rápida difusión hacia los tej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 presencia de antioxidantes que eliminan rad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ibres y reducen especies tóx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s enzimas de las dos fases de la biotrans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2603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11280" y="907920"/>
            <a:ext cx="788508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versión del enlace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en la formación del glucuro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76360" y="766800"/>
            <a:ext cx="6191280" cy="597528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550160" y="11268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incipales tipos de glucuró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2076480"/>
            <a:ext cx="91440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00332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907920"/>
            <a:ext cx="9144000" cy="14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771480"/>
            <a:ext cx="9144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314360"/>
            <a:ext cx="8512200" cy="5067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473040"/>
            <a:ext cx="914400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262160"/>
            <a:ext cx="9144000" cy="5695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7680" y="189000"/>
            <a:ext cx="8219880" cy="947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-ACETILACION DE COMPUESTOS AMIN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 CoA amino acet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30148" t="26057" r="14087" b="147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260280"/>
            <a:ext cx="8569080" cy="6311880"/>
          </a:xfrm>
          <a:prstGeom prst="rect">
            <a:avLst/>
          </a:prstGeom>
          <a:noFill/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ACCIONES DE BIOTRANSFORMACION F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-  Reacciones de conju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1.- Se adicionan moléculas endógenas a los compuestos xenobióticos, las cuales generalmente son polares y de alta disponibilidad por parte del organis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2.- Estos grupos endógenos son adicionados a grupos funcionales presentes ya en los compuestos xenobiótic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 que fueron introducidos o expuestos en las reacciones de  fase I del proceso de biotransform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3.- El propósito final es obtener moléculas muy polares y con bajo coeficiente de partición lípido/agua, para que se facilite su excreción al disminuir sustancialmente su carácter lipofí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03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-4068720" y="533520"/>
            <a:ext cx="12242880" cy="691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549360"/>
            <a:ext cx="1547640" cy="71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4175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4941720"/>
            <a:ext cx="9144000" cy="1568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87640" y="6165720"/>
            <a:ext cx="460872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98040" cy="5321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3360" y="471600"/>
            <a:ext cx="778500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23955" t="42746" r="3689" b="15977"/>
          <a:stretch/>
        </p:blipFill>
        <p:spPr>
          <a:xfrm>
            <a:off x="1440" y="1484280"/>
            <a:ext cx="9178920" cy="3924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9800" y="49536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RESUM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46800" y="677880"/>
            <a:ext cx="9367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mente el organismo tiene las defensas adecua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manejar la agresión química debido a xenobiot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ya que cuenta c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5040" y="3157560"/>
            <a:ext cx="816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s enzimas de las dos fases de la biotrans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 presencia de antioxidantes que eliminan rad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ibres y reducen especies tóx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s proteínas plásmaticas que ligan tóxicos en el plas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anguíneo impidiendo su rápida difusión hacia los tej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56000" y="115920"/>
            <a:ext cx="39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otransformac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nzimas Fase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3240" y="1557360"/>
            <a:ext cx="900936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Reacciones de Conju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nzima es una transferasa + un co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- Enzima cataliza re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- Cofactor dona un grupo quím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- Acido Glucurónico, Glutation, Sulfato, Acetil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eti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Resultado de estas reacciones tiende a aument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l tamaño molecular   y  la polaridad para  facilit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 excreci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137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31107" t="24809" r="6519" b="14723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8000" y="44280"/>
            <a:ext cx="89647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factores Fase II (1)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33001" t="24809" r="8418" b="28583"/>
          <a:stretch/>
        </p:blipFill>
        <p:spPr>
          <a:xfrm>
            <a:off x="0" y="708120"/>
            <a:ext cx="9144000" cy="5457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8000" y="843120"/>
            <a:ext cx="89647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factores Fase II (2)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31107" t="24809" r="6519" b="185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8000" y="115920"/>
            <a:ext cx="89647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factores Fase II (3)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70520" y="279396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31107" t="26057" r="12211" b="17249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8000" y="44280"/>
            <a:ext cx="89647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factores Fase II (4)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5480" y="2266920"/>
            <a:ext cx="16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DP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264360"/>
          </a:xfrm>
          <a:prstGeom prst="rect">
            <a:avLst/>
          </a:prstGeom>
          <a:ln w="50760">
            <a:solidFill>
              <a:srgbClr val="0000ff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4481640" y="4024440"/>
            <a:ext cx="86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643280" y="4365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4076640"/>
            <a:ext cx="287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9:53:44Z</dcterms:created>
  <dc:creator>mllanos</dc:creator>
  <dc:description/>
  <dc:language>en-US</dc:language>
  <cp:lastModifiedBy>mllanos</cp:lastModifiedBy>
  <dcterms:modified xsi:type="dcterms:W3CDTF">2007-09-03T16:44:17Z</dcterms:modified>
  <cp:revision>18</cp:revision>
  <dc:subject/>
  <dc:title>Diapositiva 1</dc:title>
</cp:coreProperties>
</file>