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78E-958C-45D0-9AF3-022E1851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223-D72E-4C24-A2F0-B05C8638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6C0-A87A-4FF8-882C-FA6FA9E1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69C-ABA5-4A97-BA49-A395E9C9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46E-4FEF-4BFD-ABA2-ADF5478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134-63A7-4FB0-9E18-AEF9902E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758B-22BE-49D5-9B99-F4EE722B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F4A-6297-484D-AE28-ED76D6A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A6D0-3B8C-4FC4-8320-27D552D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5232-8F66-446D-8B21-89F4EC7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03C0-6F88-49DA-A850-F5D4E8E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217-15D9-4CA4-B359-A575E782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E08-89E4-4896-9610-4E946FC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8150-B1EE-4203-A4E6-28975D3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39A-0293-48C7-A82C-3FF14A9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7B5E-3BCD-4702-85DE-807FA420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1D64-1FE3-46A1-9CCE-E328BC4E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126-F29A-45BE-8070-28672D6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241-E607-459A-B86D-036679ED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1E0-E060-493B-AF6F-ADD72E0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8EB-8386-4EE2-9639-C203FFA6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AD0-0BDD-4057-97E2-E4C74D5C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F82-A468-455E-9000-FFF8066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436-C0AA-4219-920D-E36CB60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95E8-A71D-43DA-965D-71F8FAB644C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25B6-6B8C-4DE8-98C2-1A9EC459C2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260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907920"/>
            <a:ext cx="78850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rsión del enlace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la formación del glucur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766800"/>
            <a:ext cx="6191280" cy="5975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550160" y="1126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ncipales tipos de glucuró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9144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14360"/>
            <a:ext cx="8512200" cy="506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73040"/>
            <a:ext cx="91440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69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680" y="189000"/>
            <a:ext cx="82198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-ACETILACION DE COMPUESTOS 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 CoA amino 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0148" t="26057" r="14087" b="14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0280"/>
            <a:ext cx="8569080" cy="631188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BIOTRANSFORMACION F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 Reacciones de conju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1.- Se adicionan moléculas endógenas a los compuestos xenobióticos, las cuales generalmente son polares y de alta disponibilidad por parte del organ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2.- Estos grupos endógenos son adicionados a grupos funcionales presentes ya en los compuestos xenobióti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que fueron introducidos o expuestos en las reacciones de  fase I del proceso de biotrans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3.- El propósito final es obtener moléculas muy polares y con bajo coeficiente de partición lípido/agua, para que se facilite su excreción al disminuir sustancialmente su carácter lipofí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03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4068720" y="533520"/>
            <a:ext cx="12242880" cy="691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49360"/>
            <a:ext cx="1547640" cy="71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17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7640" y="6165720"/>
            <a:ext cx="4608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98040" cy="532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3360" y="471600"/>
            <a:ext cx="7785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955" t="42746" r="3689" b="15977"/>
          <a:stretch/>
        </p:blipFill>
        <p:spPr>
          <a:xfrm>
            <a:off x="1440" y="1484280"/>
            <a:ext cx="9178920" cy="392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9800" y="49536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RESU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56000" y="11592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transform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zimas Fas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240" y="1557360"/>
            <a:ext cx="90093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acciones de Conj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zima es una transferasa + un co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Enzima cataliza 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Cofactor dona un grupo quím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Acido Glucurónico, Glutation, Sulfato, Aceti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eti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ultado de estas reacciones tiende a aumen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tamaño molecular   y  la polaridad para  facili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cre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3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31107" t="24809" r="6519" b="14723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1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33001" t="24809" r="8418" b="28583"/>
          <a:stretch/>
        </p:blipFill>
        <p:spPr>
          <a:xfrm>
            <a:off x="0" y="708120"/>
            <a:ext cx="9144000" cy="545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8431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2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31107" t="24809" r="6519" b="185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8000" y="1159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3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70520" y="279396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1107" t="26057" r="12211" b="1724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4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5480" y="226692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D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481640" y="4024440"/>
            <a:ext cx="86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328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076640"/>
            <a:ext cx="28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53:44Z</dcterms:created>
  <dc:creator>mllanos</dc:creator>
  <dc:description/>
  <dc:language>en-US</dc:language>
  <cp:lastModifiedBy>mllanos</cp:lastModifiedBy>
  <dcterms:modified xsi:type="dcterms:W3CDTF">2007-09-03T16:44:17Z</dcterms:modified>
  <cp:revision>18</cp:revision>
  <dc:subject/>
  <dc:title>Diapositiva 1</dc:title>
</cp:coreProperties>
</file>