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7377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EBDA3-B0E1-4B24-B11F-2B62EF14F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8973C-DC9C-4B01-95E1-5AF01405F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883EA-E0A1-4258-A896-9B86977FE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BCE4B-3587-45DD-B7FF-AA2A85CBF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C9AB9-1729-49D5-B9F9-DC17F43BB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8DE69-E59C-465E-9885-074628E95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B00F3-0985-4EB3-8F5D-DF4691B06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A71CB-1520-4CE0-8210-199819F4B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3B43C-7777-46F0-8A0E-770E113E7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528E8-1867-414F-9E93-23A754008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A5A0D-BBF1-4A43-9F2D-9A5378E04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01B50-A42D-42E4-B785-3CECFA894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F1655-FFBC-4ED0-92DA-120275EA3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1AB41-5B78-4363-969E-A09F3D4F7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1833B-A691-492F-A29D-3B5086F1D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18A19-022B-43DA-B224-63C63AD1A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B1166-039E-4855-B038-38264E1D1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0073F-39E5-4BD5-A171-EF3D102B1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80F74-D774-4934-8525-8F7D01DEF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01417-2AA9-4556-8F4D-93B59C2D3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2A994-BE9F-4EBA-A79B-1B29EA271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06B5E-BA8E-4786-80BA-51DC0365E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CAD6D-5F93-4854-8A86-C7FDD54AA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F15C1-6E36-43CD-ACE1-9BC4A6802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00801-B291-4DD5-8AD3-C1F94F562F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3EB88-6D69-4387-B218-48582A15CC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1484280"/>
            <a:ext cx="9180360" cy="439272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1406520" y="466560"/>
            <a:ext cx="6419880" cy="581400"/>
          </a:xfrm>
          <a:prstGeom prst="rect">
            <a:avLst/>
          </a:prstGeom>
          <a:solidFill>
            <a:srgbClr val="ffffff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ENOBIOTICOS EN ALIMEN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250920" y="573120"/>
            <a:ext cx="8642160" cy="57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468360" y="474840"/>
            <a:ext cx="8207280" cy="59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468360" y="917640"/>
            <a:ext cx="828036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00"/>
                </a:solidFill>
                <a:latin typeface="Arial"/>
              </a:rPr>
              <a:t>Biotransformación  Fase 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bbe0e3"/>
                </a:solidFill>
                <a:latin typeface="Arial"/>
              </a:rPr>
              <a:t>Dos sistemas de enzima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bbe0e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bbe0e3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bbe0e3"/>
                </a:solidFill>
                <a:latin typeface="Arial"/>
              </a:rPr>
              <a:t>Amino-oxigenasas  (oxidan aminas y compuest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bbe0e3"/>
                </a:solidFill>
                <a:latin typeface="Arial"/>
              </a:rPr>
              <a:t>  </a:t>
            </a:r>
            <a:r>
              <a:rPr b="0" lang="es-ES" sz="2800" spc="-1" strike="noStrike">
                <a:solidFill>
                  <a:srgbClr val="bbe0e3"/>
                </a:solidFill>
                <a:latin typeface="Arial"/>
              </a:rPr>
              <a:t>sulfurado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bbe0e3"/>
                </a:solidFill>
                <a:latin typeface="Arial"/>
              </a:rPr>
              <a:t>- Citocromos P-450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bbe0e3"/>
                </a:solidFill>
                <a:latin typeface="Arial"/>
              </a:rPr>
              <a:t>Ambos sistemas se encuentran localizados en el retículo endoplásmico de las célula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380880" y="439560"/>
            <a:ext cx="843912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250920" y="378360"/>
            <a:ext cx="8675640" cy="600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333399"/>
                </a:solidFill>
                <a:latin typeface="Georgia"/>
              </a:rPr>
              <a:t>Citocromos P-450</a:t>
            </a:r>
            <a:r>
              <a:rPr b="0" lang="es-ES" sz="2800" spc="-1" strike="noStrike">
                <a:solidFill>
                  <a:srgbClr val="bbe0e3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eorgia"/>
              </a:rPr>
              <a:t>Formados por dos proteínas diferent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eorgia"/>
              </a:rPr>
              <a:t>- Reducta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eorgia"/>
              </a:rPr>
              <a:t>- Hemoproteína con actividad de oxigenas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eorgia"/>
              </a:rPr>
              <a:t>La oxigenasa es una proteína, que en estado reducido  presenta un pico de absorción a 450 nm. ( lo que da el nombre a esta familia de enzimas).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002f"/>
            </a:gs>
            <a:gs pos="50000">
              <a:srgbClr val="ff0066"/>
            </a:gs>
            <a:gs pos="100000">
              <a:srgbClr val="7500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762120" y="42840"/>
            <a:ext cx="7626240" cy="677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1681200"/>
            <a:ext cx="9144000" cy="34956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0" y="1628640"/>
            <a:ext cx="914400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5157720"/>
            <a:ext cx="914400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395280" y="-105840"/>
            <a:ext cx="8283600" cy="70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Georgia"/>
              </a:rPr>
              <a:t>Citocromos P-450 Act. Catalíti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l mecanismo de la reacción de la oxidación del xenobiótico catalizada por citocromo P-450, en términos generales es como sigue: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el xenobiótico entra a su sitio activo que se encuentra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n la oxigenasa,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la reductasa transfiere un electrón al hierro hemínic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reduciéndolo del nivel (III) a (II),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(C)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la reducción abre el sitio activo del O</a:t>
            </a:r>
            <a:r>
              <a:rPr b="0" lang="es-E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(D)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el O</a:t>
            </a:r>
            <a:r>
              <a:rPr b="0" lang="es-E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entra a su sitio activo y oxida al xenobiótico qu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stá en la superficie de la enzima transfiriéndole uno de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los átomos de oxígeno.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1152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Reacciones Comunes de Oxidación en la Fase 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274760" y="907920"/>
            <a:ext cx="6321600" cy="571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324000" y="33480"/>
            <a:ext cx="8496000" cy="67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422280"/>
            <a:ext cx="9144000" cy="60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398520"/>
            <a:ext cx="9144000" cy="60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rcRect l="0" t="10821" r="0" b="3322"/>
          <a:stretch/>
        </p:blipFill>
        <p:spPr>
          <a:xfrm>
            <a:off x="0" y="738360"/>
            <a:ext cx="9144000" cy="614664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614880" y="163440"/>
            <a:ext cx="799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Arial"/>
              </a:rPr>
              <a:t>Hidroxilación del Naftaleno a través de la formación de epóxi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1488960"/>
            <a:ext cx="9144000" cy="388008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0" y="1341360"/>
            <a:ext cx="9144000" cy="287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5300640"/>
            <a:ext cx="9144000" cy="2890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971640" y="15840"/>
            <a:ext cx="7200720" cy="682632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1399320" y="44280"/>
            <a:ext cx="623880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Hidroxilación Microsomal de Piridina y Quinole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-15840" y="355680"/>
            <a:ext cx="9159840" cy="613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-9360" y="870120"/>
            <a:ext cx="9153360" cy="51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rcRect l="0" t="24173" r="0" b="7325"/>
          <a:stretch/>
        </p:blipFill>
        <p:spPr>
          <a:xfrm>
            <a:off x="34920" y="2708280"/>
            <a:ext cx="9058320" cy="194472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091880" y="1265400"/>
            <a:ext cx="727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Desulfuración Oxidativa del Parat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08000" y="244440"/>
            <a:ext cx="9144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Arial"/>
              </a:rPr>
              <a:t>Si la concentración de oxígeno en la célula es muy baja, entonces la reacción catalizada por el Citocromo P-450 es una reducción en la que el NADPH actúa como donante de iones hidruro</a:t>
            </a: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.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682560" y="2228760"/>
            <a:ext cx="7921800" cy="42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rcRect l="10993" t="11687" r="9762" b="4998"/>
          <a:stretch/>
        </p:blipFill>
        <p:spPr>
          <a:xfrm>
            <a:off x="757080" y="888840"/>
            <a:ext cx="7702560" cy="592488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173880" y="115920"/>
            <a:ext cx="881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Reacciones de reducción del sistema microsomal con participación 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Citocromo P-4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1060560"/>
            <a:ext cx="9144000" cy="47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0" y="600120"/>
            <a:ext cx="9144000" cy="565776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476280"/>
            <a:ext cx="9144000" cy="288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6165720"/>
            <a:ext cx="9144000" cy="216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642160" cy="688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rcRect l="2740" t="14956" r="2740" b="464"/>
          <a:stretch/>
        </p:blipFill>
        <p:spPr>
          <a:xfrm>
            <a:off x="0" y="1054080"/>
            <a:ext cx="9144000" cy="515304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372600" y="307800"/>
            <a:ext cx="837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ffcc"/>
                </a:solidFill>
                <a:latin typeface="Arial"/>
              </a:rPr>
              <a:t>Hidrólisis de epóxidos por acción de epoxido-hidratas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1709640"/>
            <a:ext cx="9144000" cy="34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87280" y="346320"/>
            <a:ext cx="8605800" cy="62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66"/>
                </a:solidFill>
                <a:latin typeface="Arial"/>
              </a:rPr>
              <a:t>Al conjunto de caminos metabólicos por medio de los cuales los tejidos incrementan la polaridad de un tóxico se le denomin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66"/>
                </a:solidFill>
                <a:latin typeface="Arial"/>
              </a:rPr>
              <a:t>biotransform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66"/>
                </a:solidFill>
                <a:latin typeface="Arial"/>
              </a:rPr>
              <a:t>Podemos decir que la biotransformación de un tóxico consiste fundamentalmente en convertir un xenobiótico no polar en un compuesto soluble en agu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66"/>
                </a:solidFill>
                <a:latin typeface="Arial"/>
              </a:rPr>
              <a:t>Este es el mecanismo más común que usan los organismos para eliminar los tóxicos ambientales.</a:t>
            </a:r>
            <a:r>
              <a:rPr b="0" lang="es-ES" sz="2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-15840" y="1346040"/>
            <a:ext cx="9159840" cy="41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3240" y="582480"/>
            <a:ext cx="9140760" cy="569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324000" y="185760"/>
            <a:ext cx="8569080" cy="648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606600"/>
            <a:ext cx="9144000" cy="56448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2987640" y="836640"/>
            <a:ext cx="3097080" cy="28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11T18:52:58Z</dcterms:created>
  <dc:creator>mllanos</dc:creator>
  <dc:description/>
  <dc:language>en-US</dc:language>
  <cp:lastModifiedBy>mllanos</cp:lastModifiedBy>
  <dcterms:modified xsi:type="dcterms:W3CDTF">2007-08-27T15:57:47Z</dcterms:modified>
  <cp:revision>36</cp:revision>
  <dc:subject/>
  <dc:title>Diapositiva 1</dc:title>
</cp:coreProperties>
</file>