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5C2-57BF-4FBB-BBB2-1D570CE1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E65-E272-4599-BC8B-00BE6005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009-9A4C-467D-99BB-B3B3D1C8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132-DA3D-430C-898B-59C0F3FA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82D8-05C2-4C00-8E2E-1C0BAADC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772A-976A-49AC-978A-AC9473FD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F997-D072-47B4-B767-28AACD1A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5782-BD92-417A-A06D-0803D903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0645-5B89-4452-83E8-C4D03CE8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712B-D283-4564-819D-C55217E9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E5E7-18EA-492C-9FB8-40CF4D23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8FB-F003-4C81-945C-31F95C1F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D5D1-7E12-47AF-8051-880333BC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10EF-CA05-459F-8C8C-A78BD6FD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AB05-2502-4E46-84A7-DBCAB3B2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7E5C-919D-4CF6-8E77-068F28F7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3AC0-056F-440C-9A15-35BC5258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CC8-052C-4735-9801-C7E738F7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8AB-4FC0-4FF3-9832-3B4958CE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F7E-B2C2-4FDD-A651-32FEBA64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B72-D981-46FC-8FCF-FAD28368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65D-33FE-4CC6-93CB-91CE5A9E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34E-B84F-48F9-B0CE-165759D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304-88F7-4566-9662-B57BE828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A7FD-C7AB-41DC-9CAF-EB97D34FE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0D30-A9EA-4C1F-8C7E-103C88703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80360" cy="439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6520" y="466560"/>
            <a:ext cx="64198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BIOTICOS EN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573120"/>
            <a:ext cx="86421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474840"/>
            <a:ext cx="820728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917640"/>
            <a:ext cx="8280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Biotransformación  F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Dos sistemas de enzim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ino-oxigenasas  (oxidan aminas y compue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sulfur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- Citocromos P-4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bos sistemas se encuentran localizados en el retículo endoplásmico de las célul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439560"/>
            <a:ext cx="8439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78360"/>
            <a:ext cx="867564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Georgia"/>
              </a:rPr>
              <a:t>Citocromos P-450</a:t>
            </a:r>
            <a:r>
              <a:rPr b="0" lang="es-ES" sz="2800" spc="-1" strike="noStrike">
                <a:solidFill>
                  <a:srgbClr val="bbe0e3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Formados por dos proteínas dif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Reduc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Hemoproteína con actividad de oxigen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La oxigenasa es una proteína, que en estado reducido  presenta un pico de absorción a 450 nm. ( lo que da el nombre a esta familia de enzimas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50000">
              <a:srgbClr val="ff0066"/>
            </a:gs>
            <a:gs pos="100000">
              <a:srgbClr val="75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42840"/>
            <a:ext cx="762624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681200"/>
            <a:ext cx="9144000" cy="349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628640"/>
            <a:ext cx="914400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57720"/>
            <a:ext cx="9144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-105840"/>
            <a:ext cx="8283600" cy="70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Citocromos P-450 Act. Cat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ecanismo de la reacción de la oxidación del xenobiótico catalizada por citocromo P-450, en términos generales es como sigue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xenobiótico entra a su sitio activo que se encuent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oxigenasa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tasa transfiere un electrón al hierro hemín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duciéndolo del nivel (III) a (II)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ción abre el sitio activo d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D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tra a su sitio activo y oxida al xenobiótic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en la superficie de la enzima transfiriéndole uno d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átomos de oxígen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acciones Comunes de Oxidación en la F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4760" y="907920"/>
            <a:ext cx="632160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3480"/>
            <a:ext cx="8496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10821" r="0" b="3322"/>
          <a:stretch/>
        </p:blipFill>
        <p:spPr>
          <a:xfrm>
            <a:off x="0" y="73836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4880" y="163440"/>
            <a:ext cx="79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Hidroxilación del Naftaleno a través de la formación de epóx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3880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00640"/>
            <a:ext cx="914400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15840"/>
            <a:ext cx="7200720" cy="6826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99320" y="44280"/>
            <a:ext cx="623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idroxilación Microsomal de Piridina y Quinol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840" y="355680"/>
            <a:ext cx="91598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9360" y="870120"/>
            <a:ext cx="9153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24173" r="0" b="7325"/>
          <a:stretch/>
        </p:blipFill>
        <p:spPr>
          <a:xfrm>
            <a:off x="34920" y="2708280"/>
            <a:ext cx="905832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91880" y="1265400"/>
            <a:ext cx="72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ulfuración Oxidativa del Para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8000" y="244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i la concentración de oxígeno en la célula es muy baja, entonces la reacción catalizada por el Citocromo P-450 es una reducción en la que el NADPH actúa como donante de iones hidruro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2560" y="2228760"/>
            <a:ext cx="79218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10993" t="11687" r="9762" b="4998"/>
          <a:stretch/>
        </p:blipFill>
        <p:spPr>
          <a:xfrm>
            <a:off x="757080" y="888840"/>
            <a:ext cx="7702560" cy="592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880" y="115920"/>
            <a:ext cx="881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acciones de reducción del sistema microsomal con particip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itocromo P-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060560"/>
            <a:ext cx="91440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740" t="14956" r="2740" b="464"/>
          <a:stretch/>
        </p:blipFill>
        <p:spPr>
          <a:xfrm>
            <a:off x="0" y="105408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2600" y="307800"/>
            <a:ext cx="83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cc"/>
                </a:solidFill>
                <a:latin typeface="Arial"/>
              </a:rPr>
              <a:t>Hidrólisis de epóxidos por acción de epoxido-hidra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7280" y="346320"/>
            <a:ext cx="8605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Al conjunto de caminos metabólicos por medio de los cuales los tejidos incrementan la polaridad de un tóxico se le denom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66"/>
                </a:solidFill>
                <a:latin typeface="Arial"/>
              </a:rPr>
              <a:t>biotrans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Podemos decir que la biotransformación de un tóxico consiste fundamentalmente en convertir un xenobiótico no polar en un compuesto soluble en ag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ste es el mecanismo más común que usan los organismos para eliminar los tóxicos ambientales.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5840" y="1346040"/>
            <a:ext cx="915984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" y="582480"/>
            <a:ext cx="914076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85760"/>
            <a:ext cx="8569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06600"/>
            <a:ext cx="9144000" cy="564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836640"/>
            <a:ext cx="30970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8:52:58Z</dcterms:created>
  <dc:creator>mllanos</dc:creator>
  <dc:description/>
  <dc:language>en-US</dc:language>
  <cp:lastModifiedBy>mllanos</cp:lastModifiedBy>
  <dcterms:modified xsi:type="dcterms:W3CDTF">2007-08-27T15:57:47Z</dcterms:modified>
  <cp:revision>36</cp:revision>
  <dc:subject/>
  <dc:title>Diapositiva 1</dc:title>
</cp:coreProperties>
</file>