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CD7-DD3C-4FEF-BCAC-AAAA6181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6BD5-CFB4-4352-AFA9-B2C3BB7B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0D4-1F85-46F1-ACB6-C35BBBF0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A17D-0C4A-4AA8-8744-282D8EAF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3F00-9665-4D3B-AA26-0DB83FFE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9EE1-E450-4CBE-82C5-0FC53F65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E8DC-8395-4B11-B5C5-BEC5AAA9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4E30-29A2-4458-8886-E2986448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148C-28CB-4052-88DF-C74CC3AC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1213-8C6D-4752-B461-7196F192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06E6-59D6-4AEC-BB24-0ACBADC9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B28D-6C44-4B91-B112-0FCFF625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A9D3-9335-4FC7-BE6A-33B3DD8C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F195-DAF9-4B72-80B4-A458B3A1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7E82-891F-4911-81AB-E20FAF3D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70F4-BE9C-4747-8E1C-EF876B53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AEA7-097A-4DDE-ACB7-1C5115A1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D33-38A2-4245-A9AD-556B6A63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38F9-9988-4E3A-8C61-D2D4797B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6D8-299E-4308-B484-20758207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BE3-066A-40EB-A546-65E56DCD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348-C24C-4AB7-AFAF-74FAEB60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754-D376-492D-ACB8-063A4E60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258-AAFD-4F10-B9B9-9B4BA42A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2FEB-F9E8-4860-96D5-044DBB340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FD36-EA3B-4534-8410-C76BAC37B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80360" cy="4392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06520" y="466560"/>
            <a:ext cx="64198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ENOBIOTICOS EN 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573120"/>
            <a:ext cx="864216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474840"/>
            <a:ext cx="8207280" cy="59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917640"/>
            <a:ext cx="82803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Biotransformación  Fa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Dos sistemas de enzim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Amino-oxigenasas  (oxidan aminas y compues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sulfura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- Citocromos P-45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be0e3"/>
                </a:solidFill>
                <a:latin typeface="Arial"/>
              </a:rPr>
              <a:t>Ambos sistemas se encuentran localizados en el retículo endoplásmico de las célul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439560"/>
            <a:ext cx="84391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378360"/>
            <a:ext cx="867564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Georgia"/>
              </a:rPr>
              <a:t>Citocromos P-450</a:t>
            </a:r>
            <a:r>
              <a:rPr b="0" lang="es-ES" sz="2800" spc="-1" strike="noStrike">
                <a:solidFill>
                  <a:srgbClr val="bbe0e3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Formados por dos proteínas difer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- Reduc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- Hemoproteína con actividad de oxigena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La oxigenasa es una proteína, que en estado reducido  presenta un pico de absorción a 450 nm. ( lo que da el nombre a esta familia de enzimas)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50000">
              <a:srgbClr val="ff0066"/>
            </a:gs>
            <a:gs pos="100000">
              <a:srgbClr val="75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42840"/>
            <a:ext cx="762624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681200"/>
            <a:ext cx="9144000" cy="3495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628640"/>
            <a:ext cx="914400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157720"/>
            <a:ext cx="9144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-105840"/>
            <a:ext cx="8283600" cy="70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Citocromos P-450 Act. Catalí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mecanismo de la reacción de la oxidación del xenobiótico catalizada por citocromo P-450, en términos generales es como sigue: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l xenobiótico entra a su sitio activo que se encuentr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la oxigenasa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a reductasa transfiere un electrón al hierro hemín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duciéndolo del nivel (III) a (II)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C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a reducción abre el sitio activo del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D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l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tra a su sitio activo y oxida al xenobiótic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á en la superficie de la enzima transfiriéndole uno d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átomos de oxígeno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15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acciones Comunes de Oxidación en la Fas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4760" y="907920"/>
            <a:ext cx="632160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33480"/>
            <a:ext cx="849600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22280"/>
            <a:ext cx="9144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10821" r="0" b="3322"/>
          <a:stretch/>
        </p:blipFill>
        <p:spPr>
          <a:xfrm>
            <a:off x="0" y="73836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4880" y="163440"/>
            <a:ext cx="79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Hidroxilación del Naftaleno a través de la formación de epóx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3880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300640"/>
            <a:ext cx="9144000" cy="28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15840"/>
            <a:ext cx="7200720" cy="6826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99320" y="44280"/>
            <a:ext cx="623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idroxilación Microsomal de Piridina y Quinole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5840" y="355680"/>
            <a:ext cx="91598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9360" y="870120"/>
            <a:ext cx="9153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24173" r="0" b="7325"/>
          <a:stretch/>
        </p:blipFill>
        <p:spPr>
          <a:xfrm>
            <a:off x="34920" y="2708280"/>
            <a:ext cx="9058320" cy="1944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91880" y="1265400"/>
            <a:ext cx="72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ulfuración Oxidativa del Para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8000" y="2444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Si la concentración de oxígeno en la célula es muy baja, entonces la reacción catalizada por el Citocromo P-450 es una reducción en la que el NADPH actúa como donante de iones hidruro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2560" y="2228760"/>
            <a:ext cx="79218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10993" t="11687" r="9762" b="4998"/>
          <a:stretch/>
        </p:blipFill>
        <p:spPr>
          <a:xfrm>
            <a:off x="757080" y="888840"/>
            <a:ext cx="7702560" cy="5924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880" y="115920"/>
            <a:ext cx="881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acciones de reducción del sistema microsomal con particip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itocromo P-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060560"/>
            <a:ext cx="91440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600120"/>
            <a:ext cx="9144000" cy="5657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476280"/>
            <a:ext cx="9144000" cy="28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165720"/>
            <a:ext cx="9144000" cy="21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2740" t="14956" r="2740" b="464"/>
          <a:stretch/>
        </p:blipFill>
        <p:spPr>
          <a:xfrm>
            <a:off x="0" y="105408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2600" y="307800"/>
            <a:ext cx="83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cc"/>
                </a:solidFill>
                <a:latin typeface="Arial"/>
              </a:rPr>
              <a:t>Hidrólisis de epóxidos por acción de epoxido-hidrat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7280" y="346320"/>
            <a:ext cx="86058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Al conjunto de caminos metabólicos por medio de los cuales los tejidos incrementan la polaridad de un tóxico se le denom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66"/>
                </a:solidFill>
                <a:latin typeface="Arial"/>
              </a:rPr>
              <a:t>biotrans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Podemos decir que la biotransformación de un tóxico consiste fundamentalmente en convertir un xenobiótico no polar en un compuesto soluble en ag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Este es el mecanismo más común que usan los organismos para eliminar los tóxicos ambientales.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5840" y="1346040"/>
            <a:ext cx="915984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" y="582480"/>
            <a:ext cx="914076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185760"/>
            <a:ext cx="856908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606600"/>
            <a:ext cx="9144000" cy="564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87640" y="836640"/>
            <a:ext cx="30970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8:52:58Z</dcterms:created>
  <dc:creator>mllanos</dc:creator>
  <dc:description/>
  <dc:language>en-US</dc:language>
  <cp:lastModifiedBy>mllanos</cp:lastModifiedBy>
  <dcterms:modified xsi:type="dcterms:W3CDTF">2007-08-27T15:57:47Z</dcterms:modified>
  <cp:revision>36</cp:revision>
  <dc:subject/>
  <dc:title>Diapositiva 1</dc:title>
</cp:coreProperties>
</file>