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6C5-D79A-4DEC-85E4-0E6D646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849-77F3-4032-92FC-098BE4F0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F3A-6E9A-4997-8B45-88C13478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A97-EACD-4C9C-8D53-B3D81B55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2D5E-F6C7-4ADB-9AFA-A9216B6E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F354-0057-43B4-B983-A45198AB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6B63-9009-4E02-8750-0DBEA0B3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2D8-8340-487C-8014-75150D59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BBF8-FD0D-4645-865E-BE7E7565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2430-24F6-448C-8383-26E9489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D4DD-A72E-4BC3-8985-591CB25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301-4BE9-42F0-BC57-4C340D3C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8B87-D855-4BE4-BB15-94E0AF62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5305-2749-451B-BE41-AF4FF1AA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1C40-AF3A-4B75-A78D-166A5D77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BDE2-B4AD-446A-A007-F0D444F4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888-8E39-4478-B0AD-42E4487B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6C7-9B44-48D6-A925-905C171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6CF-2C82-466C-B9E0-A075F972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1C4-5893-4CC2-89BF-26D5DA0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0F0-AFE3-4E84-9822-61D0A961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DDE-BD3E-4663-85A6-03B8AD9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8C7-6420-4B31-BC10-77974C4C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DC7-495A-40ED-A49E-3BD75A81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2B0-4515-4ABC-9DD8-7B9AD8A8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AB76-0F17-478E-8082-B00C8295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8036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6520" y="466560"/>
            <a:ext cx="64198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BIOTICOS EN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73120"/>
            <a:ext cx="86421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917640"/>
            <a:ext cx="8280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Biotransformación  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Dos sistemas de enz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ino-oxigenasas  (oxidan aminas y compue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sulfur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- Citocromos P-4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bos sistemas se encuentran localizados en el retículo endoplásmico de l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43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78360"/>
            <a:ext cx="86756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Georgia"/>
              </a:rPr>
              <a:t>Citocromos P-450</a:t>
            </a:r>
            <a:r>
              <a:rPr b="0" lang="es-ES" sz="2800" spc="-1" strike="noStrike">
                <a:solidFill>
                  <a:srgbClr val="bbe0e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Formados por dos proteína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Hemoproteína con actividad de oxigen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La oxigenasa es una proteína, que en estado reducido  presenta un pico de absorción a 450 nm. ( lo que da el nombre a esta familia de enzimas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5000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42840"/>
            <a:ext cx="76262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-105840"/>
            <a:ext cx="82836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Citocromos P-450 Act. Cat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ecanismo de la reacción de la oxidación del xenobiótico catalizada por citocromo P-450, en términos generales es como sigue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xenobiótico entra a su sitio activo que se encuen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oxigenas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tasa transfiere un electrón al hierro hemín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uciéndolo del nivel (III) a (II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ción abre el sitio activo d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a a su sitio activo y oxida al xenobiótic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en la superficie de la enzima transfiriéndole uno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átomos de oxígen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acciones Comunes de Oxidación en la F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4760" y="907920"/>
            <a:ext cx="63216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480"/>
            <a:ext cx="8496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0821" r="0" b="3322"/>
          <a:stretch/>
        </p:blipFill>
        <p:spPr>
          <a:xfrm>
            <a:off x="0" y="738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" y="163440"/>
            <a:ext cx="79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Hidroxilación del Naftaleno a través de la formación de epóx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00640"/>
            <a:ext cx="914400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840"/>
            <a:ext cx="7200720" cy="682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99320" y="44280"/>
            <a:ext cx="62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droxilación Microsomal de Piridina y Quinol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840" y="355680"/>
            <a:ext cx="91598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9360" y="870120"/>
            <a:ext cx="9153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4173" r="0" b="7325"/>
          <a:stretch/>
        </p:blipFill>
        <p:spPr>
          <a:xfrm>
            <a:off x="34920" y="2708280"/>
            <a:ext cx="9058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1880" y="126540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ulfuración Oxidativa del Para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244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la concentración de oxígeno en la célula es muy baja, entonces la reacción catalizada por el Citocromo P-450 es una reducción en la que el NADPH actúa como donante de iones hidruro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2228760"/>
            <a:ext cx="7921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0993" t="11687" r="9762" b="4998"/>
          <a:stretch/>
        </p:blipFill>
        <p:spPr>
          <a:xfrm>
            <a:off x="757080" y="888840"/>
            <a:ext cx="7702560" cy="592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880" y="11592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cciones de reducción del sistema microsomal con particip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ocromo P-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740" t="14956" r="2740" b="464"/>
          <a:stretch/>
        </p:blipFill>
        <p:spPr>
          <a:xfrm>
            <a:off x="0" y="10540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2600" y="307800"/>
            <a:ext cx="83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cc"/>
                </a:solidFill>
                <a:latin typeface="Arial"/>
              </a:rPr>
              <a:t>Hidrólisis de epóxidos por acción de epoxido-hidr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46320"/>
            <a:ext cx="8605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 conjunto de caminos metabólicos por medio de los cuales los tejidos incrementan la polaridad de un tóxico se le deno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biotrans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mos decir que la biotransformación de un tóxico consiste fundamentalmente en convertir un xenobiótico no polar en un compuesto soluble en a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te es el mecanismo más común que usan los organismos para eliminar los tóxicos ambientales.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5840" y="1346040"/>
            <a:ext cx="9159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" y="582480"/>
            <a:ext cx="914076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569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836640"/>
            <a:ext cx="30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8:52:58Z</dcterms:created>
  <dc:creator>mllanos</dc:creator>
  <dc:description/>
  <dc:language>en-US</dc:language>
  <cp:lastModifiedBy>mllanos</cp:lastModifiedBy>
  <dcterms:modified xsi:type="dcterms:W3CDTF">2007-08-27T15:57:47Z</dcterms:modified>
  <cp:revision>36</cp:revision>
  <dc:subject/>
  <dc:title>Diapositiva 1</dc:title>
</cp:coreProperties>
</file>