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79A-3C7C-4312-B383-FA5063E9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F34-F7A9-490B-AA36-C123D76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66F-8D8A-4FB2-AA02-03F29F4E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E4D-AD9A-47B1-A7B5-5091FB08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23C-4311-4847-B5B4-BEDA7A80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700-4C26-4859-8D7D-5375AE35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5C3-1648-4BD7-8ACB-58C65EB2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971-8A7B-45BA-9389-D83B01F9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205-7D64-4FE7-BE0D-F0A8ECE2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677-A5F2-4925-958F-017ED8F1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A37-62E7-436E-A16A-CFC4CB7E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D08-71B3-4F7B-A159-7F539326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4913-06C7-44C1-ADA7-186E5BFB6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is.nlm.nih.gov/toxtutor1/chart09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is.nlm.nih.gov/ToxTutor/Tox1/chart01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7440" y="1413000"/>
            <a:ext cx="115092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90880" y="1563840"/>
            <a:ext cx="7207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 en especial relación dosis-tiempo de ex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 dosis-res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dosis es crítica para determinar si el tóxico producirá efectos crónicos o agu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03760"/>
            <a:ext cx="84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eralmente, a mayor dosis, más severa es la respuesta y está  condicionada por la concentración del tóxico en el bl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Cualquier sustancia química puede ser nociva si se introduce en cantidad su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0"/>
            <a:ext cx="6912000" cy="907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60" y="268200"/>
            <a:ext cx="72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tores que afectan la tox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66960" y="-1290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66960" y="-282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866960" y="725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866960" y="1733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866960" y="274176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866960" y="374976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866960" y="4757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1866960" y="5765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1866960" y="6773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1866960" y="77817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4255920" y="8148600"/>
            <a:ext cx="8604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52640" y="333360"/>
            <a:ext cx="60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Efecto: efectos defin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j : tejidos o células ex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1197000"/>
          <a:ext cx="60962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9700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692360" y="522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16400" y="30412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87360" y="53053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osis (mg/ Kg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333520"/>
            <a:ext cx="4464000" cy="2881440"/>
          </a:xfrm>
          <a:custGeom>
            <a:avLst/>
            <a:gdLst/>
            <a:ahLst/>
            <a:rect l="l" t="t" r="r" b="b"/>
            <a:pathLst>
              <a:path w="2812" h="1815">
                <a:moveTo>
                  <a:pt x="0" y="1815"/>
                </a:moveTo>
                <a:cubicBezTo>
                  <a:pt x="60" y="1218"/>
                  <a:pt x="121" y="621"/>
                  <a:pt x="590" y="318"/>
                </a:cubicBezTo>
                <a:cubicBezTo>
                  <a:pt x="1059" y="15"/>
                  <a:pt x="2442" y="53"/>
                  <a:pt x="2812" y="0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23115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92000" y="1989000"/>
            <a:ext cx="8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8120" y="1725480"/>
            <a:ext cx="634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fecto Máximo (E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omic Sans MS"/>
              </a:rPr>
              <a:t>max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): representa el grado de tox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661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Comic Sans MS"/>
              </a:rPr>
              <a:t>La curva dosis-efecto se construye graficando en las ordenadas los Efectos (E) causados en el organismo expuesto a un tóxico y en las abcisas las Dosis (D) o Concentraciones (C)  a las que fue ex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1435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FECTO DE LINDANO SOBRE LA SINTESIS DE TESTO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49608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26828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Efecto: efectos no defi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j: organismo expuesto. Dentro de una población se observa una distribución de respuestas para cada d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n este caso no se mide el efecto sino que el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 población expuesta que presenta una respuesta determinada. Este efecto se llama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“cuanta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4920" y="150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7548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9372" t="22277" r="7478" b="14723"/>
          <a:stretch/>
        </p:blipFill>
        <p:spPr>
          <a:xfrm>
            <a:off x="826920" y="1271520"/>
            <a:ext cx="7993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880" y="339840"/>
            <a:ext cx="863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 general los efectos cuantales se representan por cur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osis-respuesta  que son  curvas sigmoídeas porque resulta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ransformación del eje X a l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 la mayoría de los casos, las dosis pequeñas no son tóx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7875" t="41171" r="26378" b="15977"/>
          <a:stretch/>
        </p:blipFill>
        <p:spPr>
          <a:xfrm>
            <a:off x="755640" y="1652760"/>
            <a:ext cx="698508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61009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Primera dosis  en la  cual aparece toxicidad se conoce como dosis 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“umbral”.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94440" y="53960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59280" y="1916280"/>
            <a:ext cx="6490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10240" y="17733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836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l umbral para los efectos tóxicos ocurre en el punto donde la capacidad del organismo para detoxificar al xenobiótico o reparar la injuria tóxica se ha exce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ara la mayoría de los órganos hay una capacidad de reserva de modo que la pérdida  de una función orgánica no causa un efecto deletére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or ej el desarrollo de cirrosis hepática sólo produce un efecto clínico cuando sobre el  50% del hígado ha sido reemplazado por tejido fibr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Dosis -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hart09" descr="">
            <a:hlinkClick r:id="rId2"/>
          </p:cNvPr>
          <p:cNvPicPr/>
          <p:nvPr/>
        </p:nvPicPr>
        <p:blipFill>
          <a:blip r:embed="rId3"/>
          <a:srcRect l="0" t="0" r="18186" b="0"/>
          <a:stretch/>
        </p:blipFill>
        <p:spPr>
          <a:xfrm>
            <a:off x="1279440" y="1149480"/>
            <a:ext cx="6172200" cy="4108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1440" y="5491080"/>
            <a:ext cx="70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Comic Sans MS"/>
                <a:ea typeface="Arial"/>
              </a:rPr>
              <a:t>NOAEL:No observed adverse effect le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Comic Sans MS"/>
                <a:ea typeface="Arial"/>
              </a:rPr>
              <a:t>LOAEL:Lowest observed adverse effect level</a:t>
            </a:r>
            <a:r>
              <a:rPr b="0" lang="es-ES" sz="2400" spc="-1" strike="noStrike">
                <a:solidFill>
                  <a:srgbClr val="ffff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67840" y="49608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52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oxicología de los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rea del conocimiento científico que evalúa la presencia de factores tóxicos y antinutricionales presentes en los alimentos, ya sea en forma natural o procesados, con la finalidad de que estos sean inocuos o de bajo riesgo al hombre, de acuerdo a la ingesta dieté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273672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5373720"/>
            <a:ext cx="1447920" cy="928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56360" y="4419720"/>
            <a:ext cx="217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GESTA DIARI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 la cantidad de una sustancia química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xpresada e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de peso corporal,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que puede ser ingerida diariamente por una persona, durante toda la vida , sin riesgo para la salud según los hechos conocidos hasta el momento de su establecimiento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e obtiene experimentalmente en anim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 base al valor NOAEL (No Adverse Observed Effect Lim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DA  = NOAEL /FACTOR DE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IMITE DE TOLERANCIA  O LIMITE MAXIMO DE RESIDU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 la cantidad máxima de una sustancia química expresada e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de alimento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que éste puede contener sin que implique un riesgo para la salud, sobre la base de los hechos conocidos hasta el momento de su recomendación o establ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MR =  IDA x Peso corporal /Peso al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DA    :  Ingesta Diaria Adm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g/kg peso corporal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64944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33336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osis de ex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ntidad de sustancia a la que se expone el organismo y el tiempo durante el que estuvo ex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dosis determina el tipo y magnitud de la respuesta biológica y éste es un concepto central de la toxic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toxicidad depen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DOSIS (ej: mg/kg de peso del organ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 las condiciones de ex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vía de ingreso, duración y frecuencia de la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xposiciones, tasa de contacto con el medio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ontaminado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476280"/>
            <a:ext cx="388944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7628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549360"/>
            <a:ext cx="849816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arámetros Toxic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ara representar numéricamente  las curvas dosis-efecto se acostumbra utilizar la dosis que produce una respuesta igual a la mitad de Em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D50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i se miden efectos graduales la ED50 es la concentración de tóxico que produce una respuesta igual a la mitad de la respuesta máx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Si se miden efectos cuantales,  la ED50 es la concentración que produce el efecto en el 50% de la pob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a se aplica normalmente a los casos donde la dosis no es conocida, pero sí la exposición. Por ej un pez expuesto en agua a una concentración conocida de un tó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D50: Concentración de la sustancia que matará a un 50% de los organi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00720" y="3933720"/>
            <a:ext cx="10792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4005360"/>
            <a:ext cx="86544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3336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Dosis-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PH5_N" descr=""/>
          <p:cNvPicPr/>
          <p:nvPr/>
        </p:nvPicPr>
        <p:blipFill>
          <a:blip r:embed="rId2"/>
          <a:srcRect l="0" t="0" r="11577" b="0"/>
          <a:stretch/>
        </p:blipFill>
        <p:spPr>
          <a:xfrm>
            <a:off x="619200" y="1052640"/>
            <a:ext cx="6400800" cy="4643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519720" y="523404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0800000">
            <a:off x="324000" y="-360"/>
            <a:ext cx="8820000" cy="79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8900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Espectro de Dosis tó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907920"/>
          <a:ext cx="7417080" cy="5850000"/>
        </p:xfrm>
        <a:graphic>
          <a:graphicData uri="http://schemas.openxmlformats.org/drawingml/2006/table">
            <a:tbl>
              <a:tblPr/>
              <a:tblGrid>
                <a:gridCol w="4189680"/>
                <a:gridCol w="322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te                              ED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</a:t>
                      </a:r>
                      <a:r>
                        <a:rPr b="1" lang="es-E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nol                               700  g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Cl                                  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o Ferroso                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o morfina                   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nobarbitol                       1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T                                      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crotoxina                          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icnina sulfato                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otina                                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-Tubocurarine                  35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trodotoxina                      7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oxina (TCDD)                   7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ina botulínica                0.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5640" y="26028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forma y pendiente de la curva dosis-respuesta es extremadamente importante en predecir la toxicidad de una sustancia a dosis especí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GRAPH4_N" descr=""/>
          <p:cNvPicPr/>
          <p:nvPr/>
        </p:nvPicPr>
        <p:blipFill>
          <a:blip r:embed="rId1"/>
          <a:srcRect l="0" t="0" r="11714" b="0"/>
          <a:stretch/>
        </p:blipFill>
        <p:spPr>
          <a:xfrm>
            <a:off x="776160" y="1484280"/>
            <a:ext cx="7467840" cy="463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6172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mic Sans MS"/>
              </a:rPr>
              <a:t>En este caso el tóxico A tiene mayor umbral que el B pero tiene una pendiente  más agud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95280" y="2238480"/>
          <a:ext cx="640872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38480"/>
                    <a:ext cx="640872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39640" y="58831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urva Dosis-Respuesta. Compuesto que presenta las dos curvas. 1= curva de dosis-efectos tóxicos; y 2= curva de dosis-efectos l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760" y="477720"/>
            <a:ext cx="835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y compuestos peligrosos que presentan 2 curvas dosis-ef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rva 1: Efectos tóx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rva 2: Efectos l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04640"/>
            <a:ext cx="86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tencia de un tó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tencia se refiere al rango de dosis dentro del cual una sustancia produce respuestas cre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805040"/>
          <a:ext cx="599112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05040"/>
                    <a:ext cx="599112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546280" y="508968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tencia de 3 tóxic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6720" y="566748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 potencia está influenciada por factores tales como absor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metabolismo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 curva del tóxico más potente aparece más cercana al or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Tipos de Respuestas Tóx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0" y="256536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mediata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tard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Minutos a horas después                     Días -años después de la de una exposición única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  expos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versible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rrever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280" y="1219320"/>
            <a:ext cx="9396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Local.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        Sisté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 en el sitio de contacto.        Efecto distante del sitio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e ex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260280"/>
            <a:ext cx="288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252360" y="244440"/>
            <a:ext cx="91440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ecto tó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define como efecto tóxico o respuesta tóxica, cualquier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sviación del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uncionamiento  normal del organismo que ha sid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ducida por la exposición a sustancias tóx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ólo se consideran como desviaciones significativas los cambio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rreversibles o los cambios que permanecen por un períod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longado después de que la exposición ha cesado. Por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mplo: la variación en la relación de masa hepática/ mas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rporal es una respuesta tóxica, porque persiste varios días 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anas después de que la exposición termin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Efectos Tóx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flam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spuesta local o sisté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Necro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Muerte celular o tis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hibición enzim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rupción de una vía bio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esacoplamiento bioquím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Peroxidación Lip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Oxidación de radicales libres de ácidos grasos que conducen a muerte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  <a:ea typeface="Arial"/>
              </a:rPr>
              <a:t>Efectos Tóx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Reacciones inmunes de hiper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	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Químicos antigénicos que resultan de reacciones alér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muno-supre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Neoplas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División celular aberrante y crecimiento de tej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</a:rPr>
              <a:t>Toxicidad reproductiva y en el desarrol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acción genotóxicas</a:t>
            </a: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Interacción química con DNA que conducen posiblemente a un cambio heredit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s Clastogénicos (cromosoma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Comic Sans MS"/>
                <a:ea typeface="Arial"/>
              </a:rPr>
              <a:t>Efectos Mutagénicos (pares de 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38240"/>
            <a:ext cx="9144000" cy="936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Tasas de toxicidad – Dosis humana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219320"/>
          <a:ext cx="8458200" cy="5105160"/>
        </p:xfrm>
        <a:graphic>
          <a:graphicData uri="http://schemas.openxmlformats.org/drawingml/2006/table">
            <a:tbl>
              <a:tblPr/>
              <a:tblGrid>
                <a:gridCol w="2819520"/>
                <a:gridCol w="2879640"/>
                <a:gridCol w="27590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rácticamente no-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&gt;1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ve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-1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da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0.5-5 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uy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0-500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tremadamente 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-50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upertó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&lt;5 mg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24000" y="189000"/>
            <a:ext cx="8820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Biomar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os marcadores biológicos o biomarcadores son los cambios medibles, ya sean estos bioquímicos, fisiológicos o morfológicos, que se asocian a la exposición a un tó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809720"/>
            <a:ext cx="88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Por ejemplo; el nivel de acetilcolinesterasa en sangre se modifica por la exposición a plaguicidas. Un nivel anormalmente bajo de acetilcolinesterasa es un biomarcador de la exposición a plaguicidas organofosfo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s biomarcadores se utilizan p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ctar la presencia de un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rminar las consecuencias biológicas de l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tectar los estados iniciales e intermedios de un proceso pat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identificar a los individuos sensibles de un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fundamentar la decisión de intervenir, tanto a nivel individual como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n la elección de un biomarcador es necesario considerar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specificidad y sensibilidad del biomar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ificultad de muest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inética de la formación del biomarcad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stabilidad del biomar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71640" y="53640"/>
            <a:ext cx="6624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Investigaciones Clínicas</a:t>
            </a:r>
            <a:r>
              <a:rPr b="0" lang="es-ES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El conocimiento de la toxicidad de xenobióticos en humanos deriva de 3 métod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065320" y="2374920"/>
            <a:ext cx="19080" cy="1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684360" y="2173320"/>
          <a:ext cx="7775280" cy="4064040"/>
        </p:xfrm>
        <a:graphic>
          <a:graphicData uri="http://schemas.openxmlformats.org/drawingml/2006/table">
            <a:tbl>
              <a:tblPr/>
              <a:tblGrid>
                <a:gridCol w="3240000"/>
                <a:gridCol w="453528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ones clí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ción de químicos a humanos con mediciones de laboratorio y observaciones clí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s epidemi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ciones de humanos que han sido expuestos a xenobióticos en su vida ocupacional 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de Reacciones adversas a dro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emitidos voluntariamente por médicos a organismos pertinentes después que una droga ha sido aprobada y está en uso ma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55640" y="476280"/>
            <a:ext cx="4464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7720" y="620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canismos de de Tox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l mecanismo de acción de un tóxico a nivel fisiológico, celular y molecular dependerá de su estructura química y de si su toxicidad es aguda o crónica. A menudo los mecanismos de toxicidad son diferentes para ambos tipos de toxicidad. Ej:                                               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3935520"/>
            <a:ext cx="83534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214308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2400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y dosis que no producen efectos tóxicos, pero si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sis aumenta los efectos crecen  hasta que s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uelven adversos y hasta le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357660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2027160"/>
            <a:ext cx="8893080" cy="478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640" y="16336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gunos ejemplos que ilustran este conce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0800000">
            <a:off x="0" y="0"/>
            <a:ext cx="9144000" cy="103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07920"/>
            <a:ext cx="9144000" cy="9720"/>
          </a:xfrm>
          <a:prstGeom prst="rect">
            <a:avLst/>
          </a:prstGeom>
          <a:gradFill rotWithShape="0">
            <a:gsLst>
              <a:gs pos="0">
                <a:srgbClr val="151f2b"/>
              </a:gs>
              <a:gs pos="100000">
                <a:srgbClr val="4260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817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1592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Arial"/>
              </a:rPr>
              <a:t>Cuantificación de la 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1150920"/>
            <a:ext cx="87436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unidad standard es el gramo (g) pero el mg es típico de la mayoría de las  exposiciones en toxicolog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s exposiciones ambientales se cuantifican en relación al  medio (cantidad de xenobiótico por unidad de med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l en ag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kg en sólidos (suel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g/m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en a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Unidades en relación a la concentr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5375160"/>
          <a:ext cx="6511680" cy="1185840"/>
        </p:xfrm>
        <a:graphic>
          <a:graphicData uri="http://schemas.openxmlformats.org/drawingml/2006/table">
            <a:tbl>
              <a:tblPr/>
              <a:tblGrid>
                <a:gridCol w="2050920"/>
                <a:gridCol w="2228760"/>
                <a:gridCol w="22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kg, p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l, p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kg, n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l,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g/kg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µg/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g/ml, µg/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979560"/>
            <a:ext cx="3240000" cy="865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osis- Respues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606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La relación dosis-respuesta es  un concepto 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damental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y esencial en toxic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relación dosis-respuesta está basada en dato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bservados de estudios  tanto clínicos, en animal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e experimentación, o estudios celular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4589640" y="458640"/>
          <a:ext cx="4672080" cy="128124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-4587840" y="6352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-4589640" y="6856560"/>
          <a:ext cx="4572000" cy="1004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4452840" y="-743040"/>
            <a:ext cx="19080" cy="171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-4433760" y="77796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-2876400" y="777960"/>
            <a:ext cx="171360" cy="114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-1319040" y="504720"/>
            <a:ext cx="3590640" cy="11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-4433760" y="269712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-4433760" y="434196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-4433760" y="598644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-4454640" y="6902280"/>
            <a:ext cx="2495520" cy="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-2930400" y="6993000"/>
            <a:ext cx="1076040" cy="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-1406520" y="6993000"/>
            <a:ext cx="237960" cy="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93920" y="3940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9120" y="5883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333360"/>
            <a:ext cx="889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actores a considerar cuando se quiere determinar la relación “ dosis- respuesta” de un determinado xenobiótico sobre un organismo definid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) Selección del tipo de respuesta para ser monitoread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n términos cuantit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b) Definición del organismo de prueba (sistema biológic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) Período de experimentación o duración del ensay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) Serie de dosis a probar: dosis simple (lo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neralmente implica un estudio  de toxicidad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guda); dosis repetitiva a corto plazo (tox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baguda); dosis repetitiva a largo plazo (toxic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rónic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) Vía de admin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228456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l conocimiento de la relación dosis – efecto permit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Establecer causalidad: es decir que e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ímico ha inducido los efectos obser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Establecer la dosis más baja con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al ocurre un efecto indu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2920" y="404640"/>
            <a:ext cx="889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rvas Dosis-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i se obtiene una respuesta de una magnitud   definida para cada dosis, dentro de un rango de dosis, se dice que la respuesta e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“gradua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s decir que a diferentes dosis, D1, D2,...Dn, se observan los efectos, E1, E2,...Ei, que varían en forma continua y tienen un valor único para cada dosis (dentro de la variabil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rmal que siempre se observa cuando se hacen bioensay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o importante es que el efecto sea medible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óxico bajo estudio y tener un valor “0” cuando la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osis es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2:23:53Z</dcterms:created>
  <dc:creator>Ana Maria Ronco</dc:creator>
  <dc:description/>
  <dc:language>en-US</dc:language>
  <cp:lastModifiedBy>Ana Maria Ronco</cp:lastModifiedBy>
  <dcterms:modified xsi:type="dcterms:W3CDTF">2007-08-07T22:08:41Z</dcterms:modified>
  <cp:revision>97</cp:revision>
  <dc:subject/>
  <dc:title>Diapositiva 1</dc:title>
</cp:coreProperties>
</file>