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0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4CD-1487-4AAF-B8D1-0D1A09AD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89A1-E5D4-4476-A2FE-E93C36DA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468-6627-46BD-8AC1-CCA6A093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747-4FE2-4B26-A5AB-FB1DC7D5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8D2E-7838-4A1A-B3B5-06CDE41A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B41-82C9-4577-BB07-92EA9E3B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F361-FF89-4A89-AA4E-365A4EB2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D165-422F-4CFE-8647-4744F168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F25-0FF7-460C-A45A-B5CC0B3C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25EE-9FC2-4C48-9D5E-F94F9F3D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8B0-CEA5-4D50-9497-B5497FC9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17B-2A05-4908-B1F5-55D3ECE2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E04A-8492-4CBC-AA63-A9B6E17B5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is.nlm.nih.gov/toxtutor1/chart09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is.nlm.nih.gov/ToxTutor/Tox1/chart01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7440" y="1413000"/>
            <a:ext cx="1150920" cy="71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90880" y="1563840"/>
            <a:ext cx="7207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si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 en especial relación dosis-tiempo de ex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 dosis-respu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dosis es crítica para determinar si el tóxico producirá efectos crónicos o agu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803760"/>
            <a:ext cx="849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neralmente, a mayor dosis, más severa es la respuesta y está  condicionada por la concentración del tóxico en el bl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Cualquier sustancia química puede ser nociva si se introduce en cantidad su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0"/>
            <a:ext cx="6912000" cy="907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960" y="268200"/>
            <a:ext cx="723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ctores que afectan la tox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66960" y="-12906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866960" y="-2826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866960" y="7254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866960" y="17334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1866960" y="274176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1866960" y="374976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1866960" y="475776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1866960" y="576576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1866960" y="677376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1866960" y="778176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4255920" y="8148600"/>
            <a:ext cx="8604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52640" y="333360"/>
            <a:ext cx="60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urvas Dosis-Efecto: efectos defini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j : tejidos o células expue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3880" y="1197000"/>
          <a:ext cx="609624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97000"/>
                    <a:ext cx="609624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692360" y="522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1628640"/>
            <a:ext cx="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16400" y="30412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f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87360" y="530532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Dosis (mg/ Kg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2333520"/>
            <a:ext cx="4464000" cy="2881440"/>
          </a:xfrm>
          <a:custGeom>
            <a:avLst/>
            <a:gdLst/>
            <a:ahLst/>
            <a:rect l="l" t="t" r="r" b="b"/>
            <a:pathLst>
              <a:path w="2812" h="1815">
                <a:moveTo>
                  <a:pt x="0" y="1815"/>
                </a:moveTo>
                <a:cubicBezTo>
                  <a:pt x="60" y="1218"/>
                  <a:pt x="121" y="621"/>
                  <a:pt x="590" y="318"/>
                </a:cubicBezTo>
                <a:cubicBezTo>
                  <a:pt x="1059" y="15"/>
                  <a:pt x="2442" y="53"/>
                  <a:pt x="2812" y="0"/>
                </a:cubicBez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23115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692000" y="1989000"/>
            <a:ext cx="863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8120" y="1725480"/>
            <a:ext cx="634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fecto Máximo (E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omic Sans MS"/>
              </a:rPr>
              <a:t>max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): representa el grado de tox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566100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Comic Sans MS"/>
              </a:rPr>
              <a:t>La curva dosis-efecto se construye graficando en las ordenadas los Efectos (E) causados en el organismo expuesto a un tóxico y en las abcisas las Dosis (D) o Concentraciones (C)  a las que fue expue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9144000" cy="1435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FECTO DE LINDANO SOBRE LA SINTESIS DE TESTOSTE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496080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268280"/>
            <a:ext cx="88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urvas Dosis-Efecto: efectos no defi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j: organismo expuesto. Dentro de una población se observa una distribución de respuestas para cada do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n este caso no se mide el efecto sino que el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e población expuesta que presenta una respuesta determinada. Este efecto se llama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“cuantal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84920" y="150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75480" y="294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9372" t="22277" r="7478" b="14723"/>
          <a:stretch/>
        </p:blipFill>
        <p:spPr>
          <a:xfrm>
            <a:off x="826920" y="1271520"/>
            <a:ext cx="79930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880" y="339840"/>
            <a:ext cx="8638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n general los efectos cuantales se representan por curv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osis-respuesta  que son  curvas sigmoídeas porque resulta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transformación del eje X a lo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n la mayoría de los casos, las dosis pequeñas no son tóxic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17875" t="41171" r="26378" b="15977"/>
          <a:stretch/>
        </p:blipFill>
        <p:spPr>
          <a:xfrm>
            <a:off x="755640" y="1652760"/>
            <a:ext cx="6985080" cy="4440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920" y="61009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Primera dosis  en la  cual aparece toxicidad se conoce como dosis 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“umbral”.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94440" y="539604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659280" y="1916280"/>
            <a:ext cx="6490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10240" y="177336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83664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l umbral para los efectos tóxicos ocurre en el punto donde la capacidad del organismo para detoxificar al xenobiótico o reparar la injuria tóxica se ha exce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ara la mayoría de los órganos hay una capacidad de reserva de modo que la pérdida  de una función orgánica no causa un efecto deletére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or ej el desarrollo de cirrosis hepática sólo produce un efecto clínico cuando sobre el  50% del hígado ha sido reemplazado por tejido fibr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038240"/>
            <a:ext cx="9144000" cy="936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4478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  <a:ea typeface="Arial"/>
              </a:rPr>
              <a:t>Dosis - Res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hart09" descr="">
            <a:hlinkClick r:id="rId2"/>
          </p:cNvPr>
          <p:cNvPicPr/>
          <p:nvPr/>
        </p:nvPicPr>
        <p:blipFill>
          <a:blip r:embed="rId3"/>
          <a:srcRect l="0" t="0" r="18186" b="0"/>
          <a:stretch/>
        </p:blipFill>
        <p:spPr>
          <a:xfrm>
            <a:off x="1279440" y="1149480"/>
            <a:ext cx="6172200" cy="4108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1440" y="5491080"/>
            <a:ext cx="70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Comic Sans MS"/>
                <a:ea typeface="Arial"/>
              </a:rPr>
              <a:t>NOAEL:No observed adverse effect lev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Comic Sans MS"/>
                <a:ea typeface="Arial"/>
              </a:rPr>
              <a:t>LOAEL:Lowest observed adverse effect level</a:t>
            </a:r>
            <a:r>
              <a:rPr b="0" lang="es-ES" sz="2400" spc="-1" strike="noStrike">
                <a:solidFill>
                  <a:srgbClr val="ffff66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67840" y="49608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952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oxicología de los al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rea del conocimiento científico que evalúa la presencia de factores tóxicos y antinutricionales presentes en los alimentos, ya sea en forma natural o procesados, con la finalidad de que estos sean inocuos o de bajo riesgo al hombre, de acuerdo a la ingesta dietét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4581360"/>
            <a:ext cx="2736720" cy="2276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03640" y="5373720"/>
            <a:ext cx="1447920" cy="928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56360" y="4419720"/>
            <a:ext cx="2179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INGESTA DIARIA ADM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s la cantidad de una sustancia química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xpresada en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mg/Kg de peso corporal,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que puede ser ingerida diariamente por una persona, durante toda la vida , sin riesgo para la salud según los hechos conocidos hasta el momento de su establecimiento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Se obtiene experimentalmente en anim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n base al valor NOAEL (No Adverse Observed Effect Lim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IDA  = NOAEL /FACTOR DE SEGU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IMITE DE TOLERANCIA  O LIMITE MAXIMO DE RESIDU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s la cantidad máxima de una sustancia química expresada en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mg/kg de alimento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que éste puede contener sin que implique un riesgo para la salud, sobre la base de los hechos conocidos hasta el momento de su recomendación o estable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MR =  IDA x Peso corporal /Peso al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IDA    :  Ingesta Diaria Adm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mg/kg peso corporal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64944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333360"/>
            <a:ext cx="856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osis de ex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antidad de sustancia a la que se expone el organismo y el tiempo durante el que estuvo expu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 dosis determina el tipo y magnitud de la respuesta biológica y éste es un concepto central de la toxic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 toxicidad depend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 DOSIS (ej: mg/kg de peso del organis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e las condiciones de ex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(vía de ingreso, duración y frecuencia de las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xposiciones, tasa de contacto con el medio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ontaminado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476280"/>
            <a:ext cx="3889440" cy="72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7628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549360"/>
            <a:ext cx="849816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arámetros Toxic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ara representar numéricamente  las curvas dosis-efecto se acostumbra utilizar la dosis que produce una respuesta igual a la mitad de Em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D50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Si se miden efectos graduales la ED50 es la concentración de tóxico que produce una respuesta igual a la mitad de la respuesta máx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Si se miden efectos cuantales,  la ED50 es la concentración que produce el efecto en el 50% de la pob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sta se aplica normalmente a los casos donde la dosis no es conocida, pero sí la exposición. Por ej un pez expuesto en agua a una concentración conocida de un tó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LD50: Concentración de la sustancia que matará a un 50% de los organi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00720" y="3933720"/>
            <a:ext cx="107928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4005360"/>
            <a:ext cx="86544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038240"/>
            <a:ext cx="9144000" cy="936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33336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  <a:ea typeface="Arial"/>
              </a:rPr>
              <a:t>Dosis-Res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GRAPH5_N" descr=""/>
          <p:cNvPicPr/>
          <p:nvPr/>
        </p:nvPicPr>
        <p:blipFill>
          <a:blip r:embed="rId2"/>
          <a:srcRect l="0" t="0" r="11577" b="0"/>
          <a:stretch/>
        </p:blipFill>
        <p:spPr>
          <a:xfrm>
            <a:off x="619200" y="1052640"/>
            <a:ext cx="6400800" cy="4643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519720" y="523404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og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rot="10800000">
            <a:off x="324000" y="-360"/>
            <a:ext cx="8820000" cy="793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8900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  <a:ea typeface="Arial"/>
              </a:rPr>
              <a:t>Espectro de Dosis tóx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26920" y="907920"/>
          <a:ext cx="7417080" cy="5850000"/>
        </p:xfrm>
        <a:graphic>
          <a:graphicData uri="http://schemas.openxmlformats.org/drawingml/2006/table">
            <a:tbl>
              <a:tblPr/>
              <a:tblGrid>
                <a:gridCol w="4189680"/>
                <a:gridCol w="32274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ente                              ED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</a:t>
                      </a:r>
                      <a:r>
                        <a:rPr b="1" lang="es-E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anol                               700  g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Cl                                  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ato Ferroso                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ato morfina                   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nobarbitol                       1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DT                                      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crotoxina                          0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ricnina sulfato                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cotina                                0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-Tubocurarine                  35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trodotoxina                      7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oxina (TCDD)                   7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ina botulínica                0.7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55640" y="26028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forma y pendiente de la curva dosis-respuesta es extremadamente importante en predecir la toxicidad de una sustancia a dosis específ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GRAPH4_N" descr=""/>
          <p:cNvPicPr/>
          <p:nvPr/>
        </p:nvPicPr>
        <p:blipFill>
          <a:blip r:embed="rId1"/>
          <a:srcRect l="0" t="0" r="11714" b="0"/>
          <a:stretch/>
        </p:blipFill>
        <p:spPr>
          <a:xfrm>
            <a:off x="776160" y="1484280"/>
            <a:ext cx="7467840" cy="4638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6172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mic Sans MS"/>
              </a:rPr>
              <a:t>En este caso el tóxico A tiene mayor umbral que el B pero tiene una pendiente  más aguda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95280" y="2238480"/>
          <a:ext cx="6408720" cy="34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38480"/>
                    <a:ext cx="640872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39640" y="58831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urva Dosis-Respuesta. Compuesto que presenta las dos curvas. 1= curva de dosis-efectos tóxicos; y 2= curva de dosis-efectos le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0760" y="477720"/>
            <a:ext cx="835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ay compuestos peligrosos que presentan 2 curvas dosis-ef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urva 1: Efectos tóx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urva 2: Efectos le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04640"/>
            <a:ext cx="86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tencia de un tó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tencia se refiere al rango de dosis dentro del cual una sustancia produce respuestas creci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805040"/>
          <a:ext cx="599112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05040"/>
                    <a:ext cx="599112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546280" y="5089680"/>
            <a:ext cx="26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tencia de 3 tóxic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6720" y="566748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a potencia está influenciada por factores tales como absor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metabolismo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a curva del tóxico más potente aparece más cercana al ori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038240"/>
            <a:ext cx="9144000" cy="936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4478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  <a:ea typeface="Arial"/>
              </a:rPr>
              <a:t>Tipos de Respuestas Tóx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920" y="256536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mediata.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Retard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Minutos a horas después                     Días -años después de la de una exposición única.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  exposi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Reversible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rrever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280" y="1219320"/>
            <a:ext cx="9396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Local.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        Sistém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Efecto en el sitio de contacto.        Efecto distante del sitio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de ex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9640" y="260280"/>
            <a:ext cx="288000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252360" y="244440"/>
            <a:ext cx="914400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ecto tó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 define como efecto tóxico o respuesta tóxica, cualquier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sviación del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uncionamiento  normal del organismo que ha sido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ducida por la exposición a sustancias tóx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ólo se consideran como desviaciones significativas los cambio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rreversibles o los cambios que permanecen por un período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longado después de que la exposición ha cesado. Por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jemplo: la variación en la relación de masa hepática/ mas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rporal es una respuesta tóxica, porque persiste varios días o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manas después de que la exposición termin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038240"/>
            <a:ext cx="9144000" cy="936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4478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  <a:ea typeface="Arial"/>
              </a:rPr>
              <a:t>Efectos Tóx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flam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Respuesta local o sistém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Necro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Muerte celular o tis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hibición enzimá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terrupción de una vía bioquím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Desacoplamiento bioquím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Peroxidación Lipíd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Oxidación de radicales libres de ácidos grasos que conducen a muerte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038240"/>
            <a:ext cx="9144000" cy="936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4478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  <a:ea typeface="Arial"/>
              </a:rPr>
              <a:t>Efectos Tóx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12193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Reacciones inmunes de hipersensi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Químicos antigénicos que resultan de reacciones alér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muno-supre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Neoplas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División celular aberrante y crecimiento de tej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</a:rPr>
              <a:t>Toxicidad reproductiva y en el desarroll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teracción genotóxicas</a:t>
            </a: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teracción química con DNA que conducen posiblemente a un cambio heredit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Efectos Clastogénicos (cromosomal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Efectos Mutagénicos (pares de b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38240"/>
            <a:ext cx="9144000" cy="936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478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  <a:ea typeface="Arial"/>
              </a:rPr>
              <a:t>Tasas de toxicidad – Dosis humana 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219320"/>
          <a:ext cx="8458200" cy="5105160"/>
        </p:xfrm>
        <a:graphic>
          <a:graphicData uri="http://schemas.openxmlformats.org/drawingml/2006/table">
            <a:tbl>
              <a:tblPr/>
              <a:tblGrid>
                <a:gridCol w="2819520"/>
                <a:gridCol w="2879640"/>
                <a:gridCol w="275904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l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rácticamente no-tó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&gt;15 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evemente tó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-15 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oderadamente tó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0.5-5 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uy tó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0-500 m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xtremadamente tó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-50 m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upertó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&lt;5 m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24000" y="189000"/>
            <a:ext cx="8820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Biomar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Los marcadores biológicos o biomarcadores son los cambios medibles, ya sean estos bioquímicos, fisiológicos o morfológicos, que se asocian a la exposición a un tóx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1809720"/>
            <a:ext cx="8893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Por ejemplo; el nivel de acetilcolinesterasa en sangre se modifica por la exposición a plaguicidas. Un nivel anormalmente bajo de acetilcolinesterasa es un biomarcador de la exposición a plaguicidas organofosfo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os biomarcadores se utilizan p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detectar la presencia de una ex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determinar las consecuencias biológicas de la ex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detectar los estados iniciales e intermedios de un proceso pat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identificar a los individuos sensibles de una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fundamentar la decisión de intervenir, tanto a nivel individual como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n la elección de un biomarcador es necesario considerar lo sigu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specificidad y sensibilidad del biomar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dificultad de muest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inética de la formación del biomarcado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stabilidad del biomar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71640" y="53640"/>
            <a:ext cx="662472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Investigaciones Clínicas</a:t>
            </a:r>
            <a:r>
              <a:rPr b="0" lang="es-ES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El conocimiento de la toxicidad de xenobióticos en humanos deriva de 3 métod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2000"/>
            </a:br>
            <a:br>
              <a:rPr sz="20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065320" y="2374920"/>
            <a:ext cx="19080" cy="17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684360" y="2173320"/>
          <a:ext cx="7775280" cy="4064040"/>
        </p:xfrm>
        <a:graphic>
          <a:graphicData uri="http://schemas.openxmlformats.org/drawingml/2006/table">
            <a:tbl>
              <a:tblPr/>
              <a:tblGrid>
                <a:gridCol w="3240000"/>
                <a:gridCol w="453528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ciones clín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ción de químicos a humanos con mediciones de laboratorio y observaciones clín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udios epidemiológ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ciones de humanos que han sido expuestos a xenobióticos en su vida ocupacional 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s de Reacciones adversas a dro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s emitidos voluntariamente por médicos a organismos pertinentes después que una droga ha sido aprobada y está en uso ma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55640" y="476280"/>
            <a:ext cx="4464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7720" y="620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canismos de de Toxi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41300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l mecanismo de acción de un tóxico a nivel fisiológico, celular y molecular dependerá de su estructura química y de si su toxicidad es aguda o crónica. A menudo los mecanismos de toxicidad son diferentes para ambos tipos de toxicidad. Ej:                                               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0920" y="3935520"/>
            <a:ext cx="83534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214308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32400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y dosis que no producen efectos tóxicos, pero si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sis aumenta los efectos crecen  hasta que s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uelven adversos y hasta let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357660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8000" y="2027160"/>
            <a:ext cx="8893080" cy="4786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7640" y="1633680"/>
            <a:ext cx="53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gunos ejemplos que ilustran este concep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907920"/>
            <a:ext cx="9144000" cy="972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1592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  <a:ea typeface="Arial"/>
              </a:rPr>
              <a:t>Cuantificación de la D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1150920"/>
            <a:ext cx="87436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a unidad standard es el gramo (g) pero el mg es típico de la mayoría de las  exposiciones en toxicolog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as exposiciones ambientales se cuantifican en relación al  medio (cantidad de xenobiótico por unidad de med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g/l en ag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g/kg en sólidos (suelo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g/m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en a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Unidades en relación a la concentració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71640" y="5375160"/>
          <a:ext cx="6511680" cy="1185840"/>
        </p:xfrm>
        <a:graphic>
          <a:graphicData uri="http://schemas.openxmlformats.org/drawingml/2006/table">
            <a:tbl>
              <a:tblPr/>
              <a:tblGrid>
                <a:gridCol w="2050920"/>
                <a:gridCol w="2228760"/>
                <a:gridCol w="223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g/kg, pg/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g/l, pg/m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µg/kg, ng/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µg/l,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g/m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g/kg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µg/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g/ml, µg/m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71640" y="979560"/>
            <a:ext cx="3240000" cy="865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osis- Respues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6064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Comic Sans MS"/>
                <a:ea typeface="Times New Roman"/>
              </a:rPr>
              <a:t>La relación dosis-respuesta es  un concepto </a:t>
            </a:r>
            <a:r>
              <a:rPr b="1" lang="en-US" sz="2400" spc="-1" strike="noStrike">
                <a:solidFill>
                  <a:srgbClr val="336699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damental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y esencial en toxic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a relación dosis-respuesta está basada en dato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bservados de estudios  tanto clínicos, en animale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e experimentación, o estudios celulare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-4589640" y="458640"/>
          <a:ext cx="4672080" cy="1281240"/>
        </p:xfrm>
        <a:graphic>
          <a:graphicData uri="http://schemas.openxmlformats.org/drawingml/2006/table">
            <a:tbl>
              <a:tblPr/>
              <a:tblGrid>
                <a:gridCol w="1557360"/>
                <a:gridCol w="1557360"/>
                <a:gridCol w="155736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-4587840" y="63522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-4589640" y="6856560"/>
          <a:ext cx="4572000" cy="10047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4452840" y="-743040"/>
            <a:ext cx="19080" cy="171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-4433760" y="777960"/>
            <a:ext cx="123840" cy="114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-2876400" y="777960"/>
            <a:ext cx="171360" cy="114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-1319040" y="504720"/>
            <a:ext cx="3590640" cy="114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-4433760" y="269712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-4433760" y="4341960"/>
            <a:ext cx="75960" cy="75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-4433760" y="598644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-4454640" y="6902280"/>
            <a:ext cx="2495520" cy="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-2930400" y="6993000"/>
            <a:ext cx="1076040" cy="9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1"/>
          <a:stretch/>
        </p:blipFill>
        <p:spPr>
          <a:xfrm>
            <a:off x="-1406520" y="6993000"/>
            <a:ext cx="237960" cy="9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93920" y="3940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9120" y="5883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280" y="333360"/>
            <a:ext cx="8893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actores a considerar cuando se quiere determinar la relación “ dosis- respuesta” de un determinado xenobiótico sobre un organismo definid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) Selección del tipo de respuesta para ser monitoreada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n términos cuantit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b) Definición del organismo de prueba (sistema biológico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) Período de experimentación o duración del ensay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) Serie de dosis a probar: dosis simple (lo que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generalmente implica un estudio  de toxicidad  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guda); dosis repetitiva a corto plazo (toxi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ubaguda); dosis repetitiva a largo plazo (toxicidad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rónic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) Vía de administ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2284560"/>
            <a:ext cx="79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l conocimiento de la relación dosis – efecto permit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 Establecer causalidad: es decir que el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ímico ha inducido los efectos observ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 Establecer la dosis más baja con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ual ocurre un efecto indu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2920" y="404640"/>
            <a:ext cx="8893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urvas Dosis-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i se obtiene una respuesta de una magnitud   definida para cada dosis, dentro de un rango de dosis, se dice que la respuesta es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“gradual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s decir que a diferentes dosis, D1, D2,...Dn, se observan los efectos, E1, E2,...Ei, que varían en forma continua y tienen un valor único para cada dosis (dentro de la variabilidad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ormal que siempre se observa cuando se hacen bioensay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o importante es que el efecto sea medible con el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tóxico bajo estudio y tener un valor “0” cuando la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osis es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22:23:53Z</dcterms:created>
  <dc:creator>Ana Maria Ronco</dc:creator>
  <dc:description/>
  <dc:language>en-US</dc:language>
  <cp:lastModifiedBy>Ana Maria Ronco</cp:lastModifiedBy>
  <dcterms:modified xsi:type="dcterms:W3CDTF">2007-08-07T22:08:41Z</dcterms:modified>
  <cp:revision>97</cp:revision>
  <dc:subject/>
  <dc:title>Diapositiva 1</dc:title>
</cp:coreProperties>
</file>