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0EB-3679-45C5-A635-4EFC852E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DEB-7F3D-4965-9975-0D82CF4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16D-93E7-40E6-8F5F-5E7E57BF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F32-D491-43C3-9B88-0D8DF79F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824-AD7C-4B89-AA50-D8A34743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892-93EF-4E47-A4E9-DC02D853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484-000E-4AB5-B704-D200F6A5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913-DC10-4DD4-B621-52DD5B17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313-87DB-4545-A0CC-54457E7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AF0C-D5E6-41EE-AAC7-3166A33B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46A-2A4D-4CB7-A2A7-C1FA7FDF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5DD-2B70-4365-A450-CF41CF6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4E47-D65D-4549-B819-EA602DC74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jemplos de Purific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imación de la pureza y el rendimeinto de una enzima en un proceso de pur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desarrollo de un proceso para la obtención de una enzima a partir de E.coli, se sabe que ésta tiene un 80% de humedad y que el 60% de su peso seco es proteína. El proceso consta de 4 etapas. En la siguiente tabla se presentan las cantidades de enzima y de proteína total al final de cada p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sea obtener el factor de purificación de la enzima en cada paso, el rendimiento por paso y el rendimiento glob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09480"/>
          <a:ext cx="8278920" cy="5486400"/>
        </p:xfrm>
        <a:graphic>
          <a:graphicData uri="http://schemas.openxmlformats.org/drawingml/2006/table">
            <a:tbl>
              <a:tblPr/>
              <a:tblGrid>
                <a:gridCol w="4390920"/>
                <a:gridCol w="1582920"/>
                <a:gridCol w="230508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tor de purificación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zima específica en cada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zima específic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zima (Actividad) específica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zim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teína en cada pa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ndimiento en cada paso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ntidad de enzima en cada paso *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ntidad de enzima inicial del p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0920" y="620640"/>
          <a:ext cx="8569080" cy="4759560"/>
        </p:xfrm>
        <a:graphic>
          <a:graphicData uri="http://schemas.openxmlformats.org/drawingml/2006/table">
            <a:tbl>
              <a:tblPr/>
              <a:tblGrid>
                <a:gridCol w="1171440"/>
                <a:gridCol w="881280"/>
                <a:gridCol w="1244520"/>
                <a:gridCol w="1317600"/>
                <a:gridCol w="1611360"/>
                <a:gridCol w="1244520"/>
                <a:gridCol w="1098360"/>
              </a:tblGrid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ína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ima Total (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dad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. Pur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p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pimiento cel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0/12,000 = 0,006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667/0,00667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8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0/1,800 = 0,0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33/0,00667 = 4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060/0,080)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o I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tración por G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de un caldo de cultivo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acillus subtili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e requiere recuperar las enzimas glucanasa y una proteasa tipo tripsina Se han identificado 13 contaminante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67280" y="2006640"/>
          <a:ext cx="4825800" cy="4851360"/>
        </p:xfrm>
        <a:graphic>
          <a:graphicData uri="http://schemas.openxmlformats.org/drawingml/2006/table">
            <a:tbl>
              <a:tblPr/>
              <a:tblGrid>
                <a:gridCol w="385560"/>
                <a:gridCol w="1341360"/>
                <a:gridCol w="547920"/>
                <a:gridCol w="2550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molecular (KD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4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min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glucan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prote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505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242100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n llevado a cabo experimentos donde se ha intentado purificar estas enzimas sin resultados exit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. Usted dispone sólo de resina de intercambio iónico y de filtración por geles. Con todo esta  información se pide que diseñe estrategias cromatográficas basándose e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glucanasa sin trazas de proteasas (pues la degrada) y sin contaminantes en el menor número de pasos de purificación po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requiere la proteasa pura en el menor número de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ha descubierto que el contaminante 8 es un factor activador de la glucanasa. Se requiere un proceso de purificación que deje ambas proteínas (glucanasa y proteína 8) en la misma frac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 un mínimo de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 realizaron precipitaciones con sulfato de amonio para testar la hidrofobicidad de las proteínas y luego geles 3D con las proteínas en el precipitad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57336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-1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-2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-3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237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0-5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0-60% 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0-90%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0920" y="1125360"/>
            <a:ext cx="8893080" cy="2376360"/>
            <a:chOff x="250920" y="1125360"/>
            <a:chExt cx="8893080" cy="2376360"/>
          </a:xfrm>
        </p:grpSpPr>
        <p:graphicFrame>
          <p:nvGraphicFramePr>
            <p:cNvPr id="54" name=""/>
            <p:cNvGraphicFramePr/>
            <p:nvPr/>
          </p:nvGraphicFramePr>
          <p:xfrm>
            <a:off x="250920" y="1125360"/>
            <a:ext cx="2808360" cy="22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25360"/>
                      <a:ext cx="2808360" cy="22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3132000" y="1125360"/>
            <a:ext cx="2952720" cy="2275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2000" y="1125360"/>
                      <a:ext cx="2952720" cy="227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6300720" y="1125360"/>
            <a:ext cx="2843280" cy="237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00720" y="1125360"/>
                      <a:ext cx="284328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0" name=""/>
          <p:cNvGrpSpPr/>
          <p:nvPr/>
        </p:nvGrpSpPr>
        <p:grpSpPr>
          <a:xfrm>
            <a:off x="250920" y="4221000"/>
            <a:ext cx="8642160" cy="1890720"/>
            <a:chOff x="250920" y="4221000"/>
            <a:chExt cx="8642160" cy="1890720"/>
          </a:xfrm>
        </p:grpSpPr>
        <p:graphicFrame>
          <p:nvGraphicFramePr>
            <p:cNvPr id="61" name=""/>
            <p:cNvGraphicFramePr/>
            <p:nvPr/>
          </p:nvGraphicFramePr>
          <p:xfrm>
            <a:off x="250920" y="4221000"/>
            <a:ext cx="2808360" cy="18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920" y="4221000"/>
                      <a:ext cx="2808360" cy="18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3132000" y="4221000"/>
            <a:ext cx="3024360" cy="185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132000" y="4221000"/>
                      <a:ext cx="3024360" cy="18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156360" y="4221000"/>
            <a:ext cx="2736720" cy="184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56360" y="4221000"/>
                      <a:ext cx="2736720" cy="184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. Usted dispone de una resina de interacción hidrofóbica. Ahora se le pide que diseñe una estrategia de purificación de forma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glucanasa pura en dos p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tenga la proteasa pura en dos p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10-01T00:19:38Z</dcterms:modified>
  <cp:revision>20</cp:revision>
  <dc:subject/>
  <dc:title>Operaciones de Refinamiento Final</dc:title>
</cp:coreProperties>
</file>