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A6E-CEFC-4998-9A13-A98EED8D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F67-D08B-4CD6-B99C-84E197B4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182-8329-453C-AC0C-003D27D4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DAF-C4B4-44A2-96BE-D492AE97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CEB-2A62-4EF1-B6D8-55AFD96A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D4D-9EB6-4F6E-AC10-81BEC5FA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92A-B242-423F-A20C-6A76CABF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060-5D65-4D3B-9E60-1E551CFC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1DE-CA9F-43DA-8AC1-DBC00A99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D05-5184-43D0-86DB-232E53DA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955-8183-4C64-9068-E2522A09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D45-6327-4773-993F-27BDC929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8468-A2AE-4354-AF3B-4FC163DEA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de un caldo de cultiv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acillus subtili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e requiere recuperar las enzimas glucanasa y una proteasa tipo tripsina Se han identificado 13 contaminante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67280" y="2006640"/>
          <a:ext cx="4825800" cy="4851360"/>
        </p:xfrm>
        <a:graphic>
          <a:graphicData uri="http://schemas.openxmlformats.org/drawingml/2006/table">
            <a:tbl>
              <a:tblPr/>
              <a:tblGrid>
                <a:gridCol w="385560"/>
                <a:gridCol w="1341360"/>
                <a:gridCol w="547920"/>
                <a:gridCol w="255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molecular (K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gluca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prote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50920" y="242100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n llevado a cabo experimentos donde se ha intentado purificar estas enzimas sin resultados exit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. Usted dispone sólo de resina de intercambio iónico y de filtración por geles. Con todo esta  información se pide que diseñe estrategias cromatográficas basándose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glucanasa sin trazas de proteasas (pues la degrada) y sin contaminantes en el menor número de pasos de purificación po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proteasa pura en el menor número de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 descubierto que el contaminante 8 es un factor activador de la glucanasa. Se requiere un proceso de purificación que deje ambas proteínas (glucanasa y proteína 8) en la misma frac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 un mínimo de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realizaron precipitaciones con sulfato de amonio para testar la hidrofobicidad de las proteínas y luego geles 3D con las proteínas en el precipi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-1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-2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-3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237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0-5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-6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0-9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8893080" cy="2376360"/>
            <a:chOff x="250920" y="1125360"/>
            <a:chExt cx="8893080" cy="2376360"/>
          </a:xfrm>
        </p:grpSpPr>
        <p:graphicFrame>
          <p:nvGraphicFramePr>
            <p:cNvPr id="54" name=""/>
            <p:cNvGraphicFramePr/>
            <p:nvPr/>
          </p:nvGraphicFramePr>
          <p:xfrm>
            <a:off x="250920" y="1125360"/>
            <a:ext cx="2808360" cy="22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125360"/>
                      <a:ext cx="280836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3132000" y="1125360"/>
            <a:ext cx="2952720" cy="227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000" y="1125360"/>
                      <a:ext cx="2952720" cy="227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6300720" y="1125360"/>
            <a:ext cx="2843280" cy="23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0720" y="1125360"/>
                      <a:ext cx="284328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250920" y="4221000"/>
            <a:ext cx="8642160" cy="1890720"/>
            <a:chOff x="250920" y="4221000"/>
            <a:chExt cx="8642160" cy="1890720"/>
          </a:xfrm>
        </p:grpSpPr>
        <p:graphicFrame>
          <p:nvGraphicFramePr>
            <p:cNvPr id="61" name=""/>
            <p:cNvGraphicFramePr/>
            <p:nvPr/>
          </p:nvGraphicFramePr>
          <p:xfrm>
            <a:off x="250920" y="4221000"/>
            <a:ext cx="2808360" cy="18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920" y="4221000"/>
                      <a:ext cx="2808360" cy="18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3132000" y="4221000"/>
            <a:ext cx="3024360" cy="18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32000" y="4221000"/>
                      <a:ext cx="30243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156360" y="4221000"/>
            <a:ext cx="2736720" cy="184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56360" y="4221000"/>
                      <a:ext cx="2736720" cy="18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. Usted dispone de una resina de interacción hidrofóbica. Ahora se le pide que diseñe una estrategia de purificación de forma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glucanasa pura en dos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proteasa pura en dos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10-01T00:19:38Z</dcterms:modified>
  <cp:revision>20</cp:revision>
  <dc:subject/>
  <dc:title>Operaciones de Refinamiento Final</dc:title>
</cp:coreProperties>
</file>