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870-AC99-4004-8280-5D7FA91E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963-897F-4C73-8270-95D8A6FF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872-56A7-447E-9A6C-EAFC4B73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6128-6B6B-4EF5-94FC-18F5E0FB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387-B2AF-42BE-AB05-830D5393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634-DF91-4954-961F-3F63B96A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B65-A548-44D5-89E3-844D34D0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3D4-0058-41CD-93A7-A827DE9A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34C-6BCC-41C9-B4B2-DAB59EA5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3B9E-C4DE-4268-82F3-0B2D2A9F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CC5D-2D2F-4043-9726-E83E247E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A72-3817-46E3-AEBF-28BA2431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B463-37E2-4590-BF4B-99C61A940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s de Purific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de la pureza y el rendimeinto de una enzima en un proceso de pur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desarrollo de un proceso para la obtención de una enzima a partir de E.coli, se sabe que ésta tiene un 80% de humedad y que el 60% de su peso seco es proteína. El proceso consta de 4 etapas. En la siguiente tabla se presentan las cantidades de enzima y de proteína total al final de cada p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obtener el factor de purificación de la enzima en cada paso, el rendimiento por paso y el rendimiento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09480"/>
          <a:ext cx="8278920" cy="5486400"/>
        </p:xfrm>
        <a:graphic>
          <a:graphicData uri="http://schemas.openxmlformats.org/drawingml/2006/table">
            <a:tbl>
              <a:tblPr/>
              <a:tblGrid>
                <a:gridCol w="4390920"/>
                <a:gridCol w="1582920"/>
                <a:gridCol w="23050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tor de purificació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zima específica en cad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zima específica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zima (Actividad) específic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zim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teín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ndimiento en cada paso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idad de enzima en cada paso *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tidad de enzima inicial del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0920" y="620640"/>
          <a:ext cx="8569080" cy="4759560"/>
        </p:xfrm>
        <a:graphic>
          <a:graphicData uri="http://schemas.openxmlformats.org/drawingml/2006/table">
            <a:tbl>
              <a:tblPr/>
              <a:tblGrid>
                <a:gridCol w="1171440"/>
                <a:gridCol w="881280"/>
                <a:gridCol w="1244520"/>
                <a:gridCol w="1317600"/>
                <a:gridCol w="1611360"/>
                <a:gridCol w="1244520"/>
                <a:gridCol w="109836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dad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. Pur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/12,000 = 0,00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667/0,00667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/1,800 = 0,0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33/0,00667 = 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921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de un caldo de cultivo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acillus subtili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se requiere recuperar las enzimas glucanasa y una proteasa tipo tripsina Se han identificado 13 contaminante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067280" y="2006640"/>
          <a:ext cx="4825800" cy="4851360"/>
        </p:xfrm>
        <a:graphic>
          <a:graphicData uri="http://schemas.openxmlformats.org/drawingml/2006/table">
            <a:tbl>
              <a:tblPr/>
              <a:tblGrid>
                <a:gridCol w="385560"/>
                <a:gridCol w="1341360"/>
                <a:gridCol w="547920"/>
                <a:gridCol w="2550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o molecular (KD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4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glucan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prote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250920" y="2421000"/>
            <a:ext cx="34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n llevado a cabo experimentos donde se ha intentado purificar estas enzimas sin resultados exito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. Usted dispone sólo de resina de intercambio iónico y de filtración por geles. Con todo esta  información se pide que diseñe estrategias cromatográficas basándose e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glucanasa sin trazas de proteasas (pues la degrada) y sin contaminantes en el menor número de pasos de purificación pos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proteasa pura en el menor número de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 descubierto que el contaminante 8 es un factor activador de la glucanasa. Se requiere un proceso de purificación que deje ambas proteínas (glucanasa y proteína 8) en la misma frac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 un mínimo de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280" y="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 realizaron precipitaciones con sulfato de amonio para testar la hidrofobicidad de las proteínas y luego geles 3D con las proteínas en el precipitad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5733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-1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-2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0-3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6237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0-5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0-6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0-9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0920" y="1125360"/>
            <a:ext cx="8893080" cy="2376360"/>
            <a:chOff x="250920" y="1125360"/>
            <a:chExt cx="8893080" cy="2376360"/>
          </a:xfrm>
        </p:grpSpPr>
        <p:graphicFrame>
          <p:nvGraphicFramePr>
            <p:cNvPr id="54" name=""/>
            <p:cNvGraphicFramePr/>
            <p:nvPr/>
          </p:nvGraphicFramePr>
          <p:xfrm>
            <a:off x="250920" y="1125360"/>
            <a:ext cx="2808360" cy="229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125360"/>
                      <a:ext cx="2808360" cy="22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3132000" y="1125360"/>
            <a:ext cx="2952720" cy="2275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2000" y="1125360"/>
                      <a:ext cx="2952720" cy="227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6300720" y="1125360"/>
            <a:ext cx="2843280" cy="237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00720" y="1125360"/>
                      <a:ext cx="2843280" cy="23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0" name=""/>
          <p:cNvGrpSpPr/>
          <p:nvPr/>
        </p:nvGrpSpPr>
        <p:grpSpPr>
          <a:xfrm>
            <a:off x="250920" y="4221000"/>
            <a:ext cx="8642160" cy="1890720"/>
            <a:chOff x="250920" y="4221000"/>
            <a:chExt cx="8642160" cy="1890720"/>
          </a:xfrm>
        </p:grpSpPr>
        <p:graphicFrame>
          <p:nvGraphicFramePr>
            <p:cNvPr id="61" name=""/>
            <p:cNvGraphicFramePr/>
            <p:nvPr/>
          </p:nvGraphicFramePr>
          <p:xfrm>
            <a:off x="250920" y="4221000"/>
            <a:ext cx="2808360" cy="18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920" y="4221000"/>
                      <a:ext cx="2808360" cy="18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3132000" y="4221000"/>
            <a:ext cx="3024360" cy="1852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32000" y="4221000"/>
                      <a:ext cx="3024360" cy="18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6156360" y="4221000"/>
            <a:ext cx="2736720" cy="1846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56360" y="4221000"/>
                      <a:ext cx="2736720" cy="18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. Usted dispone de una resina de interacción hidrofóbica. Ahora se le pide que diseñe una estrategia de purificación de forma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glucanasa pura en dos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proteasa pura en dos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</cp:lastModifiedBy>
  <dcterms:modified xsi:type="dcterms:W3CDTF">2007-10-01T00:19:38Z</dcterms:modified>
  <cp:revision>20</cp:revision>
  <dc:subject/>
  <dc:title>Operaciones de Refinamiento Final</dc:title>
</cp:coreProperties>
</file>