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363-90C2-48ED-8E2E-F44DDCFD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7F9-17D0-4DBA-9C0C-D67C26C0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90A6-0962-4E16-B7D0-507BAB7C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347-7108-4A85-A384-CE133FE9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151-B1BD-49F0-B634-D8C087EB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3D3-67EA-4E71-9DBE-9B20D8BE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5B6-C75C-471F-B7A9-B2CEB5C6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ABA-F861-4C37-9F3B-5F20EA38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63E-E166-4025-AB0A-A73B7127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CD2-4B49-40AA-B3E1-66D28A87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1D5-DD3B-4349-91BD-04089E05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810-638F-4A41-B98C-3B56B15B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5775-545C-41E3-8527-E3EB9C002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3194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394160" cy="593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7628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quema de formación de agregación, aglomeración y rompimiento de cris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70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340080" cy="320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404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quemas básicos de crista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82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9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2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Se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301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9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201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87280" y="3284640"/>
          <a:ext cx="312444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312444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0920" y="33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liofilizador convencional, el vacío se logra mediante la combinación de bombas extractoras de aire y "trampas frías" que operan a -40 o -50 °C, para congelar el agua extraída del producto y crear, dentro de la cámara, una presión menor a la atmosfé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0920" y="2924280"/>
            <a:ext cx="8381520" cy="2730600"/>
            <a:chOff x="250920" y="2924280"/>
            <a:chExt cx="8381520" cy="2730600"/>
          </a:xfrm>
        </p:grpSpPr>
        <p:graphicFrame>
          <p:nvGraphicFramePr>
            <p:cNvPr id="260" name=""/>
            <p:cNvGraphicFramePr/>
            <p:nvPr/>
          </p:nvGraphicFramePr>
          <p:xfrm>
            <a:off x="4518000" y="3000600"/>
            <a:ext cx="2437920" cy="20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000" y="3000600"/>
                      <a:ext cx="2437920" cy="20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012680" y="3000600"/>
            <a:ext cx="3123720" cy="230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12680" y="3000600"/>
                      <a:ext cx="3123720" cy="23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860400" y="292428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stema de refrig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920" y="4676760"/>
              <a:ext cx="1904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í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7680" y="3686400"/>
              <a:ext cx="1904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ción Congel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482940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lacas calefact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8200" y="4676400"/>
              <a:ext cx="532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270480" y="3990960"/>
              <a:ext cx="68544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381400" cy="221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2428920" cy="2127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1398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68360" y="4762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933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40323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ando se tiene una proteína, como producto, requi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1) 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2) Estab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una de estas etapas requiere solo de trabajo expe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bilización: se orienta a algunas zonas de la proteína que se deben proteger. Para ello se adicionan excipientes específ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33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ormulación en si indica en que porcentaje se encontrará la proteína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11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692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ejemplo, en el caso de proteína en solución se pueden adicion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252440" cy="2305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372360" y="177336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zúc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fa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80" y="1916280"/>
            <a:ext cx="24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ones metá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gentes que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3120" y="386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ino ácid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6720" y="2133720"/>
            <a:ext cx="790560" cy="718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03280" y="3212640"/>
            <a:ext cx="122580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56000" y="3499920"/>
            <a:ext cx="936360" cy="505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11280" y="189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Estabilizantes para una formulación en estado 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920" y="1166760"/>
            <a:ext cx="8372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caso de proteínas en estado sólido se debe contr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1644480" cy="2374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1773360"/>
            <a:ext cx="187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cip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2920" y="1700280"/>
            <a:ext cx="24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umedad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5640" y="2421000"/>
            <a:ext cx="647640" cy="79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28760" y="1552680"/>
            <a:ext cx="8286480" cy="3752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4000" y="1890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Factores que afectan las estabilidad de proteína en estad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258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732720" y="765000"/>
            <a:ext cx="15825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319480" cy="2438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1001520" cy="1843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1158840" cy="205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3300"/>
                </a:solidFill>
                <a:uFillTx/>
                <a:latin typeface="Comic Sans MS"/>
                <a:ea typeface="Times New Roman"/>
              </a:rPr>
              <a:t>Crist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5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Maria Elena Lienqueo</cp:lastModifiedBy>
  <dcterms:modified xsi:type="dcterms:W3CDTF">2007-09-26T02:05:12Z</dcterms:modified>
  <cp:revision>12</cp:revision>
  <dc:subject/>
  <dc:title>Operaciones de Refinamiento Final</dc:title>
</cp:coreProperties>
</file>