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2B7-3307-4094-8773-2207E70E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18C-5158-42A1-B3E2-5737C052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910-E3EE-463C-AE92-D87A5842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C23-3971-4249-853C-38D62DC7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308-7C24-44EB-B87E-B63C0600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4B0-041E-4725-8EA0-7B646F7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F5A-07EC-498F-9E98-13CE510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341-D07D-4E5C-A61B-66F89866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1E2-1F1D-4DF3-8F2E-028858AB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7BA-3EB4-49DA-A871-50F677C8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1F6-AE9F-4C31-9F79-08706A9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80D-A012-468D-A9B0-C8E04F7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E86-079F-4CC9-A790-36126B4C8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09-26T02:05:12Z</dcterms:modified>
  <cp:revision>12</cp:revision>
  <dc:subject/>
  <dc:title>Operaciones de Refinamiento Final</dc:title>
</cp:coreProperties>
</file>