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727-3102-4277-A4DB-A03DCF9D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C87-FB33-49EA-B0B9-9F8BF127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8E4-DDF2-48D0-9452-8BAA7B58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874-6D65-4025-B168-D7BCD6C0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6EF-C5C8-47DA-A943-4DA8BDC3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3FA-F730-4C0A-A8DA-064F424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207-E7E7-4046-B75B-FB2737B4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F9B-A175-46CA-B4EA-28DF467E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978-9153-4C6A-B5E5-D37BCEEE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58E-6D19-4931-AF10-601B247D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EE1-49D6-4BC7-BB92-2554A7A8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AF0-E8A1-4F3A-9F09-F15D6CC7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F812-9517-4CB6-89AB-45EF78000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09-26T02:05:12Z</dcterms:modified>
  <cp:revision>12</cp:revision>
  <dc:subject/>
  <dc:title>Operaciones de Refinamiento Final</dc:title>
</cp:coreProperties>
</file>