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24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C345-B286-4120-9D1A-64983BC8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226-9C69-4A70-B373-1B0609F2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777-8304-4DB2-8899-FDF68743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1CA-632F-46BE-8683-2E62EDD9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6FD-9093-427E-ABD8-E6CC69A5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8DA-2496-4BC7-8BF8-6DEAA346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1F35-23FA-4D7D-841A-4706700A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85A-2C7B-4272-9A8C-54B7E6E7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A23-BBCD-4EC2-921A-25B4C0A9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82A4-799E-4C6C-8B06-8F487B6E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91F-6540-42CA-A802-12483275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F55-8240-4EB9-9882-56CA7E4C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B870-7501-47E7-999C-2A3C9C33F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0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15829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231948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4394160" cy="5933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7628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quema de formación de agregación, aglomeración y rompimiento de cris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708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961080" cy="3209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340080" cy="320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8000" y="404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quemas básicos de crista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566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82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29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2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Se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151760" y="4495680"/>
            <a:ext cx="14238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49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201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87280" y="3284640"/>
          <a:ext cx="312444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84640"/>
                    <a:ext cx="312444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50920" y="333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liofilizador convencional, el vacío se logra mediante la combinación de bombas extractoras de aire y "trampas frías" que operan a -40 o -50 °C, para congelar el agua extraída del producto y crear, dentro de la cámara, una presión menor a la atmosfé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50920" y="2924280"/>
            <a:ext cx="8381520" cy="2730600"/>
            <a:chOff x="250920" y="2924280"/>
            <a:chExt cx="8381520" cy="2730600"/>
          </a:xfrm>
        </p:grpSpPr>
        <p:graphicFrame>
          <p:nvGraphicFramePr>
            <p:cNvPr id="260" name=""/>
            <p:cNvGraphicFramePr/>
            <p:nvPr/>
          </p:nvGraphicFramePr>
          <p:xfrm>
            <a:off x="4518000" y="3000600"/>
            <a:ext cx="2437920" cy="203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18000" y="3000600"/>
                      <a:ext cx="2437920" cy="20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1012680" y="3000600"/>
            <a:ext cx="3123720" cy="230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12680" y="3000600"/>
                      <a:ext cx="3123720" cy="23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860400" y="292428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stema de refrig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920" y="4676760"/>
              <a:ext cx="1904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cí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7680" y="3686400"/>
              <a:ext cx="19047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ución Congel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75400" y="482940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lacas calefacto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18200" y="4676400"/>
              <a:ext cx="532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270480" y="3990960"/>
              <a:ext cx="68544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381400" cy="221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2428920" cy="21272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1398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68360" y="4762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3933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987640" y="4005360"/>
            <a:ext cx="403236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uando se tiene una proteína, como producto, requi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1) Form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2) Estab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una de estas etapas requiere solo de trabajo experi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55280" y="35002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bilización: se orienta a algunas zonas de la proteína que se deben proteger. Para ello se adicionan excipientes específ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333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ormulación en si indica en que porcentaje se encontrará la proteína de inter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292720" y="1052640"/>
            <a:ext cx="111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692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ejemplo, en el caso de proteína en solución se pueden adicion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1252440" cy="2305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372360" y="177336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zúc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rfa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280" y="1916280"/>
            <a:ext cx="241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ones metá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gentes que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3120" y="386064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ino ácid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76720" y="2133720"/>
            <a:ext cx="790560" cy="7189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003280" y="3212640"/>
            <a:ext cx="122580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556000" y="3499920"/>
            <a:ext cx="936360" cy="505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04920" y="833400"/>
            <a:ext cx="8534160" cy="5191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11280" y="189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Estabilizantes para una formulación en estado 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868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5920" y="1166760"/>
            <a:ext cx="8372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70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caso de proteínas en estado sólido se debe contr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780000" y="2133720"/>
            <a:ext cx="1644480" cy="2374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1280" y="1773360"/>
            <a:ext cx="187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cip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42920" y="1700280"/>
            <a:ext cx="241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umedad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5640" y="2421000"/>
            <a:ext cx="647640" cy="792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28760" y="1552680"/>
            <a:ext cx="8286480" cy="3752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24000" y="189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Factores que afectan las estabilidad de proteína en estado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800" y="1662120"/>
            <a:ext cx="82584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732720" y="765000"/>
            <a:ext cx="158256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2319480" cy="24386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1001520" cy="1843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1835280" y="4005360"/>
            <a:ext cx="1158840" cy="2058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Crist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5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</cp:lastModifiedBy>
  <dcterms:modified xsi:type="dcterms:W3CDTF">2007-09-26T02:05:12Z</dcterms:modified>
  <cp:revision>12</cp:revision>
  <dc:subject/>
  <dc:title>Operaciones de Refinamiento Final</dc:title>
</cp:coreProperties>
</file>