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5.png" ContentType="image/png"/>
  <Override PartName="/ppt/media/image24.png" ContentType="image/png"/>
  <Override PartName="/ppt/media/image19.png" ContentType="image/png"/>
  <Override PartName="/ppt/media/image20.jpeg" ContentType="image/jpeg"/>
  <Override PartName="/ppt/media/image7.png" ContentType="image/png"/>
  <Override PartName="/ppt/media/image32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33.png" ContentType="image/png"/>
  <Override PartName="/ppt/media/image12.png" ContentType="image/png"/>
  <Override PartName="/ppt/media/image6.wmf" ContentType="image/x-wmf"/>
  <Override PartName="/ppt/media/image11.png" ContentType="image/png"/>
  <Override PartName="/ppt/media/image30.jpeg" ContentType="image/jpeg"/>
  <Override PartName="/ppt/media/image31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15.jpeg" ContentType="image/jpeg"/>
  <Override PartName="/ppt/media/image2.jpeg" ContentType="image/jpeg"/>
  <Override PartName="/ppt/media/image1.jpeg" ContentType="image/jpeg"/>
  <Override PartName="/ppt/media/image10.png" ContentType="image/png"/>
  <Override PartName="/ppt/media/image35.png" ContentType="image/png"/>
  <Override PartName="/ppt/media/image5.png" ContentType="image/png"/>
  <Override PartName="/ppt/media/image16.jpeg" ContentType="image/jpeg"/>
  <Override PartName="/ppt/media/image17.jpeg" ContentType="image/jpeg"/>
  <Override PartName="/ppt/media/image26.png" ContentType="image/png"/>
  <Override PartName="/ppt/media/image18.png" ContentType="image/png"/>
  <Override PartName="/ppt/media/image28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B5A1-011C-4CF9-BDFA-DAA9E1794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A6EA-ABB2-4268-907C-1C5B55879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0D49-DD5F-4041-926F-968CAED98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6D9D-FE09-4446-8E26-AC1317AF7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5341-0967-4A33-ADB3-E9D689A4B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F6CA-05F2-4427-97B4-5187B1027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7C5F-A606-43AC-A894-87A5A67ED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4A8C-860D-4953-8F28-A4063DC69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9A64-F165-4861-BB22-096C596BB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6AB6-838E-4326-A5C0-E297FD1C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3F50-06D7-4E07-B046-01F56ED0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F880-5438-458C-9288-E47BE53A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DE928-DC92-4F95-9144-DE68C65F72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0.jpe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Operaciones de Refinamiento Fi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580000" y="4005360"/>
            <a:ext cx="1582920" cy="2286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403280" y="3933720"/>
            <a:ext cx="2319480" cy="2438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284720" y="476280"/>
            <a:ext cx="4394160" cy="5933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68360" y="476280"/>
            <a:ext cx="3816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quema de formación de agregación, aglomeración y rompimiento de crist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24000" y="3645000"/>
            <a:ext cx="370836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Algunos tipos de dependencia de la solubilidad con la temperatura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36040" cy="37958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3961080" cy="32097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292720" y="2276640"/>
            <a:ext cx="3340080" cy="32083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908000" y="40464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squemas básicos de cristaliz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58920" y="566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80000" y="566100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tinu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457200" y="609480"/>
            <a:ext cx="8496000" cy="6037560"/>
            <a:chOff x="457200" y="609480"/>
            <a:chExt cx="8496000" cy="6037560"/>
          </a:xfrm>
        </p:grpSpPr>
        <p:grpSp>
          <p:nvGrpSpPr>
            <p:cNvPr id="82" name=""/>
            <p:cNvGrpSpPr/>
            <p:nvPr/>
          </p:nvGrpSpPr>
          <p:grpSpPr>
            <a:xfrm>
              <a:off x="463320" y="613800"/>
              <a:ext cx="8482680" cy="6028200"/>
              <a:chOff x="463320" y="613800"/>
              <a:chExt cx="8482680" cy="6028200"/>
            </a:xfrm>
          </p:grpSpPr>
          <p:grpSp>
            <p:nvGrpSpPr>
              <p:cNvPr id="83" name=""/>
              <p:cNvGrpSpPr/>
              <p:nvPr/>
            </p:nvGrpSpPr>
            <p:grpSpPr>
              <a:xfrm>
                <a:off x="463320" y="613800"/>
                <a:ext cx="1719000" cy="764280"/>
                <a:chOff x="463320" y="613800"/>
                <a:chExt cx="1719000" cy="76428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521640" y="613800"/>
                  <a:ext cx="160236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po de dependenci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463320" y="613800"/>
                  <a:ext cx="1719000" cy="76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2182680" y="613800"/>
                <a:ext cx="3087000" cy="764280"/>
                <a:chOff x="2182680" y="613800"/>
                <a:chExt cx="3087000" cy="7642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2241360" y="613800"/>
                  <a:ext cx="296964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o de Oper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182680" y="613800"/>
                  <a:ext cx="3087000" cy="76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5270400" y="613800"/>
                <a:ext cx="3675600" cy="764280"/>
                <a:chOff x="5270400" y="613800"/>
                <a:chExt cx="3675600" cy="7642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5329080" y="613800"/>
                  <a:ext cx="355824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5270400" y="613800"/>
                  <a:ext cx="3675600" cy="76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463320" y="1378080"/>
                <a:ext cx="1719000" cy="2886480"/>
                <a:chOff x="463320" y="1378080"/>
                <a:chExt cx="1719000" cy="288648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521640" y="1378080"/>
                  <a:ext cx="1602360" cy="288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con solubilidad sensible a la temperatu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63320" y="1378080"/>
                  <a:ext cx="1719000" cy="288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2182680" y="1378080"/>
                <a:ext cx="3087000" cy="1782720"/>
                <a:chOff x="2182680" y="1378080"/>
                <a:chExt cx="3087000" cy="178272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2241360" y="1378080"/>
                  <a:ext cx="2969640" cy="178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obresaturación por enfriamien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2182680" y="1378080"/>
                  <a:ext cx="3087000" cy="178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5270400" y="1378080"/>
                <a:ext cx="3675600" cy="1782720"/>
                <a:chOff x="5270400" y="1378080"/>
                <a:chExt cx="3675600" cy="178272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5329080" y="1378080"/>
                  <a:ext cx="3558240" cy="178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s de Oper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tercambio de cal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íquido refrigerante inmiscible en la solu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lto rendimien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jo consumo de energí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5270400" y="1378080"/>
                  <a:ext cx="3675600" cy="178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2182680" y="3160800"/>
                <a:ext cx="3087000" cy="1103760"/>
                <a:chOff x="2182680" y="3160800"/>
                <a:chExt cx="3087000" cy="110376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2241360" y="3160800"/>
                  <a:ext cx="2969640" cy="110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obresaturación por enfriamiento evaporativ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182680" y="3160800"/>
                  <a:ext cx="3087000" cy="110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5270400" y="3160800"/>
                <a:ext cx="3675600" cy="1103760"/>
                <a:chOff x="5270400" y="3160800"/>
                <a:chExt cx="3675600" cy="110376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5329080" y="3160800"/>
                  <a:ext cx="3558240" cy="110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 Oper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limentación se encuentra a mayor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   temperatura que el evaporad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nfriamiento adiabático por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5270400" y="3160800"/>
                  <a:ext cx="3675600" cy="110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463320" y="4264920"/>
                <a:ext cx="1719000" cy="933840"/>
                <a:chOff x="463320" y="4264920"/>
                <a:chExt cx="1719000" cy="93384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521640" y="4264920"/>
                  <a:ext cx="1602360" cy="93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insensible a la temperatu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463320" y="4264920"/>
                  <a:ext cx="1719000" cy="93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2182680" y="4264920"/>
                <a:ext cx="3087000" cy="933840"/>
                <a:chOff x="2182680" y="4264920"/>
                <a:chExt cx="3087000" cy="93384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2241360" y="4264920"/>
                  <a:ext cx="2969640" cy="93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obresaturación por evaporación térmic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182680" y="4264920"/>
                  <a:ext cx="3087000" cy="93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5270400" y="4264920"/>
                <a:ext cx="3675600" cy="933840"/>
                <a:chOff x="5270400" y="4264920"/>
                <a:chExt cx="3675600" cy="93384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5329080" y="4264920"/>
                  <a:ext cx="3558240" cy="93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 Operación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 evapora el solven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tercambiador con vap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5270400" y="4264920"/>
                  <a:ext cx="3675600" cy="93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463320" y="5198760"/>
                <a:ext cx="1719000" cy="1443240"/>
                <a:chOff x="463320" y="5198760"/>
                <a:chExt cx="1719000" cy="144324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521640" y="5198760"/>
                  <a:ext cx="1602360" cy="144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con solubilidad que depende en forma intermedia con la  temperatu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63320" y="5198760"/>
                  <a:ext cx="1719000" cy="1443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2182680" y="5198760"/>
                <a:ext cx="3087000" cy="1443240"/>
                <a:chOff x="2182680" y="5198760"/>
                <a:chExt cx="3087000" cy="144324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2241360" y="5198760"/>
                  <a:ext cx="2969640" cy="144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vaporación térmica al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2182680" y="5198760"/>
                  <a:ext cx="3087000" cy="1443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5270400" y="5198760"/>
                <a:ext cx="3675600" cy="1443240"/>
                <a:chOff x="5270400" y="5198760"/>
                <a:chExt cx="3675600" cy="144324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5329080" y="5198760"/>
                  <a:ext cx="3558240" cy="144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 Operación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a alimentación se encuentra a mayor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   temperatura que en el evaporad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vaporación en presencia de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5270400" y="5198760"/>
                  <a:ext cx="3675600" cy="1443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5" name=""/>
            <p:cNvSpPr/>
            <p:nvPr/>
          </p:nvSpPr>
          <p:spPr>
            <a:xfrm>
              <a:off x="457200" y="609480"/>
              <a:ext cx="8496000" cy="60375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533520" y="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Modos de operación de Cristalizadores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71600" y="2286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ductos con solubilidad sensible a la 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438280" y="3879720"/>
            <a:ext cx="4419720" cy="2977920"/>
            <a:chOff x="2438280" y="3879720"/>
            <a:chExt cx="4419720" cy="2977920"/>
          </a:xfrm>
        </p:grpSpPr>
        <p:sp>
          <p:nvSpPr>
            <p:cNvPr id="129" name=""/>
            <p:cNvSpPr/>
            <p:nvPr/>
          </p:nvSpPr>
          <p:spPr>
            <a:xfrm>
              <a:off x="2438280" y="38797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990033"/>
                  </a:solidFill>
                  <a:latin typeface="Comic Sans MS"/>
                  <a:ea typeface="Times New Roman"/>
                </a:rPr>
                <a:t>Productos insensible a la temperatur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0" name=""/>
            <p:cNvGraphicFramePr/>
            <p:nvPr/>
          </p:nvGraphicFramePr>
          <p:xfrm>
            <a:off x="2743200" y="4412880"/>
            <a:ext cx="2530440" cy="2444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43200" y="4412880"/>
                      <a:ext cx="2530440" cy="244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32" name=""/>
          <p:cNvGraphicFramePr/>
          <p:nvPr/>
        </p:nvGraphicFramePr>
        <p:xfrm>
          <a:off x="2484360" y="836640"/>
          <a:ext cx="3724200" cy="295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836640"/>
                    <a:ext cx="372420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371600" y="304920"/>
            <a:ext cx="647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ductos con solubilidad que depende en forma intermedia con la  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124000" y="1498680"/>
          <a:ext cx="4000680" cy="31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498680"/>
                    <a:ext cx="4000680" cy="31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85345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Tipos de Equi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r>
              <a:rPr b="1" lang="es-ES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os equipos pueden operar en for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33"/>
              </a:buClr>
              <a:buFont typeface="Comic Sans MS"/>
              <a:buChar char="•"/>
              <a:tabLst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·        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Batch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12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sultando la mayoría de los productos biotecnológ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12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 tiempos de operación entre 2 a 8 ho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835280" y="2209680"/>
          <a:ext cx="525780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209680"/>
                    <a:ext cx="52578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8305920" cy="21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Tipos de Equi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tinu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12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circulación del líquido de manera de recuperar todo el soluto de interés</a:t>
            </a:r>
            <a:r>
              <a:rPr b="1" lang="es-ES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12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852640" y="2085840"/>
            <a:ext cx="3438720" cy="37911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4367160" cy="5616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403280" y="40464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istalizador Evapor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194440" y="1628640"/>
            <a:ext cx="3949560" cy="48657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292720" y="40464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istalizador Contacto Dir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352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_tradnl" sz="4400" spc="-1" strike="noStrike" u="sng">
                <a:solidFill>
                  <a:srgbClr val="003300"/>
                </a:solidFill>
                <a:uFillTx/>
                <a:latin typeface="Comic Sans MS"/>
                <a:ea typeface="Times New Roman"/>
              </a:rPr>
              <a:t>Sec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ducir el contenido de solvente (agua) por evaporación o subli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V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stabiliza el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eserva la ac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duce el volumen, lo cual lo hace más fácil de traspor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cupera el solvente, en el caso de no ser a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Métodos de se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l método de secado a utilizar dependerá 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301680" algn="just">
              <a:lnSpc>
                <a:spcPct val="90000"/>
              </a:lnSpc>
              <a:spcBef>
                <a:spcPts val="451"/>
              </a:spcBef>
              <a:buClr>
                <a:srgbClr val="990033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Tipo de produ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301680" algn="just">
              <a:lnSpc>
                <a:spcPct val="90000"/>
              </a:lnSpc>
              <a:spcBef>
                <a:spcPts val="451"/>
              </a:spcBef>
              <a:buClr>
                <a:srgbClr val="990033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piedades fisicoquímicas del produ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301680" algn="just">
              <a:lnSpc>
                <a:spcPct val="90000"/>
              </a:lnSpc>
              <a:spcBef>
                <a:spcPts val="451"/>
              </a:spcBef>
              <a:buClr>
                <a:srgbClr val="990033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Tolerancia a la 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br>
              <a:rPr sz="2000"/>
            </a:b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4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151760" y="4495680"/>
            <a:ext cx="1423800" cy="20574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0"/>
          <a:ext cx="8915400" cy="629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15400" cy="62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3352680" y="4038480"/>
            <a:ext cx="5791320" cy="2590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1363680" y="1027080"/>
            <a:ext cx="6418080" cy="4805280"/>
            <a:chOff x="1363680" y="1027080"/>
            <a:chExt cx="6418080" cy="4805280"/>
          </a:xfrm>
        </p:grpSpPr>
        <p:grpSp>
          <p:nvGrpSpPr>
            <p:cNvPr id="149" name=""/>
            <p:cNvGrpSpPr/>
            <p:nvPr/>
          </p:nvGrpSpPr>
          <p:grpSpPr>
            <a:xfrm>
              <a:off x="1368360" y="1031760"/>
              <a:ext cx="6408720" cy="4795920"/>
              <a:chOff x="1368360" y="1031760"/>
              <a:chExt cx="6408720" cy="4795920"/>
            </a:xfrm>
          </p:grpSpPr>
          <p:grpSp>
            <p:nvGrpSpPr>
              <p:cNvPr id="150" name=""/>
              <p:cNvGrpSpPr/>
              <p:nvPr/>
            </p:nvGrpSpPr>
            <p:grpSpPr>
              <a:xfrm>
                <a:off x="1368360" y="1031760"/>
                <a:ext cx="1898640" cy="639720"/>
                <a:chOff x="1368360" y="1031760"/>
                <a:chExt cx="1898640" cy="6397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1412640" y="1031760"/>
                  <a:ext cx="18100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mbr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368360" y="1031760"/>
                  <a:ext cx="1898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267000" y="1031760"/>
                <a:ext cx="2733840" cy="639720"/>
                <a:chOff x="3267000" y="1031760"/>
                <a:chExt cx="2733840" cy="63972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3311640" y="1031760"/>
                  <a:ext cx="26445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267000" y="1031760"/>
                  <a:ext cx="27338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6000840" y="1031760"/>
                <a:ext cx="1776240" cy="639720"/>
                <a:chOff x="6000840" y="1031760"/>
                <a:chExt cx="1776240" cy="6397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6045120" y="1031760"/>
                  <a:ext cx="16876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6000840" y="1031760"/>
                  <a:ext cx="1776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1368360" y="1671480"/>
                <a:ext cx="6408720" cy="776160"/>
                <a:chOff x="1368360" y="1671480"/>
                <a:chExt cx="6408720" cy="7761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1412640" y="1671480"/>
                  <a:ext cx="6320160" cy="77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990033"/>
                      </a:solidFill>
                      <a:latin typeface="Times New Roman"/>
                      <a:ea typeface="Times New Roman"/>
                    </a:rPr>
                    <a:t>Contacto directo con aire caliente en forma adiabátic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1368360" y="1671480"/>
                  <a:ext cx="6408720" cy="77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1368360" y="2447640"/>
                <a:ext cx="1897200" cy="1187640"/>
                <a:chOff x="1368360" y="2447640"/>
                <a:chExt cx="1897200" cy="11876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1412640" y="2447640"/>
                  <a:ext cx="180828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cho fluidizad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368360" y="2447640"/>
                  <a:ext cx="189720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3265560" y="2447640"/>
                <a:ext cx="2735280" cy="1187640"/>
                <a:chOff x="3265560" y="2447640"/>
                <a:chExt cx="2735280" cy="118764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3309840" y="2447640"/>
                  <a:ext cx="264636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l sólido (concentraciones del orden de 30% o más de sólido) se ponen en contacto con aire calien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ratamiento de grandes volúmenes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265560" y="2447640"/>
                  <a:ext cx="273528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6000840" y="2447640"/>
                <a:ext cx="1776240" cy="1187640"/>
                <a:chOff x="6000840" y="2447640"/>
                <a:chExt cx="1776240" cy="118764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6045120" y="2447640"/>
                  <a:ext cx="168768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vadur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6000840" y="2447640"/>
                  <a:ext cx="177624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1368360" y="3635280"/>
                <a:ext cx="1897200" cy="1187280"/>
                <a:chOff x="1368360" y="3635280"/>
                <a:chExt cx="1897200" cy="11872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1412640" y="3635280"/>
                  <a:ext cx="180828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cado por aspersión o spra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368360" y="3635280"/>
                  <a:ext cx="189720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3265560" y="3635280"/>
                <a:ext cx="2735280" cy="1187280"/>
                <a:chOff x="3265560" y="3635280"/>
                <a:chExt cx="2735280" cy="118728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3309840" y="3635280"/>
                  <a:ext cx="264636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 termolábi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randes Volúmen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a solución debe tener más de un 25% de sólidos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265560" y="3635280"/>
                  <a:ext cx="273528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6000840" y="3635280"/>
                <a:ext cx="1776240" cy="1187280"/>
                <a:chOff x="6000840" y="3635280"/>
                <a:chExt cx="1776240" cy="118728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6045120" y="3635280"/>
                  <a:ext cx="168768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nzim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vadur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teínas unicelular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6000840" y="3635280"/>
                  <a:ext cx="177624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1368360" y="4822560"/>
                <a:ext cx="1897200" cy="1005120"/>
                <a:chOff x="1368360" y="4822560"/>
                <a:chExt cx="1897200" cy="100512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1412640" y="4822560"/>
                  <a:ext cx="180828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stantáneo o Flas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1368360" y="4822560"/>
                  <a:ext cx="189720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3265560" y="4822560"/>
                <a:ext cx="2735280" cy="1005120"/>
                <a:chOff x="3265560" y="4822560"/>
                <a:chExt cx="2735280" cy="1005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3309840" y="4822560"/>
                  <a:ext cx="264636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ólidos con baja humedad y difíciles de manejar (por tamaño o pegajosos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265560" y="4822560"/>
                  <a:ext cx="27352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6000840" y="4822560"/>
                <a:ext cx="1776240" cy="1005120"/>
                <a:chOff x="6000840" y="4822560"/>
                <a:chExt cx="1776240" cy="100512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6045120" y="4822560"/>
                  <a:ext cx="168768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que no toleran altas temperatur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6000840" y="4822560"/>
                  <a:ext cx="177624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9" name=""/>
            <p:cNvSpPr/>
            <p:nvPr/>
          </p:nvSpPr>
          <p:spPr>
            <a:xfrm>
              <a:off x="1363680" y="1027080"/>
              <a:ext cx="6418080" cy="48052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2362320" y="30492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Métodos de secado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36232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105600" cy="49831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554560" y="836640"/>
            <a:ext cx="38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cador spray o por asp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36232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5925960" cy="48020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624400" y="620640"/>
            <a:ext cx="35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cador flash o instantán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36232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600200" y="990720"/>
          <a:ext cx="5791320" cy="381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990720"/>
                    <a:ext cx="5791320" cy="38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1235160" y="-11160"/>
            <a:ext cx="6673680" cy="6464160"/>
            <a:chOff x="1235160" y="-11160"/>
            <a:chExt cx="6673680" cy="6464160"/>
          </a:xfrm>
        </p:grpSpPr>
        <p:grpSp>
          <p:nvGrpSpPr>
            <p:cNvPr id="201" name=""/>
            <p:cNvGrpSpPr/>
            <p:nvPr/>
          </p:nvGrpSpPr>
          <p:grpSpPr>
            <a:xfrm>
              <a:off x="1239840" y="-6120"/>
              <a:ext cx="6664320" cy="6454800"/>
              <a:chOff x="1239840" y="-6120"/>
              <a:chExt cx="6664320" cy="645480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1239840" y="-6120"/>
                <a:ext cx="1898640" cy="639720"/>
                <a:chOff x="1239840" y="-6120"/>
                <a:chExt cx="1898640" cy="63972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1284120" y="-6120"/>
                  <a:ext cx="18100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mbr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239840" y="-6120"/>
                  <a:ext cx="1898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3138480" y="-6120"/>
                <a:ext cx="2965320" cy="639720"/>
                <a:chOff x="3138480" y="-6120"/>
                <a:chExt cx="2965320" cy="63972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3183120" y="-6120"/>
                  <a:ext cx="28764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138480" y="-6120"/>
                  <a:ext cx="29653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6103800" y="-6120"/>
                <a:ext cx="1800360" cy="639720"/>
                <a:chOff x="6103800" y="-6120"/>
                <a:chExt cx="1800360" cy="63972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6148440" y="-6120"/>
                  <a:ext cx="17114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6103800" y="-6120"/>
                  <a:ext cx="18003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1239840" y="633600"/>
                <a:ext cx="6434280" cy="1704960"/>
                <a:chOff x="1239840" y="633600"/>
                <a:chExt cx="6434280" cy="1704960"/>
              </a:xfrm>
            </p:grpSpPr>
            <p:grpSp>
              <p:nvGrpSpPr>
                <p:cNvPr id="212" name=""/>
                <p:cNvGrpSpPr/>
                <p:nvPr/>
              </p:nvGrpSpPr>
              <p:grpSpPr>
                <a:xfrm>
                  <a:off x="1284120" y="633600"/>
                  <a:ext cx="6345360" cy="1509480"/>
                  <a:chOff x="1284120" y="633600"/>
                  <a:chExt cx="6345360" cy="150948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1284120" y="633600"/>
                    <a:ext cx="6345360" cy="412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1284120" y="1227600"/>
                    <a:ext cx="6345360" cy="915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900" spc="-1" strike="noStrike">
                        <a:solidFill>
                          <a:srgbClr val="990033"/>
                        </a:solidFill>
                        <a:latin typeface="Times New Roman"/>
                        <a:ea typeface="Times New Roman"/>
                      </a:rPr>
                      <a:t>No adiabático por conducción: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900" spc="-1" strike="noStrike">
                        <a:solidFill>
                          <a:srgbClr val="990033"/>
                        </a:solidFill>
                        <a:latin typeface="Times New Roman"/>
                        <a:ea typeface="Times New Roman"/>
                      </a:rPr>
                      <a:t>Método indirecto por conducción a través de paredes metálicas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5" name=""/>
                <p:cNvSpPr/>
                <p:nvPr/>
              </p:nvSpPr>
              <p:spPr>
                <a:xfrm>
                  <a:off x="1239840" y="633600"/>
                  <a:ext cx="6434280" cy="170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1239840" y="2338560"/>
                <a:ext cx="1897200" cy="1917720"/>
                <a:chOff x="1239840" y="2338560"/>
                <a:chExt cx="1897200" cy="191772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1284120" y="2338560"/>
                  <a:ext cx="1808280" cy="19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iofilizador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1239840" y="2338560"/>
                  <a:ext cx="1897200" cy="19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3137040" y="2338560"/>
                <a:ext cx="2968560" cy="1917720"/>
                <a:chOff x="3137040" y="2338560"/>
                <a:chExt cx="2968560" cy="191772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3181320" y="2338560"/>
                  <a:ext cx="2879640" cy="19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Poductos muy lábiles, frágiles o muy soluble. Cuenta con varias etapas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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tapa de Filtrado, concentración 5-25% p/v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Congelado de la solu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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shidratación por calentamiento </a:t>
                  </a:r>
                  <a:r>
                    <a:rPr b="1" lang="es-ES_tradnl" sz="12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Times New Roman"/>
                    </a:rPr>
                    <a:t>al vacío,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el agua siempre se encuentra en forma sólida y su pérdida es sólo por sublimación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137040" y="2338560"/>
                  <a:ext cx="2968560" cy="19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6105600" y="2338560"/>
                <a:ext cx="1798560" cy="1917720"/>
                <a:chOff x="6105600" y="2338560"/>
                <a:chExt cx="1798560" cy="19177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6149880" y="2338560"/>
                  <a:ext cx="1710000" cy="19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nzim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rmon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teínas terapéu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105600" y="2338560"/>
                  <a:ext cx="1798560" cy="19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1239840" y="4256280"/>
                <a:ext cx="1897200" cy="1187640"/>
                <a:chOff x="1239840" y="4256280"/>
                <a:chExt cx="1897200" cy="118764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1284120" y="4256280"/>
                  <a:ext cx="180828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stufa al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1239840" y="4256280"/>
                  <a:ext cx="189720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3137040" y="4256280"/>
                <a:ext cx="2968560" cy="1187640"/>
                <a:chOff x="3137040" y="4256280"/>
                <a:chExt cx="2968560" cy="118764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3181320" y="4256280"/>
                  <a:ext cx="287964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jo Nivel de produc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lto valor del produc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lábi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plicación de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3137040" y="4256280"/>
                  <a:ext cx="296856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6105600" y="4256280"/>
                <a:ext cx="1798560" cy="1187640"/>
                <a:chOff x="6105600" y="4256280"/>
                <a:chExt cx="1798560" cy="11876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6149880" y="4256280"/>
                  <a:ext cx="171000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6105600" y="4256280"/>
                  <a:ext cx="179856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1239840" y="5443920"/>
                <a:ext cx="1897200" cy="1004760"/>
                <a:chOff x="1239840" y="5443920"/>
                <a:chExt cx="1897200" cy="100476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1284120" y="5443920"/>
                  <a:ext cx="180828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istemas Rotatori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1239840" y="5443920"/>
                  <a:ext cx="189720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3137040" y="5443920"/>
                <a:ext cx="2968560" cy="1004760"/>
                <a:chOff x="3137040" y="5443920"/>
                <a:chExt cx="2968560" cy="100476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3181320" y="5443920"/>
                  <a:ext cx="287964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stufa giratoria a la cual se le aplica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3137040" y="5443920"/>
                  <a:ext cx="296856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105600" y="5443920"/>
                <a:ext cx="1798560" cy="1004760"/>
                <a:chOff x="6105600" y="5443920"/>
                <a:chExt cx="1798560" cy="100476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6149880" y="5443920"/>
                  <a:ext cx="171000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105600" y="5443920"/>
                  <a:ext cx="179856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3" name=""/>
            <p:cNvSpPr/>
            <p:nvPr/>
          </p:nvSpPr>
          <p:spPr>
            <a:xfrm>
              <a:off x="1235160" y="-11160"/>
              <a:ext cx="6673680" cy="64641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36232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36240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228600" y="609480"/>
          <a:ext cx="2860560" cy="32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09480"/>
                    <a:ext cx="286056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6496200" y="4726080"/>
            <a:ext cx="2468520" cy="19429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2347920" y="1125360"/>
            <a:ext cx="4448160" cy="39625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46060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36240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7470720" cy="33181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2246400" y="1052640"/>
            <a:ext cx="383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99"/>
                </a:solidFill>
                <a:uFillTx/>
                <a:latin typeface="Times New Roman"/>
              </a:rPr>
              <a:t>Secadores rotatorios a vac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46060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36240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187280" y="3284640"/>
          <a:ext cx="3124440" cy="230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284640"/>
                    <a:ext cx="3124440" cy="23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250920" y="333360"/>
            <a:ext cx="871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iofiliz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un liofilizador convencional, el vacío se logra mediante la combinación de bombas extractoras de aire y "trampas frías" que operan a -40 o -50 °C, para congelar el agua extraída del producto y crear, dentro de la cámara, una presión menor a la atmosféric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250920" y="2924280"/>
            <a:ext cx="8381520" cy="2730600"/>
            <a:chOff x="250920" y="2924280"/>
            <a:chExt cx="8381520" cy="2730600"/>
          </a:xfrm>
        </p:grpSpPr>
        <p:graphicFrame>
          <p:nvGraphicFramePr>
            <p:cNvPr id="260" name=""/>
            <p:cNvGraphicFramePr/>
            <p:nvPr/>
          </p:nvGraphicFramePr>
          <p:xfrm>
            <a:off x="4518000" y="3000600"/>
            <a:ext cx="2437920" cy="2031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6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18000" y="3000600"/>
                      <a:ext cx="2437920" cy="203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2" name=""/>
            <p:cNvGraphicFramePr/>
            <p:nvPr/>
          </p:nvGraphicFramePr>
          <p:xfrm>
            <a:off x="1012680" y="3000600"/>
            <a:ext cx="3123720" cy="23018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6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012680" y="3000600"/>
                      <a:ext cx="3123720" cy="230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4" name=""/>
            <p:cNvSpPr/>
            <p:nvPr/>
          </p:nvSpPr>
          <p:spPr>
            <a:xfrm>
              <a:off x="860400" y="2924280"/>
              <a:ext cx="190440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istema de refrigera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50920" y="4676760"/>
              <a:ext cx="19047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ací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727680" y="3686400"/>
              <a:ext cx="190476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olución Congela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75400" y="4829400"/>
              <a:ext cx="190440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Placas calefactor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 flipV="1">
              <a:off x="6118200" y="4676400"/>
              <a:ext cx="532800" cy="7621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6270480" y="3990960"/>
              <a:ext cx="68544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46060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6240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2381400" cy="22147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3132000" y="1197000"/>
            <a:ext cx="2428920" cy="21272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5724360" y="1700280"/>
            <a:ext cx="3419640" cy="13986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468360" y="47628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cala Laborat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95280" y="393372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cala Indust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2987640" y="4005360"/>
            <a:ext cx="4032360" cy="2654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55640" y="191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00"/>
                </a:solidFill>
                <a:uFillTx/>
                <a:latin typeface="Comic Sans MS"/>
                <a:ea typeface="Times New Roman"/>
              </a:rPr>
              <a:t>Formul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Técnicas de Refinamiento Final o  Acab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Obje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Incrementar la pureza 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 algn="just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liminar principalmente sales y agua, muy pocas proteínas (no purifica significativamen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Facilitar su mane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 algn="just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s más fácil transportar un sólido que soluciones líqu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 algn="just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as proteínas en estado sólido son más estab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Mejora la apa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Formul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uando se tiene una proteína, como producto, requi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(1) Formul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(2) Estabi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da una de estas etapas requiere solo de trabajo experim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755280" y="3500280"/>
            <a:ext cx="727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tabilización: se orienta a algunas zonas de la proteína que se deben proteger. Para ello se adicionan excipientes específ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71640" y="3573360"/>
            <a:ext cx="3044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971640" y="333360"/>
            <a:ext cx="72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Formulación en si indica en que porcentaje se encontrará la proteína de interé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5292720" y="1052640"/>
            <a:ext cx="11160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971640" y="3573360"/>
            <a:ext cx="3044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9640" y="69228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or ejemplo, en el caso de proteína en solución se pueden adicion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3708360" y="2060640"/>
            <a:ext cx="1252440" cy="23050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6372360" y="1773360"/>
            <a:ext cx="309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zúc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olím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urfact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67280" y="1916280"/>
            <a:ext cx="2410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ones metál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gentes quel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33120" y="3860640"/>
            <a:ext cx="23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mino ácido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5076720" y="2133720"/>
            <a:ext cx="790560" cy="7189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 flipV="1">
            <a:off x="5003280" y="3212640"/>
            <a:ext cx="1225800" cy="6476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11280" y="2492280"/>
            <a:ext cx="1008360" cy="6476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2556000" y="3499920"/>
            <a:ext cx="936360" cy="5050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304920" y="833400"/>
            <a:ext cx="8534160" cy="51912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611280" y="18900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Comic Sans MS"/>
              </a:rPr>
              <a:t>Estabilizantes para una formulación en estado 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828684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385920" y="1166760"/>
            <a:ext cx="83721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684360" y="189000"/>
            <a:ext cx="77040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n el caso de proteínas en estado sólido se debe control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3780000" y="2133720"/>
            <a:ext cx="1644480" cy="237492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611280" y="1773360"/>
            <a:ext cx="1873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emper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cip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442920" y="1700280"/>
            <a:ext cx="2410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Humedad res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edio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constit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411280" y="2492280"/>
            <a:ext cx="1008360" cy="6476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5795640" y="2421000"/>
            <a:ext cx="647640" cy="792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428760" y="1552680"/>
            <a:ext cx="8286480" cy="375264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324000" y="18900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Comic Sans MS"/>
              </a:rPr>
              <a:t>Factores que afectan las estabilidad de proteína en estado sól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800" y="1662120"/>
            <a:ext cx="825840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6732720" y="765000"/>
            <a:ext cx="1582560" cy="228600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1042920" y="620640"/>
            <a:ext cx="2319480" cy="24386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5435640" y="4076640"/>
            <a:ext cx="1001520" cy="184320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1835280" y="4005360"/>
            <a:ext cx="1158840" cy="20588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as principales técnicas aplicadas para estas etapas de Acabado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     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ristaliz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     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3300"/>
                </a:solidFill>
                <a:uFillTx/>
                <a:latin typeface="Comic Sans MS"/>
                <a:ea typeface="Times New Roman"/>
              </a:rPr>
              <a:t>Cristaliz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siste en la  separación de un soluto desde una solución </a:t>
            </a:r>
            <a:r>
              <a:rPr b="1" lang="es-ES_tradnl" sz="2000" spc="-1" strike="noStrike" u="sng">
                <a:solidFill>
                  <a:srgbClr val="990033"/>
                </a:solidFill>
                <a:uFillTx/>
                <a:latin typeface="Comic Sans MS"/>
                <a:ea typeface="Times New Roman"/>
              </a:rPr>
              <a:t>sobresaturada, 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mediante la formación de cristales en el seno de la solución. La idea es que se formen los cristales y luego crezc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Uso Princip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ducción de: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Antibió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Ácidos orgán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ductos terapéuticos, proteí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248520" y="2438280"/>
            <a:ext cx="1968480" cy="2070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Ventaj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n una sola etapa se logran purezas superiores al 99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 puede controlar el tamaño de los cristales con tamaño uniforme, por medio de control de las condiciones de oper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a cristalización mejora la apariencia del producto come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 puede trabajar a temperatura moderada</a:t>
            </a:r>
            <a:r>
              <a:rPr b="1" lang="es-E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132000" y="4581360"/>
            <a:ext cx="1968480" cy="2070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3733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Proceso de Crist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l proceso global de cristalización involucra a lo menos 3 etap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ristalización : Esta etapa es controlada por la solubilidad que presenta tanto las proteínas como impurezas a diferentes temperatur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xiste una relación del tip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 = A +B*T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 : Solu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T : Tempera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paración sólido-liquido: adicionalmente se realiza un lavado de los cristales para eliminar impurezas solu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cado: etapa donde se elimina el remanente de agua.</a:t>
            </a:r>
            <a:r>
              <a:rPr b="1" lang="es-E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04920" y="1828800"/>
            <a:ext cx="7848360" cy="3733560"/>
            <a:chOff x="304920" y="1828800"/>
            <a:chExt cx="7848360" cy="3733560"/>
          </a:xfrm>
        </p:grpSpPr>
        <p:sp>
          <p:nvSpPr>
            <p:cNvPr id="55" name=""/>
            <p:cNvSpPr/>
            <p:nvPr/>
          </p:nvSpPr>
          <p:spPr>
            <a:xfrm>
              <a:off x="1394640" y="3136680"/>
              <a:ext cx="1416960" cy="93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ristaliz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66080" y="3136680"/>
              <a:ext cx="1416960" cy="93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eparad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ólido-Líqui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537160" y="3136680"/>
              <a:ext cx="1416960" cy="93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ecad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83040" y="3510720"/>
              <a:ext cx="653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31800" y="3510720"/>
              <a:ext cx="7628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19840" y="2202480"/>
              <a:ext cx="0" cy="934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19840" y="4071240"/>
              <a:ext cx="0" cy="934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4920" y="1828800"/>
              <a:ext cx="1089720" cy="130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liment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u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ven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purez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29760" y="2015640"/>
              <a:ext cx="871920" cy="93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vente de lava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84720" y="4254480"/>
              <a:ext cx="1362240" cy="130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vent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uto disuel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purez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954120" y="3510720"/>
              <a:ext cx="653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664880" y="2389320"/>
              <a:ext cx="1526040" cy="56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ólido Húme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27240" y="2389320"/>
              <a:ext cx="1526040" cy="56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ducto Se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989280" y="457200"/>
            <a:ext cx="7040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Diagrama del Proceso de Crist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43280" y="3500280"/>
            <a:ext cx="576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442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Modos de Ope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ependiendo de la relación entre la solubilidad y la temperatura se pueden presentar diferentes modos de operación para llevar a cabo la cristalización. Esto se debe a que las curvas de solubilidad permit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eterminar si el sólido que cristaliza sólo contiene el soluto de inter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leccionar el solv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stablecer el rango de temperatura y presión de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ocer las concentraciones del líquido de salida del cristaliz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eterminar la recuperación máx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5T02:16:40Z</dcterms:created>
  <dc:creator>Maria Elena Lienqueo C.</dc:creator>
  <dc:description/>
  <dc:language>en-US</dc:language>
  <cp:lastModifiedBy>Maria Elena Lienqueo</cp:lastModifiedBy>
  <dcterms:modified xsi:type="dcterms:W3CDTF">2007-09-26T02:05:12Z</dcterms:modified>
  <cp:revision>12</cp:revision>
  <dc:subject/>
  <dc:title>Operaciones de Refinamiento Final</dc:title>
</cp:coreProperties>
</file>