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35866-5BD8-4459-9401-736D04E26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2BE43-DA3F-4618-BCF8-6EB26CF8B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0534B-DB40-4B5E-92C2-34108E9E1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A1B99-6CAB-45D5-8BC0-DBFEC63E7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393A2-B322-4E2C-A111-3F1165F90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3DD77-D87B-4760-A2B1-4F3B84EED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946ED-F974-4360-89A5-3F5300988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BFEE2-96F8-430F-9323-25F111A0D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6801D-506C-4798-B381-543C4E49E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A920-66D7-4486-8952-585B76E9D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99073-6497-4D3A-9509-EBBEF15BD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504E5-B37F-4D20-9218-F9EF653CA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6ED7-C6BA-4A04-B526-393BD30C2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duction of stages due to affinity adsorption</a:t>
            </a:r>
            <a:endParaRPr b="0" lang="en-US" sz="36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  (4 MPa)</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r>
              <a:rPr b="0" lang="es-ES_tradnl" sz="3000" spc="-1" strike="noStrike" u="sng">
                <a:solidFill>
                  <a:srgbClr val="990033"/>
                </a:solidFill>
                <a:uFillTx/>
                <a:latin typeface="Comic Sans MS"/>
                <a:ea typeface="Times New Roman"/>
              </a:rPr>
              <a:t>20-40 MPa</a:t>
            </a: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40 MP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1T20:12:29Z</dcterms:modified>
  <cp:revision>53</cp:revision>
  <dc:subject/>
  <dc:title>Cromatografía en Lecho Fijo</dc:title>
</cp:coreProperties>
</file>