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png" ContentType="image/png"/>
  <Override PartName="/ppt/media/image26.png" ContentType="image/png"/>
  <Override PartName="/ppt/media/image2.wmf" ContentType="image/x-wmf"/>
  <Override PartName="/ppt/media/image25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AF18-2EFE-41BA-A13E-936BD6643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18A2-F161-4FF0-BBCD-C940F427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6ED3-9F03-4D7F-AF17-D4042D049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17DF-A358-4ED5-A91E-41CC9910A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8CB7-2E4F-4C09-B7F3-E4B7202F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90F3-E94C-4941-A971-5AFE186C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2518-3CA6-452F-AEED-F7EF5979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597F-9E85-49F5-A5C5-5E770296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ECB8-7F23-4BE8-9BD6-5DFD5E4F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BBF7-1D9F-49D7-AB81-33E97D01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DDDB-B226-4E85-97EE-B3A90BF8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E4C0-16B1-4D67-8F92-E3FFFCAE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9E19-C952-4BF9-AF44-F697D6D5514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Perfiles Cromato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33520" y="457200"/>
            <a:ext cx="807696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Parámetros que caracterizan la migración difer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1.-Volumen o tiempo de E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olumen o tiempo necesario para transportar al soluto a través de una columna hasta que sale de la misma a una máxima concent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o, Ve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 = F*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o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724360" y="2781360"/>
          <a:ext cx="2533680" cy="20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360" y="2781360"/>
                    <a:ext cx="2533680" cy="20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24000" y="765000"/>
            <a:ext cx="4419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2.Factor de Capa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390680" y="1438200"/>
                <a:ext cx="173520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611280" y="3573360"/>
            <a:ext cx="43923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: Volumen de huecos, ie, el volumen de líquido existente en la columna que no se encuentra en el interior de las partí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796000" y="907920"/>
            <a:ext cx="1812960" cy="3284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flipV="1">
            <a:off x="4572000" y="1699920"/>
            <a:ext cx="1368360" cy="187308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3.-Selectividad o retención relativa, </a:t>
            </a:r>
            <a:r>
              <a:rPr b="1" lang="es-CL" sz="2000" spc="-1" strike="noStrike" u="sng">
                <a:solidFill>
                  <a:srgbClr val="333399"/>
                </a:solidFill>
                <a:uFillTx/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uando se tienen dos proteínas, se puede comparar su nivel de retención comparando los factores de capac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905120" y="1676520"/>
                <a:ext cx="9316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4.- Recuperación o y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La  cantidad de soluto recuperando entre un tiempo t* y t respecto al total  inyectado (y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85800" y="2438280"/>
                <a:ext cx="8213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ntidad de proteína Recuperada entre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y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antidad de proteína inyectad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56" name=""/>
          <p:cNvGraphicFramePr/>
          <p:nvPr/>
        </p:nvGraphicFramePr>
        <p:xfrm>
          <a:off x="2743200" y="3505320"/>
          <a:ext cx="3562200" cy="25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505320"/>
                    <a:ext cx="3562200" cy="25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95280" y="3141720"/>
                <a:ext cx="8091360" cy="24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ntidad Total eluída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33520" y="685800"/>
                <a:ext cx="7396200" cy="23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esde Tablas de Integrales se tiene la definición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28954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onde erf (x) es la función err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556000" y="1268280"/>
                <a:ext cx="301788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457200" y="426708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0) =0   y Erf (oo)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Función im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-x) = - erf (x)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-1) = - erf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 (x) =1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x &gt; 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19240" y="1219320"/>
                <a:ext cx="892476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533520" y="45720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Utilizando la definición anterior y aplicando un cambio de varia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50920" y="2924280"/>
                <a:ext cx="6203880" cy="25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ntidad  recuperada  entre   0  y  </m:t>
                        </m:r>
                        <m:r>
                          <m:t xml:space="preserve">∞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∞</m:t>
                                        </m:r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0</m:t>
                                    </m:r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250920" y="5805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m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771640" y="5776920"/>
                <a:ext cx="1511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rad>
                      </m:den>
                    </m:f>
                    <m:r>
                      <m:t xml:space="preserve">&gt;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33520" y="457200"/>
            <a:ext cx="8076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nto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antidad recuperada entre 0 e Infi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882800" y="1324080"/>
                <a:ext cx="345132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rad>
                          </m:e>
                        </m:d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σ</m:t>
                        </m:r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849240" y="3278160"/>
                <a:ext cx="7662960" cy="19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iel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num>
                      <m:den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977760" y="711360"/>
                <a:ext cx="5326200" cy="109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rf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609480" y="2286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on es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900000" y="2924280"/>
                <a:ext cx="367344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533520" y="2301840"/>
            <a:ext cx="8076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i 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=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219640" y="2708280"/>
          <a:ext cx="327816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2708280"/>
                    <a:ext cx="327816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</a:rPr>
              <a:t>Tabla de la Función error, erf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447920" y="609480"/>
          <a:ext cx="611496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609480"/>
                    <a:ext cx="61149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457200"/>
            <a:ext cx="822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cuación de un perfil cromatográ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diferentes forma de la ecuación gaussiana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de yo y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95280" y="2349360"/>
                <a:ext cx="488160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f>
                                  <m:num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533520" y="4114800"/>
            <a:ext cx="41148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 de y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24000" y="4653000"/>
                <a:ext cx="3962160" cy="17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562720" y="1752480"/>
            <a:ext cx="314316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04920" y="228600"/>
            <a:ext cx="822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e desea purificar un anticuerpo utilizando una columna de afinidad. Los resultados de la elución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676520" y="1295280"/>
            <a:ext cx="5762520" cy="1752840"/>
            <a:chOff x="1676520" y="1295280"/>
            <a:chExt cx="5762520" cy="1752840"/>
          </a:xfrm>
        </p:grpSpPr>
        <p:grpSp>
          <p:nvGrpSpPr>
            <p:cNvPr id="183" name=""/>
            <p:cNvGrpSpPr/>
            <p:nvPr/>
          </p:nvGrpSpPr>
          <p:grpSpPr>
            <a:xfrm>
              <a:off x="1681200" y="1298160"/>
              <a:ext cx="5753160" cy="1746720"/>
              <a:chOff x="1681200" y="1298160"/>
              <a:chExt cx="5753160" cy="1746720"/>
            </a:xfrm>
          </p:grpSpPr>
          <p:grpSp>
            <p:nvGrpSpPr>
              <p:cNvPr id="184" name=""/>
              <p:cNvGrpSpPr/>
              <p:nvPr/>
            </p:nvGrpSpPr>
            <p:grpSpPr>
              <a:xfrm>
                <a:off x="1681200" y="1298160"/>
                <a:ext cx="1917720" cy="523800"/>
                <a:chOff x="1681200" y="1298160"/>
                <a:chExt cx="1917720" cy="52380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172548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168120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3598920" y="1298160"/>
                <a:ext cx="1917720" cy="523800"/>
                <a:chOff x="3598920" y="1298160"/>
                <a:chExt cx="1917720" cy="52380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364320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59892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5516640" y="1298160"/>
                <a:ext cx="1917720" cy="523800"/>
                <a:chOff x="5516640" y="1298160"/>
                <a:chExt cx="1917720" cy="52380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556092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51664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1681200" y="1821960"/>
                <a:ext cx="1917720" cy="407520"/>
                <a:chOff x="1681200" y="1821960"/>
                <a:chExt cx="1917720" cy="4075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172548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68120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3598920" y="1821960"/>
                <a:ext cx="1917720" cy="407520"/>
                <a:chOff x="3598920" y="1821960"/>
                <a:chExt cx="1917720" cy="40752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364320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59892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5516640" y="1821960"/>
                <a:ext cx="1917720" cy="407520"/>
                <a:chOff x="5516640" y="1821960"/>
                <a:chExt cx="1917720" cy="40752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556092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51664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1681200" y="2229840"/>
                <a:ext cx="1917720" cy="407520"/>
                <a:chOff x="1681200" y="2229840"/>
                <a:chExt cx="1917720" cy="40752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72548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68120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3598920" y="2229840"/>
                <a:ext cx="1917720" cy="407520"/>
                <a:chOff x="3598920" y="2229840"/>
                <a:chExt cx="1917720" cy="4075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64320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59892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5516640" y="2229840"/>
                <a:ext cx="1917720" cy="407520"/>
                <a:chOff x="5516640" y="2229840"/>
                <a:chExt cx="1917720" cy="4075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556092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51664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1681200" y="2637360"/>
                <a:ext cx="1917720" cy="407520"/>
                <a:chOff x="1681200" y="2637360"/>
                <a:chExt cx="1917720" cy="4075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172548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168120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3598920" y="2637360"/>
                <a:ext cx="1917720" cy="407520"/>
                <a:chOff x="3598920" y="2637360"/>
                <a:chExt cx="1917720" cy="40752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364320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59892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5516640" y="2637360"/>
                <a:ext cx="1917720" cy="407520"/>
                <a:chOff x="5516640" y="2637360"/>
                <a:chExt cx="1917720" cy="40752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556092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51664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0" name=""/>
            <p:cNvSpPr/>
            <p:nvPr/>
          </p:nvSpPr>
          <p:spPr>
            <a:xfrm>
              <a:off x="1676520" y="1295280"/>
              <a:ext cx="5762520" cy="17528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228600" y="32767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stime la recuperación  a  5 y 8 horas de el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24000" y="476280"/>
            <a:ext cx="8381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Cuando se procesa una mezcla de lincomicina A y B en una columna de celulosa se colectan 2.2%, 20% y 50% del total de lincomicina A a los 600, 650 y 700 ml de elución respectiv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Calcule el volumen que se debe recolectar para recuperar el 95% de la lincomicina A.</a:t>
            </a:r>
            <a:r>
              <a:rPr b="0" lang="es-ES" sz="18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24000" y="2924280"/>
          <a:ext cx="4063680" cy="270324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/y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ml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-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651640" y="2924280"/>
            <a:ext cx="3073320" cy="22334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5003640" y="3357720"/>
            <a:ext cx="719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/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04000" y="522936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33520" y="457200"/>
            <a:ext cx="80769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5.-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Pur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La cantidad de soluto “i” recuperado en un tiempo t* y t respecto al total de soluto recuperado en igual interva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04920" y="1905120"/>
            <a:ext cx="4419360" cy="2797200"/>
            <a:chOff x="304920" y="1905120"/>
            <a:chExt cx="4419360" cy="2797200"/>
          </a:xfrm>
        </p:grpSpPr>
        <p:graphicFrame>
          <p:nvGraphicFramePr>
            <p:cNvPr id="229" name=""/>
            <p:cNvGraphicFramePr/>
            <p:nvPr/>
          </p:nvGraphicFramePr>
          <p:xfrm>
            <a:off x="304920" y="1905120"/>
            <a:ext cx="3576600" cy="279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1905120"/>
                      <a:ext cx="3576600" cy="279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1" name=""/>
            <p:cNvSpPr/>
            <p:nvPr/>
          </p:nvSpPr>
          <p:spPr>
            <a:xfrm>
              <a:off x="1600200" y="220968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0000"/>
                  </a:solidFill>
                  <a:latin typeface="Times New Roman"/>
                </a:rPr>
                <a:t>Proteína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43200" y="2971800"/>
              <a:ext cx="1981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imes New Roman"/>
                </a:rPr>
                <a:t>Contamina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7848720" y="3429000"/>
            <a:ext cx="1295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imes New Roman"/>
              </a:rPr>
              <a:t>Contamin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57200" y="1905120"/>
            <a:ext cx="8686800" cy="4665960"/>
            <a:chOff x="457200" y="1905120"/>
            <a:chExt cx="8686800" cy="4665960"/>
          </a:xfrm>
        </p:grpSpPr>
        <p:grpSp>
          <p:nvGrpSpPr>
            <p:cNvPr id="235" name=""/>
            <p:cNvGrpSpPr/>
            <p:nvPr/>
          </p:nvGrpSpPr>
          <p:grpSpPr>
            <a:xfrm>
              <a:off x="4952880" y="1905120"/>
              <a:ext cx="4191120" cy="3187440"/>
              <a:chOff x="4952880" y="1905120"/>
              <a:chExt cx="4191120" cy="3187440"/>
            </a:xfrm>
          </p:grpSpPr>
          <p:graphicFrame>
            <p:nvGraphicFramePr>
              <p:cNvPr id="236" name=""/>
              <p:cNvGraphicFramePr/>
              <p:nvPr/>
            </p:nvGraphicFramePr>
            <p:xfrm>
              <a:off x="4952880" y="1905120"/>
              <a:ext cx="4191120" cy="31874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3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952880" y="1905120"/>
                        <a:ext cx="4191120" cy="3187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38" name=""/>
              <p:cNvSpPr/>
              <p:nvPr/>
            </p:nvSpPr>
            <p:spPr>
              <a:xfrm>
                <a:off x="5715000" y="3124080"/>
                <a:ext cx="144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roteína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791320" y="1981080"/>
                <a:ext cx="1447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urez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457200" y="5867280"/>
              <a:ext cx="8077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Recuperación y Pureza son parámetros que no siempre se pueden optimizar en forma conjunt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1154160" y="782640"/>
                <a:ext cx="68198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Deseada 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Total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137040" y="2103480"/>
                <a:ext cx="298116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yield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ield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43" name=""/>
          <p:cNvGrpSpPr/>
          <p:nvPr/>
        </p:nvGrpSpPr>
        <p:grpSpPr>
          <a:xfrm>
            <a:off x="228600" y="3200400"/>
            <a:ext cx="8458200" cy="3416400"/>
            <a:chOff x="228600" y="3200400"/>
            <a:chExt cx="8458200" cy="3416400"/>
          </a:xfrm>
        </p:grpSpPr>
        <p:sp>
          <p:nvSpPr>
            <p:cNvPr id="244" name=""/>
            <p:cNvSpPr/>
            <p:nvPr/>
          </p:nvSpPr>
          <p:spPr>
            <a:xfrm>
              <a:off x="304920" y="3200400"/>
              <a:ext cx="8226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Problema </a:t>
              </a: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	</a:t>
              </a: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Purificación de anticuerp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Se desea purificar un anticuerpo utilizando una columna de afinidad. Los resultados de la elución son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1676520" y="4267080"/>
              <a:ext cx="5762520" cy="1752840"/>
              <a:chOff x="1676520" y="4267080"/>
              <a:chExt cx="5762520" cy="175284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1681200" y="4269960"/>
                <a:ext cx="5753160" cy="1746720"/>
                <a:chOff x="1681200" y="4269960"/>
                <a:chExt cx="5753160" cy="1746720"/>
              </a:xfrm>
            </p:grpSpPr>
            <p:grpSp>
              <p:nvGrpSpPr>
                <p:cNvPr id="247" name=""/>
                <p:cNvGrpSpPr/>
                <p:nvPr/>
              </p:nvGrpSpPr>
              <p:grpSpPr>
                <a:xfrm>
                  <a:off x="1681200" y="4269960"/>
                  <a:ext cx="1917720" cy="523800"/>
                  <a:chOff x="1681200" y="4269960"/>
                  <a:chExt cx="1917720" cy="52380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>
                    <a:off x="172548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Tiem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[Horas]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168120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3598920" y="4269960"/>
                  <a:ext cx="1917720" cy="523800"/>
                  <a:chOff x="3598920" y="4269960"/>
                  <a:chExt cx="1917720" cy="52380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>
                    <a:off x="364320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Anticuer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359892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" name=""/>
                <p:cNvGrpSpPr/>
                <p:nvPr/>
              </p:nvGrpSpPr>
              <p:grpSpPr>
                <a:xfrm>
                  <a:off x="5516640" y="4269960"/>
                  <a:ext cx="1917720" cy="523800"/>
                  <a:chOff x="5516640" y="4269960"/>
                  <a:chExt cx="1917720" cy="52380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>
                    <a:off x="556092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Impureza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551664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1681200" y="4793760"/>
                  <a:ext cx="1917720" cy="407520"/>
                  <a:chOff x="1681200" y="4793760"/>
                  <a:chExt cx="1917720" cy="40752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>
                    <a:off x="172548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.4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168120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3598920" y="4793760"/>
                  <a:ext cx="1917720" cy="407520"/>
                  <a:chOff x="3598920" y="4793760"/>
                  <a:chExt cx="1917720" cy="40752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64320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82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59892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5516640" y="4793760"/>
                  <a:ext cx="1917720" cy="407520"/>
                  <a:chOff x="5516640" y="4793760"/>
                  <a:chExt cx="1917720" cy="40752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>
                    <a:off x="556092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551664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" name=""/>
                <p:cNvGrpSpPr/>
                <p:nvPr/>
              </p:nvGrpSpPr>
              <p:grpSpPr>
                <a:xfrm>
                  <a:off x="1681200" y="5201640"/>
                  <a:ext cx="1917720" cy="407520"/>
                  <a:chOff x="1681200" y="5201640"/>
                  <a:chExt cx="1917720" cy="40752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172548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0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168120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3598920" y="5201640"/>
                  <a:ext cx="1917720" cy="407520"/>
                  <a:chOff x="3598920" y="5201640"/>
                  <a:chExt cx="1917720" cy="40752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>
                    <a:off x="364320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359892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5516640" y="5201640"/>
                  <a:ext cx="1917720" cy="407520"/>
                  <a:chOff x="5516640" y="5201640"/>
                  <a:chExt cx="1917720" cy="40752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>
                    <a:off x="556092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.1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551664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"/>
                <p:cNvGrpSpPr/>
                <p:nvPr/>
              </p:nvGrpSpPr>
              <p:grpSpPr>
                <a:xfrm>
                  <a:off x="1681200" y="5609160"/>
                  <a:ext cx="1917720" cy="407520"/>
                  <a:chOff x="1681200" y="5609160"/>
                  <a:chExt cx="1917720" cy="40752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>
                    <a:off x="172548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6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168120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3598920" y="5609160"/>
                  <a:ext cx="1917720" cy="407520"/>
                  <a:chOff x="3598920" y="5609160"/>
                  <a:chExt cx="1917720" cy="40752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>
                    <a:off x="364320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8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359892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"/>
                <p:cNvGrpSpPr/>
                <p:nvPr/>
              </p:nvGrpSpPr>
              <p:grpSpPr>
                <a:xfrm>
                  <a:off x="5516640" y="5609160"/>
                  <a:ext cx="1917720" cy="407520"/>
                  <a:chOff x="5516640" y="5609160"/>
                  <a:chExt cx="1917720" cy="40752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>
                    <a:off x="556092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43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551664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3" name=""/>
              <p:cNvSpPr/>
              <p:nvPr/>
            </p:nvSpPr>
            <p:spPr>
              <a:xfrm>
                <a:off x="1676520" y="4267080"/>
                <a:ext cx="5762520" cy="175284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228600" y="6248520"/>
              <a:ext cx="84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a)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	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Estime la pureza  a  5 y 8 horas de elu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457200" y="304920"/>
            <a:ext cx="44956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6.-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did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dimensional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de cuan difícil es separar 2 componentes de una mezcla. 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838080" y="1752480"/>
                <a:ext cx="261792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solució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380880" y="2895480"/>
            <a:ext cx="53341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Valores de </a:t>
            </a: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Resolución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&gt; 1.5  Corresponde a una separación casi compl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= 1 Los peak casi se sol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5334120" y="4724280"/>
          <a:ext cx="3809880" cy="18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4724280"/>
                    <a:ext cx="3809880" cy="18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5622840" y="0"/>
          <a:ext cx="3521160" cy="36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22840" y="0"/>
                    <a:ext cx="35211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762120" y="4952880"/>
          <a:ext cx="3790800" cy="157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952880"/>
                    <a:ext cx="379080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"/>
          <p:cNvGrpSpPr/>
          <p:nvPr/>
        </p:nvGrpSpPr>
        <p:grpSpPr>
          <a:xfrm>
            <a:off x="0" y="333360"/>
            <a:ext cx="9143640" cy="5750640"/>
            <a:chOff x="0" y="333360"/>
            <a:chExt cx="9143640" cy="5750640"/>
          </a:xfrm>
        </p:grpSpPr>
        <p:sp>
          <p:nvSpPr>
            <p:cNvPr id="295" name=""/>
            <p:cNvSpPr/>
            <p:nvPr/>
          </p:nvSpPr>
          <p:spPr>
            <a:xfrm>
              <a:off x="163440" y="504360"/>
              <a:ext cx="129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Times New Roman"/>
                </a:rPr>
                <a:t>Rs &lt;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0" y="5624280"/>
              <a:ext cx="163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Times New Roman"/>
                </a:rPr>
                <a:t>Rs &lt; 1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504200" y="333360"/>
              <a:ext cx="163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Times New Roman"/>
                </a:rPr>
                <a:t>Rs &gt; 1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8" name="" descr=""/>
            <p:cNvPicPr/>
            <p:nvPr/>
          </p:nvPicPr>
          <p:blipFill>
            <a:blip r:embed="rId1"/>
            <a:stretch/>
          </p:blipFill>
          <p:spPr>
            <a:xfrm>
              <a:off x="163440" y="929520"/>
              <a:ext cx="8482320" cy="4830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609480" y="838080"/>
            <a:ext cx="8175600" cy="2100240"/>
            <a:chOff x="609480" y="838080"/>
            <a:chExt cx="8175600" cy="2100240"/>
          </a:xfrm>
        </p:grpSpPr>
        <mc:AlternateContent>
          <mc:Choice xmlns:a14="http://schemas.microsoft.com/office/drawing/2010/main" Requires="a14">
            <p:sp>
              <p:nvSpPr>
                <p:cNvPr id="300" name=""/>
                <p:cNvSpPr txBox="1"/>
                <p:nvPr/>
              </p:nvSpPr>
              <p:spPr>
                <a:xfrm>
                  <a:off x="5715000" y="990720"/>
                  <a:ext cx="2617560" cy="66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w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01" name=""/>
            <p:cNvSpPr/>
            <p:nvPr/>
          </p:nvSpPr>
          <p:spPr>
            <a:xfrm>
              <a:off x="6094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Si los peak tienen anchos simila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2" name=""/>
                <p:cNvSpPr txBox="1"/>
                <p:nvPr/>
              </p:nvSpPr>
              <p:spPr>
                <a:xfrm>
                  <a:off x="2057400" y="1981080"/>
                  <a:ext cx="173484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03" name=""/>
            <p:cNvSpPr/>
            <p:nvPr/>
          </p:nvSpPr>
          <p:spPr>
            <a:xfrm>
              <a:off x="761760" y="160020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Recordand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5265720" y="1906560"/>
                  <a:ext cx="351936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⋅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N</m:t>
                          </m:r>
                        </m:e>
                      </m:rad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5" name=""/>
          <p:cNvGrpSpPr/>
          <p:nvPr/>
        </p:nvGrpSpPr>
        <p:grpSpPr>
          <a:xfrm>
            <a:off x="380880" y="3352680"/>
            <a:ext cx="8305920" cy="2936880"/>
            <a:chOff x="380880" y="3352680"/>
            <a:chExt cx="8305920" cy="2936880"/>
          </a:xfrm>
        </p:grpSpPr>
        <p:sp>
          <p:nvSpPr>
            <p:cNvPr id="306" name=""/>
            <p:cNvSpPr/>
            <p:nvPr/>
          </p:nvSpPr>
          <p:spPr>
            <a:xfrm>
              <a:off x="380880" y="3352680"/>
              <a:ext cx="830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99"/>
                  </a:solidFill>
                  <a:latin typeface="Times New Roman"/>
                </a:rPr>
                <a:t>Si se utilizan los conceptos de factor de capacidad, k, y selectividad,</a:t>
              </a:r>
              <a:r>
                <a:rPr b="0" lang="es-ES_tradnl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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1447920" y="4343400"/>
                  <a:ext cx="1734840" cy="98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8" name=""/>
                <p:cNvSpPr txBox="1"/>
                <p:nvPr/>
              </p:nvSpPr>
              <p:spPr>
                <a:xfrm>
                  <a:off x="1523880" y="5410080"/>
                  <a:ext cx="932040" cy="87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3772080" y="4081320"/>
                <a:ext cx="4919400" cy="196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solució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2895480" y="6035760"/>
            <a:ext cx="58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Qué pasa con la Resolución si varío el largo de la colum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Escal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304920" y="3276720"/>
          <a:ext cx="4114800" cy="31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276720"/>
                    <a:ext cx="4114800" cy="31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6248520" y="228600"/>
          <a:ext cx="2895480" cy="246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228600"/>
                    <a:ext cx="289548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l Objetivo del escalamiento es determinar el diseño de una columna para cumplir con una productividad mayor (No se cuenta con modelos estrictos de escalamient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de Laboratori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Pilot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dus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l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itros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</a:t>
            </a:r>
            <a:r>
              <a:rPr b="0" lang="es-ES_tradnl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de matr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ug de proteí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gr de proteí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g de proteí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3520" y="5029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Volumen de muestras pequeños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entre 5-20%  de la colum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30260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457200"/>
            <a:ext cx="8359560" cy="45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Determinación de los parámetros de la gauss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arámetros 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y </a:t>
            </a:r>
            <a:r>
              <a:rPr b="0" lang="es-ES_tradnl" sz="20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 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on las coordenadas  del máximo de elución. Directamente de la cur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Reordenando la ecuación a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692360" y="981000"/>
                <a:ext cx="285732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724360" y="981000"/>
            <a:ext cx="3143520" cy="2446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268360" y="5157720"/>
                <a:ext cx="2719440" cy="14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33520" y="457200"/>
            <a:ext cx="80769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Criterios de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Incremento Lin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Flujo Volumétrico a proce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e mantiene la linealidad del proceso, si se mantiene la concentración y tamaño relativo de la mues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990720" y="2895480"/>
          <a:ext cx="6172200" cy="14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95480"/>
                    <a:ext cx="61722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468360" y="476280"/>
            <a:ext cx="417492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Incrementos No Lineale</a:t>
            </a: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ncentración de la mue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olumen de la mue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 ambos casos los perfiles resultantes no son gaussianos, motivo por el cual no se pueden aplicar los modelos de platos.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859280" y="386064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obrecarga  Vol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59280" y="9079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obrecarga  Concen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252680" cy="172728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404820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533520" y="457200"/>
            <a:ext cx="807696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Formas de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 Dir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 un escalamiento desde una escala de laboratorio a una m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 nivel de laboratorio se tiene un diseño óptimo (Optimo Nivel de Pureza y Resolución), se supone que los fenómenos difusionales no se ven afectados en el rango en estud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3520" y="3429000"/>
            <a:ext cx="7848360" cy="31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 </a:t>
            </a:r>
            <a:r>
              <a:rPr b="1" lang="es-ES" sz="20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Sistemas lin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 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 se trabaja con incrementos del flujo se pueden mantener los perfiles de elución, es decir, se mantiene el modelo Gaussiano y se mantiene algunas de las siguientes condic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ndición de linealidad</a:t>
            </a:r>
            <a:r>
              <a:rPr b="1" lang="es-ES_tradn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v *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= (v *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533520" y="914400"/>
            <a:ext cx="8076960" cy="49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Concentración máxima de soluto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y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= y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úmero de Plat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N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 = (cte/d</a:t>
            </a:r>
            <a:r>
              <a:rPr b="1" lang="es-ES" sz="2000" spc="-1" strike="noStrike" baseline="-30000">
                <a:solidFill>
                  <a:srgbClr val="333399"/>
                </a:solidFill>
                <a:latin typeface="Times New Roman"/>
                <a:ea typeface="Times New Roman"/>
              </a:rPr>
              <a:t>p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+1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)*(L/v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tonces  (L/v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 debe mantenerse en las 2 esca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end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: Largo de la columna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:  Velocidad de la fase mó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p: Diámetro de las partículas de adsorb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533520" y="0"/>
            <a:ext cx="807696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empo o volumen de rete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ó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(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) 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/F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 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/F = L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(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) L/v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tonces se debe mantener L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533520" y="457200"/>
            <a:ext cx="80769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tapa Controla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ependiendo de cual es la etapa controlante en el fenómeno de transferencia de masa el ancho de los peak (o Número de platos)  se verá alterado por las variables L y v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457200" y="2362320"/>
          <a:ext cx="3657600" cy="37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365760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4495680" y="1981080"/>
          <a:ext cx="3990960" cy="487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1981080"/>
                    <a:ext cx="399096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tapa Controlante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09480" y="1219320"/>
          <a:ext cx="8229600" cy="4546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Etapa Controla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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proporcional 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Coment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fusión Interna y adsor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/L *d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Mayoría de los ca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Transferencia de masa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/2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/L *d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Muy utiliz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fusión Ax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/(v*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o muy comú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spersión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/L *d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Importante a gran esc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533520" y="457200"/>
            <a:ext cx="807696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Problema 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10 gramos de la enzima fumarasa están siendo purificadas en una columna de intercambio iónico a una velocidad de 30 cm/h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l tiempo de retención del peak, 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es 93 minutos y la desviación estándar,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es de 0,129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i el flujo aumenta a 60 cm/hr y el proceso se encuentra controlado por difusión y reacción, determine el tiempo necesario para recuperar el 90% de la enz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457200" y="457200"/>
            <a:ext cx="82296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Probl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lgunos problemas que presenta el escalamiento directo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.-  Si se trabajó a pequeña escala se utilizaron partículas de adsorbente pequeñas (5-100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). Esto produ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)                   Buena 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)                   Poca disp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i)                  Ciclos Cortos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ado que se presenta poca difusión en las partículas, pero 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)                   Incrementa los costos si se utilizan a gran esc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)                   Sólo se utiliza una parte pequeña del l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533520" y="457200"/>
            <a:ext cx="8076960" cy="58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 mediante Mod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te tipo de escalamiento se orienta a validar modelos propuestos, estudiando entre otros pun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fecto de los parámetros geomét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c: 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ámetro de la colum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argo de la colum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p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ámetro de las partíc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fecto de las condiciones de 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Fluj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centración de la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olumen y Tamaño de la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fecto de las condiciones Quím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Eflu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Adsorb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Isote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11280" y="3068640"/>
          <a:ext cx="4641840" cy="308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068640"/>
                    <a:ext cx="464184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724360" y="1341360"/>
            <a:ext cx="3143520" cy="244656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2771640" y="4365360"/>
            <a:ext cx="648000" cy="360720"/>
            <a:chOff x="2771640" y="4365360"/>
            <a:chExt cx="648000" cy="360720"/>
          </a:xfrm>
        </p:grpSpPr>
        <p:sp>
          <p:nvSpPr>
            <p:cNvPr id="59" name=""/>
            <p:cNvSpPr/>
            <p:nvPr/>
          </p:nvSpPr>
          <p:spPr>
            <a:xfrm>
              <a:off x="2771640" y="4726080"/>
              <a:ext cx="6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419640" y="4365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042920" y="1052640"/>
                <a:ext cx="2719440" cy="14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2916360" y="486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"/>
          <p:cNvGraphicFramePr/>
          <p:nvPr/>
        </p:nvGraphicFramePr>
        <p:xfrm>
          <a:off x="304920" y="1371600"/>
          <a:ext cx="8458200" cy="5614920"/>
        </p:xfrm>
        <a:graphic>
          <a:graphicData uri="http://schemas.openxmlformats.org/drawingml/2006/table">
            <a:tbl>
              <a:tblPr/>
              <a:tblGrid>
                <a:gridCol w="1447560"/>
                <a:gridCol w="1019160"/>
                <a:gridCol w="704880"/>
                <a:gridCol w="1057320"/>
                <a:gridCol w="974880"/>
                <a:gridCol w="1139760"/>
                <a:gridCol w="1057320"/>
                <a:gridCol w="1057320"/>
              </a:tblGrid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lumen del Lecho, V [L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ámetro de la columna, D [cm]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o  del lecho, 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z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/H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2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3.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locidad de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L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del ciclo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rough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g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609480" y="0"/>
            <a:ext cx="830592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mplos de escal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unos niveles de escalamiento clásicos puedes llegar a se los que se muestran en las siguientes tablas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Optim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80880" y="304920"/>
            <a:ext cx="8001000" cy="52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purificaciones a nivel de laboratorio suelen ser optimizadas sólo por resolución, mientras que a nivel de planta piloto deben ser también maximizadas a nivel de throughput (Flujo másico que se recuper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 de la 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solución se definió co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 = 2* (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 (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mejorar la resolución se pueden realizar dos tipos de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80880" y="304920"/>
            <a:ext cx="8001000" cy="61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Incrementar la diferencia entre los tiempos de retención (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1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-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, ello se log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Aumentando la cantidad de fase estacionaria, incrementar la longitud del lec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Mejorando la selectividad del adsorbente (Buscar una fase estacionaria adecuad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 Disminuyendo el ancho de los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mpacando más uniformemente la colum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partícula, lo cual conlleva a problemas de escala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ptimizando el flu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la muestra, pero a escala de producción se debe considerar el equilibrio entre resolución y produ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762120" y="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abla Resumen Parámetros que afectas la resolución y throughput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380880" y="609480"/>
          <a:ext cx="8305920" cy="471960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101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aráme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Gran esca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Gran escala y de Laborato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esolución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hroughput (g/hr)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argo de la Columna, L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adio de la columna, r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Algunos efec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emperatura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iscosidad, 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Efecto nega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olumen de la muestra, 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(V-V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elocidad del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(F-F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"/>
          <p:cNvSpPr/>
          <p:nvPr/>
        </p:nvSpPr>
        <p:spPr>
          <a:xfrm>
            <a:off x="228600" y="5410080"/>
            <a:ext cx="86104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filtración por geles y elución isocrática el largo de la columna es un parámetro critico. Para elución por gradiente en cromatografía de adsorción la resolución es relativamente independiente del lar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fectos de pared en la resolución son pronunciados en una columna de pequeño diámetro y decrecen con el largo de la columna.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228600"/>
            <a:ext cx="822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e desea purificar un anticuerpo utilizando una columna de afinidad. La alimentación del producto tiene 1.63 gr de anticuerpo y 0.45 gr de impureza de peso molecular muy similar. Los resultados de la elución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676520" y="1676520"/>
            <a:ext cx="5762520" cy="1752480"/>
            <a:chOff x="1676520" y="1676520"/>
            <a:chExt cx="5762520" cy="1752480"/>
          </a:xfrm>
        </p:grpSpPr>
        <p:grpSp>
          <p:nvGrpSpPr>
            <p:cNvPr id="65" name=""/>
            <p:cNvGrpSpPr/>
            <p:nvPr/>
          </p:nvGrpSpPr>
          <p:grpSpPr>
            <a:xfrm>
              <a:off x="1681200" y="1679400"/>
              <a:ext cx="5753160" cy="1746000"/>
              <a:chOff x="1681200" y="1679400"/>
              <a:chExt cx="5753160" cy="1746000"/>
            </a:xfrm>
          </p:grpSpPr>
          <p:grpSp>
            <p:nvGrpSpPr>
              <p:cNvPr id="66" name=""/>
              <p:cNvGrpSpPr/>
              <p:nvPr/>
            </p:nvGrpSpPr>
            <p:grpSpPr>
              <a:xfrm>
                <a:off x="1681200" y="1679400"/>
                <a:ext cx="1917720" cy="523800"/>
                <a:chOff x="1681200" y="1679400"/>
                <a:chExt cx="1917720" cy="52380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172548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68120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3598920" y="1679400"/>
                <a:ext cx="1917720" cy="523800"/>
                <a:chOff x="3598920" y="1679400"/>
                <a:chExt cx="1917720" cy="52380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364320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59892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5516640" y="1679400"/>
                <a:ext cx="1917720" cy="523800"/>
                <a:chOff x="5516640" y="1679400"/>
                <a:chExt cx="1917720" cy="52380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556092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551664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1681200" y="2203200"/>
                <a:ext cx="1917720" cy="407160"/>
                <a:chOff x="1681200" y="2203200"/>
                <a:chExt cx="1917720" cy="40716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172548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68120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3598920" y="2203200"/>
                <a:ext cx="1917720" cy="407160"/>
                <a:chOff x="3598920" y="2203200"/>
                <a:chExt cx="1917720" cy="40716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364320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359892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5516640" y="2203200"/>
                <a:ext cx="1917720" cy="407160"/>
                <a:chOff x="5516640" y="2203200"/>
                <a:chExt cx="1917720" cy="40716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56092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51664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1681200" y="2610720"/>
                <a:ext cx="1917720" cy="407160"/>
                <a:chOff x="1681200" y="2610720"/>
                <a:chExt cx="1917720" cy="40716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172548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168120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3598920" y="2610720"/>
                <a:ext cx="1917720" cy="407160"/>
                <a:chOff x="3598920" y="2610720"/>
                <a:chExt cx="1917720" cy="40716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364320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59892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5516640" y="2610720"/>
                <a:ext cx="1917720" cy="407160"/>
                <a:chOff x="5516640" y="2610720"/>
                <a:chExt cx="1917720" cy="40716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556092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551664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1681200" y="3018240"/>
                <a:ext cx="1917720" cy="407160"/>
                <a:chOff x="1681200" y="3018240"/>
                <a:chExt cx="1917720" cy="40716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172548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68120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3598920" y="3018240"/>
                <a:ext cx="1917720" cy="407160"/>
                <a:chOff x="3598920" y="3018240"/>
                <a:chExt cx="1917720" cy="40716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364320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59892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5516640" y="3018240"/>
                <a:ext cx="1917720" cy="407160"/>
                <a:chOff x="5516640" y="3018240"/>
                <a:chExt cx="1917720" cy="40716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556092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51664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" name=""/>
            <p:cNvSpPr/>
            <p:nvPr/>
          </p:nvSpPr>
          <p:spPr>
            <a:xfrm>
              <a:off x="1676520" y="1676520"/>
              <a:ext cx="5762520" cy="1752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28600" y="36576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Determine los perfiles de elución de cada una de las 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124000" y="4292640"/>
            <a:ext cx="4966920" cy="2457360"/>
            <a:chOff x="2124000" y="4292640"/>
            <a:chExt cx="4966920" cy="2457360"/>
          </a:xfrm>
        </p:grpSpPr>
        <p:grpSp>
          <p:nvGrpSpPr>
            <p:cNvPr id="105" name=""/>
            <p:cNvGrpSpPr/>
            <p:nvPr/>
          </p:nvGrpSpPr>
          <p:grpSpPr>
            <a:xfrm>
              <a:off x="2771640" y="4292640"/>
              <a:ext cx="4319280" cy="2087640"/>
              <a:chOff x="2771640" y="4292640"/>
              <a:chExt cx="4319280" cy="2087640"/>
            </a:xfrm>
          </p:grpSpPr>
          <p:graphicFrame>
            <p:nvGraphicFramePr>
              <p:cNvPr id="106" name=""/>
              <p:cNvGraphicFramePr/>
              <p:nvPr/>
            </p:nvGraphicFramePr>
            <p:xfrm>
              <a:off x="2771640" y="4292640"/>
              <a:ext cx="3495600" cy="20876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7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771640" y="4292640"/>
                        <a:ext cx="3495600" cy="2087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8" name=""/>
              <p:cNvSpPr/>
              <p:nvPr/>
            </p:nvSpPr>
            <p:spPr>
              <a:xfrm>
                <a:off x="4037400" y="4519800"/>
                <a:ext cx="193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cc0000"/>
                    </a:solidFill>
                    <a:latin typeface="Times New Roman"/>
                  </a:rPr>
                  <a:t>Anticuerp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154840" y="5089680"/>
                <a:ext cx="193608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333399"/>
                    </a:solidFill>
                    <a:latin typeface="Times New Roman"/>
                  </a:rPr>
                  <a:t>Contaminan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427640" y="638172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.42  7.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24000" y="43657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24000" y="5229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916360" y="4365720"/>
              <a:ext cx="1800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916360" y="522936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900000" y="549360"/>
          <a:ext cx="6972480" cy="2047680"/>
        </p:xfrm>
        <a:graphic>
          <a:graphicData uri="http://schemas.openxmlformats.org/drawingml/2006/table">
            <a:tbl>
              <a:tblPr/>
              <a:tblGrid>
                <a:gridCol w="1311480"/>
                <a:gridCol w="774720"/>
                <a:gridCol w="873000"/>
                <a:gridCol w="1231920"/>
                <a:gridCol w="774720"/>
                <a:gridCol w="774720"/>
                <a:gridCol w="123192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cuer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ure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e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n y/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t/to-1)^2/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n y/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t/to-1)^2/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6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0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,7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8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,07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1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2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4859280" y="3500280"/>
          <a:ext cx="4033800" cy="243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3500280"/>
                    <a:ext cx="4033800" cy="24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324000" y="3424320"/>
          <a:ext cx="4176720" cy="2539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3424320"/>
                    <a:ext cx="4176720" cy="25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3134880" y="35002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cue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457200"/>
            <a:ext cx="82296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Cálculo de Altura equivalente de cada Plato  (HET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s una medida del </a:t>
            </a: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nsanchamiento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de la zona de dispersión de manera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un menor valor  de HET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porciona peak más estrech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562720" y="1339920"/>
          <a:ext cx="2971800" cy="25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339920"/>
                    <a:ext cx="297180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" name=""/>
          <p:cNvGrpSpPr/>
          <p:nvPr/>
        </p:nvGrpSpPr>
        <p:grpSpPr>
          <a:xfrm>
            <a:off x="533520" y="3573360"/>
            <a:ext cx="8610480" cy="2783160"/>
            <a:chOff x="533520" y="3573360"/>
            <a:chExt cx="8610480" cy="2783160"/>
          </a:xfrm>
        </p:grpSpPr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609480" y="5554800"/>
                  <a:ext cx="274320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HETP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u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⋅</m:t>
                      </m:r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8" name=""/>
            <p:cNvSpPr/>
            <p:nvPr/>
          </p:nvSpPr>
          <p:spPr>
            <a:xfrm>
              <a:off x="4038480" y="5429160"/>
              <a:ext cx="510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Donde u: es la velocidad lineal del líquid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3520" y="3573360"/>
              <a:ext cx="41148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HETP depende de varios procesos que se producen durante la elución de muestra y se puede expresar como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688320" y="501336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a50021"/>
                </a:solidFill>
                <a:latin typeface="Arial"/>
              </a:rPr>
              <a:t>Ecuación de van Deem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487520" y="189000"/>
                <a:ext cx="24321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ETP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755640" y="981000"/>
            <a:ext cx="7704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Donde u: es la velocidad lineal del líqu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A: la distribución no lineal del líquido  a través del relleno, debido a diferentes ru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B: la dispersión axial hacia delante y atrá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C: efectos de transferencia intrapartíc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3124080"/>
            <a:ext cx="4114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4000" y="3009960"/>
            <a:ext cx="6170400" cy="3848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588000" y="4005360"/>
            <a:ext cx="2376720" cy="26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eficiente de difusión en la fase móv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eficiente de difusión en el po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orosidad del l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orosidad de la partíc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33520" y="457200"/>
            <a:ext cx="807696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Relación entre número de platos (N) y HE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HETP = L/N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onde L es el lago de la columna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 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ara una columna determina mientra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ay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sea el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número de platos teóricos may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es el número de etapas ideales en equilibrio del sistema y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eficiente es la separación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ado que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ltura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cada plato en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pequeña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luego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mplitud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cada peak e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en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04920" y="3124080"/>
            <a:ext cx="8391240" cy="3407040"/>
            <a:chOff x="304920" y="3124080"/>
            <a:chExt cx="8391240" cy="3407040"/>
          </a:xfrm>
        </p:grpSpPr>
        <p:sp>
          <p:nvSpPr>
            <p:cNvPr id="140" name=""/>
            <p:cNvSpPr/>
            <p:nvPr/>
          </p:nvSpPr>
          <p:spPr>
            <a:xfrm>
              <a:off x="304920" y="3429000"/>
              <a:ext cx="4876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Comic Sans MS"/>
                </a:rPr>
                <a:t>Si se tiene un peak simétrico se puede calcular el número de platos de la siguiente forma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600200" y="4876920"/>
                  <a:ext cx="173520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42" name=""/>
            <p:cNvGraphicFramePr/>
            <p:nvPr/>
          </p:nvGraphicFramePr>
          <p:xfrm>
            <a:off x="5257800" y="3124080"/>
            <a:ext cx="3438360" cy="3407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57800" y="3124080"/>
                      <a:ext cx="3438360" cy="340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9:55:07Z</dcterms:created>
  <dc:creator>Ing Quimica</dc:creator>
  <dc:description/>
  <dc:language>en-US</dc:language>
  <cp:lastModifiedBy>Ing Quimica</cp:lastModifiedBy>
  <dcterms:modified xsi:type="dcterms:W3CDTF">2007-09-06T22:22:58Z</dcterms:modified>
  <cp:revision>16</cp:revision>
  <dc:subject/>
  <dc:title>Perfiles Cromatográficos</dc:title>
</cp:coreProperties>
</file>