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602D-FAFD-4E0B-99DC-9801C10D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16A8-E9FC-423C-8F9D-15983BA7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472-D9E8-47F4-987B-2CB2EAD7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521-14E8-4E69-AAA1-AAEE1734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B967-A528-407E-A248-4F914E8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12D-5B33-4EE1-BA52-C93FE161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311-1463-44D0-A005-21BA77E3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393-0072-472E-8841-7DB37813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B94-D2E2-4FC7-83FB-2D614808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8750-E808-4E66-A097-F7B09DA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057-DC24-484E-A8B6-2680C7D0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0C49-8FA1-4171-8C2F-AEB2BF79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59F2-2A2C-4A77-91C2-16CFAC8ACCB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32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í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ñ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í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í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é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ón y tamañ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ó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ño óptimo (Optimo Nivel de Pureza y Resolución), se supone que los fenó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ó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ó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ón má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ú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ámetro de las partí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ó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ómeno de transferencia de masa el ancho de los peak (o Número de platos)  se verá alterado por las variables L y v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6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Interna y adsor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í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ó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ú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ó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n-U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ó a pequeña escala se utilizaron partículas de adsorbente pequeñ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Buen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Poca disp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                 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ón en las partí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                   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                   Sólo se utiliza una parte pequeñ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ámetros geomé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ámetro de las partí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ó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ñ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í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61492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9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960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7-09-06T22:22:58Z</dcterms:modified>
  <cp:revision>16</cp:revision>
  <dc:subject/>
  <dc:title>Perfiles Cromatográficos</dc:title>
</cp:coreProperties>
</file>