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A2D-3164-4A6B-8CA2-B8EEBEF2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5AB0-FC6B-4231-943C-F4EDC622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C3C-6F5D-4C4D-A616-BBBB78F1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A52-E5D2-43C5-BDDB-A7293B7A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7C1-13FC-4E9A-BB9D-0C4FE975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0D2B-2B35-4590-8466-48BEC54C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55D-8B87-41B0-93BC-C14A76A7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F541-7A65-4F58-B15D-6A47C983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B71-9FF9-43F0-BD5E-93891590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86B0-06BF-4F85-851A-B563E2EF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9743-909E-43F6-A718-86FC5573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8285-D89C-4F0F-ACAA-CEF02E66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5AD8-E901-4EDA-AB5C-32406EB7EF7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24360" y="2781360"/>
          <a:ext cx="25336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781360"/>
                    <a:ext cx="25336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765000"/>
            <a:ext cx="4419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2.Factor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390680" y="1438200"/>
                <a:ext cx="17352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11280" y="3573360"/>
            <a:ext cx="4392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: Volumen de huecos, ie, el volumen de líquido existente en la columna que no se encuentra en el interior de las 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1812960" cy="3284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4572000" y="1699920"/>
            <a:ext cx="1368360" cy="18730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6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95280" y="3141720"/>
                <a:ext cx="809136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 se tiene la definició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556000" y="126828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33520" y="4572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tilizando la definición anterior y aplicando un cambio de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0920" y="2924280"/>
                <a:ext cx="6203880" cy="25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 recuperada  entre   0  y  </m:t>
                        </m:r>
                        <m:r>
                          <m:t xml:space="preserve">∞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∞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58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771640" y="5776920"/>
                <a:ext cx="151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rad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457200"/>
            <a:ext cx="80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antidad recuperada entre 0 e Inf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882800" y="1324080"/>
                <a:ext cx="3451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σ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9240" y="3278160"/>
                <a:ext cx="766296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iel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900000" y="2924280"/>
                <a:ext cx="36734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533520" y="2301840"/>
            <a:ext cx="80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=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19640" y="2708280"/>
          <a:ext cx="32781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708280"/>
                    <a:ext cx="32781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83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924280"/>
          <a:ext cx="4063680" cy="2703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l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073320" cy="2233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003640" y="33577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/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5229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29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35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36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3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44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3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333360"/>
            <a:ext cx="9143640" cy="5750640"/>
            <a:chOff x="0" y="333360"/>
            <a:chExt cx="9143640" cy="5750640"/>
          </a:xfrm>
        </p:grpSpPr>
        <p:sp>
          <p:nvSpPr>
            <p:cNvPr id="295" name=""/>
            <p:cNvSpPr/>
            <p:nvPr/>
          </p:nvSpPr>
          <p:spPr>
            <a:xfrm>
              <a:off x="163440" y="504360"/>
              <a:ext cx="129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624280"/>
              <a:ext cx="16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04200" y="333360"/>
              <a:ext cx="16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gt; 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163440" y="929520"/>
              <a:ext cx="8482320" cy="483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06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68360" y="476280"/>
            <a:ext cx="4174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59280" y="3860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59280" y="907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252680" cy="1727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48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0"/>
            <a:ext cx="80769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457200"/>
            <a:ext cx="807696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1371600"/>
          <a:ext cx="8458200" cy="5614920"/>
        </p:xfrm>
        <a:graphic>
          <a:graphicData uri="http://schemas.openxmlformats.org/drawingml/2006/table">
            <a:tbl>
              <a:tblPr/>
              <a:tblGrid>
                <a:gridCol w="1447560"/>
                <a:gridCol w="1019160"/>
                <a:gridCol w="704880"/>
                <a:gridCol w="1057320"/>
                <a:gridCol w="974880"/>
                <a:gridCol w="1139760"/>
                <a:gridCol w="1057320"/>
                <a:gridCol w="105732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487520" y="189000"/>
                <a:ext cx="24321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7-09-06T22:22:58Z</dcterms:modified>
  <cp:revision>16</cp:revision>
  <dc:subject/>
  <dc:title>Perfiles Cromatográficos</dc:title>
</cp:coreProperties>
</file>