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51E-F1FF-4DE8-9E0B-F544D557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18A-5E9B-4019-922F-71753AA3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67F-B34A-4E99-AD30-8DE11348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3AC-CF0F-4C16-BFBF-1C115C49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F54-2380-476B-B99C-E0EBAAF8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A86-003D-468F-A4BA-610A4BE3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C2D-BF38-4C84-B9B8-3F10438E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520-C24D-40A1-90CA-B9E483FD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323-DE45-4A78-BE91-BCA27699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0B8-E20A-4877-9043-22C3D368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AD0-4EDB-4B3F-AF9C-315AB6C9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67A-C6DF-4F40-8EEF-74211A6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8305-3EF7-4D30-AF09-062CE1940D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3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61492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7-09-06T22:22:58Z</dcterms:modified>
  <cp:revision>16</cp:revision>
  <dc:subject/>
  <dc:title>Perfiles Cromatográficos</dc:title>
</cp:coreProperties>
</file>